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3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12193588" cy="6858000"/>
  <p:notesSz cx="6997700" cy="9283700"/>
  <p:custShowLst>
    <p:custShow name="Custom Show 1" id="0">
      <p:sldLst>
        <p:sld r:id="rId7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4" y="0"/>
                </a:moveTo>
                <a:arcTo wR="4" hR="4" stAng="16200000" swAng="-5400000"/>
                <a:lnTo>
                  <a:pt x="0" y="28652"/>
                </a:lnTo>
                <a:arcTo wR="4" hR="4" stAng="10800000" swAng="-5400000"/>
                <a:lnTo>
                  <a:pt x="21596" y="286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404280" y="696960"/>
            <a:ext cx="61866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084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Noto Serif CJK S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9F2967E0-F490-4313-8BFE-1AD5FC528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erif CJK S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FD05FE3A-454B-4964-8302-9E25A968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0B8D1A49-09DD-4F10-896A-378CE91F7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FE495401-2048-46E6-8E5C-9FB149BC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37AF7947-1264-41E4-AAC9-4A833B7E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D550F751-EABD-476E-ACDB-7C31DB6F6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425882E6-390F-4ED9-99A5-2B9215A9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2938945A-FC01-43EB-AB96-A76197A2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78A1FFC2-84E1-4134-A108-719294CA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7751950C-2D3A-4989-BABB-033DF55F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478010F1-774D-49A7-93BB-BBF8483D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4ECA881D-3EB7-41D6-868F-EB95D2C0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872506D8-42AA-4B8B-A841-C3521543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2D75011B-625F-4F60-9AA3-EB0EDC6B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8303C42F-1AB1-41E3-B3DD-4B8FEAAF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08F96EFD-A638-43F0-84CF-879CF565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DA84D086-630B-4E35-9A21-E1279483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5EC11E6F-98F1-4F73-A445-CFD9CADD2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A5B55C81-3C93-4E52-B8B7-FAAB16BF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651FE7C1-6284-45EF-A73B-DD55695C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6720"/>
                <a:tab algn="l" pos="1874880"/>
                <a:tab algn="l" pos="2813040"/>
                <a:tab algn="l" pos="3751200"/>
                <a:tab algn="l" pos="4689360"/>
                <a:tab algn="l" pos="5627520"/>
                <a:tab algn="l" pos="6566040"/>
                <a:tab algn="l" pos="7504200"/>
                <a:tab algn="l" pos="8442360"/>
                <a:tab algn="l" pos="9380520"/>
                <a:tab algn="l" pos="10318680"/>
                <a:tab algn="l" pos="10333080"/>
                <a:tab algn="l" pos="10782360"/>
              </a:tabLst>
            </a:pPr>
            <a:fld id="{3161D965-5833-4B61-BC8B-5B085C2A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D3C6DBCD-9157-4E69-900D-9FF7C14D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010040" y="8896320"/>
            <a:ext cx="3067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A7791D25-8A9C-4371-B09F-DABA9DD4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47800"/>
            <a:ext cx="51912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54870F1C-6A5D-42EE-9B49-396F03ECE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BA72A9CF-7BB4-4A0E-876A-734425C2D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781DB372-75BA-4E83-BC45-3833D12CE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11A71029-C816-45C4-B35A-205511720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8E9BBE47-EF6E-439A-988A-537704CC0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0C6368AA-EFE7-4565-B68B-63117E978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5B0F0BB6-AB44-41D7-A2A9-5B158636D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0A998D01-23D4-44DD-B2D7-9E2F8DB09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EE322B64-BDB6-4F9E-A7B7-6D22F9B1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E7E08843-839B-43F7-BF3F-76A85267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5A078841-E76C-417C-927C-360471E3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672F9E96-2F9E-4558-95CE-1F6595EE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5C2AD496-0BC5-402B-BE6D-768B9C21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8E18AEC0-896F-4A56-84DD-8B1D1B6C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B0C75D34-8ED4-4A98-BC6A-3ACFF328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97E83942-879F-45A6-A34C-1218FBFC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655A3699-398E-461F-A3DB-1EC80204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2FC8CB4B-B895-46F6-AA74-A1472DD8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440882B0-BF0B-4565-8AA0-E0D589C2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53AB01B9-35C6-42C1-8D2F-9F2157AA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1879B14E-A77B-4B5E-83EB-8BF7FFC0A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11B175B7-B0C0-4822-8341-EC2250D84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8AF4F01F-627D-4EAD-A999-C1EE3E57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B42AACF9-DA8B-4482-863F-4531EE259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9040"/>
                <a:tab algn="l" pos="2789280"/>
                <a:tab algn="l" pos="3719520"/>
                <a:tab algn="l" pos="4649760"/>
                <a:tab algn="l" pos="5580000"/>
                <a:tab algn="l" pos="6510240"/>
                <a:tab algn="l" pos="7440480"/>
                <a:tab algn="l" pos="8370720"/>
                <a:tab algn="l" pos="9301320"/>
                <a:tab algn="l" pos="10231560"/>
                <a:tab algn="l" pos="10333080"/>
                <a:tab algn="l" pos="10782360"/>
              </a:tabLst>
            </a:pPr>
            <a:fld id="{7C7E8858-D05E-47F2-A77E-0D6BB156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04AE-9A99-4F87-82BB-E0AAC8CFC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760" y="365436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A2A2-9F02-49ED-90EF-0922592A0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944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FA91-50C1-4B56-96ED-8BE9B1D23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24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9272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76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24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9272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C292-30E9-4C97-8364-F215DDCA6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B0D1-51A2-45B0-B103-2D567F924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84D2-CB6D-4D49-A124-DA55226FC3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41EB-8E1E-4835-9251-0913CC9B45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0D92-69A9-4E76-A715-2C9027679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0DD3-C9E8-4E24-9538-4FBA4E8D6E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117000"/>
            <a:ext cx="1076796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8B1D-18C5-4B26-B09B-5365B24D4F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0960-EB2E-4188-AC9C-FB90EF89C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B768-50DE-4580-B526-756AA1E18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44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EB61-6635-439D-BF5E-93FAE3F21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6695-908B-4142-96F1-261DE6935E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5760" y="365436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CB86-200A-497F-BBE3-078A3760A9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1944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9FC8-57F5-45B0-8EAA-EE87456F2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924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92720" y="109368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576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3924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92720" y="3654360"/>
            <a:ext cx="3288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F672-A990-4A6B-B65D-11C47BD64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A47D-2B1D-4009-B3E7-668C351D0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2D1B-6846-4175-A0C4-71E931465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0774-1207-4886-8F16-813298A30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23480" y="117000"/>
            <a:ext cx="1076796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04AD-A7D2-4EED-9D3B-70C396696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F70B-3BFF-4DFE-B192-E539E810D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9440" y="365436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539E-9DE8-432C-ABB3-F5E4A659D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9440" y="1093680"/>
            <a:ext cx="49842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760" y="3654360"/>
            <a:ext cx="102139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449E-CAFA-4829-883D-2BF845F1E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737200" y="6400800"/>
            <a:ext cx="2538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856AC3-60B4-49C7-BA83-3A885906D10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41544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87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1.</a:t>
            </a:r>
            <a:fld id="{AEE366E1-846C-4415-84E1-7CDB1E274CC4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86440" y="5726160"/>
            <a:ext cx="36842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085760" y="1093680"/>
            <a:ext cx="102139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23480" y="117000"/>
            <a:ext cx="10767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636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794440" y="6217920"/>
            <a:ext cx="2538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5C331B-F52D-4AEE-A6B3-AF6DA4556C7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../../../../B%20plus%20tree%20size%20estimation.xls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2286000"/>
            <a:ext cx="1036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1: Indexing and H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23840" y="117360"/>
            <a:ext cx="820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7640" y="1036800"/>
            <a:ext cx="743256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parse Index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稀疏索引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ntains index records for only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me search-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plicable when records are sequentially ordered on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cate a record with search-key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MS PGothic"/>
              </a:rPr>
              <a:t>Find index record with largest search-key value &lt;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MS PGothic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MS PGothic"/>
              </a:rPr>
              <a:t>Search file sequentially starting at the record to which the index record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95440" y="3703680"/>
            <a:ext cx="685476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23840" y="117360"/>
            <a:ext cx="848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1093680"/>
            <a:ext cx="78472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dense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ess space and less maintenance overhead for insertions and 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Generally slower than dense index for locating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Good trade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arse index with an index entry for every block in file, corresponding to least search-key value in th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97400" y="3333600"/>
            <a:ext cx="3022560" cy="2860920"/>
            <a:chOff x="3497400" y="3333600"/>
            <a:chExt cx="3022560" cy="2860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39278" t="0" r="0" b="53155"/>
            <a:stretch/>
          </p:blipFill>
          <p:spPr>
            <a:xfrm>
              <a:off x="3546360" y="3333600"/>
              <a:ext cx="29736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97400" y="4824360"/>
              <a:ext cx="12589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18000" y="5397480"/>
              <a:ext cx="165888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23840" y="117360"/>
            <a:ext cx="581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level Index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多级索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8840" y="1089000"/>
            <a:ext cx="496260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If primary index does not fit in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ccess becomes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reat primary index kept on disk as a sequential file and construct a sparse index o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MS PGothic"/>
              </a:rPr>
              <a:t>outer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– a sparse index of primary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MS PGothic"/>
              </a:rPr>
              <a:t>inner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– the primary index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n outer index is too large to fit in main memory, yet another level of index can be created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Indices at all levels must be updated on insertion or deletion from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48400" y="1625760"/>
            <a:ext cx="3711600" cy="44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117360"/>
            <a:ext cx="788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160" y="2071800"/>
            <a:ext cx="40798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ll path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root to leaf are of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am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ner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a root or a leaf): betwee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eaf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etween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–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 root is not a lea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at least 2 childr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 root is a lea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etween 0 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–1)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1280" y="1160280"/>
            <a:ext cx="68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s a rooted tree satisfying the following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48360" y="2282760"/>
            <a:ext cx="6935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23840" y="117360"/>
            <a:ext cx="8415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Nod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5760" y="1093680"/>
            <a:ext cx="8002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nod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re the search-key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P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re pointers to children (for non-leaf nodes) or pointers to records or buckets of records (for leaf no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arch-keys in a node are or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76"/>
              </a:spcBef>
              <a:tabLst>
                <a:tab algn="l" pos="0"/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76"/>
              </a:spcBef>
              <a:tabLst>
                <a:tab algn="l" pos="0"/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165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66800" y="1709640"/>
            <a:ext cx="684072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23840" y="117360"/>
            <a:ext cx="886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0640" y="16225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2, . . 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poin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file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, L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eaf nod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 are less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to next leaf node in search-ke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2440" y="100836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 leaf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9520" y="3562200"/>
            <a:ext cx="7504200" cy="3294000"/>
            <a:chOff x="1379520" y="3562200"/>
            <a:chExt cx="7504200" cy="32940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0" t="28859" r="0" b="9171"/>
            <a:stretch/>
          </p:blipFill>
          <p:spPr>
            <a:xfrm>
              <a:off x="1379520" y="4062240"/>
              <a:ext cx="7493040" cy="27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rcRect l="0" t="0" r="0" b="88774"/>
            <a:stretch/>
          </p:blipFill>
          <p:spPr>
            <a:xfrm>
              <a:off x="1389240" y="3562200"/>
              <a:ext cx="7494480" cy="50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23840" y="117360"/>
            <a:ext cx="827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5760" y="1093680"/>
            <a:ext cx="805824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on leaf no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a multi-level sparse index on the leaf nod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non-leaf nod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P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Arial"/>
                <a:ea typeface="MS PGothic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: all the search-keys in the subtree to whi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points ar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less tha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P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Arial"/>
                <a:ea typeface="MS PGothic"/>
              </a:rPr>
              <a:t>i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 (2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i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n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– 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: 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points have value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greater than or equal to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–1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and less tha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P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Arial"/>
                <a:ea typeface="MS PGothic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: All the search-keys in the subtree to whi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points have value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greater than or equal to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5600" y="4549680"/>
            <a:ext cx="684036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6840" y="225360"/>
            <a:ext cx="903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6840" y="1241280"/>
            <a:ext cx="720432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eaf no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between 3 and 5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n-leaf no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han root must have between 3 and 6 childre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have at least 2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4560" y="4205160"/>
            <a:ext cx="110887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23840" y="117360"/>
            <a:ext cx="883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servations about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3240" y="1149480"/>
            <a:ext cx="838188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ter-node connections are done by pointer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“logically” close blocks need not be “physically”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on-leaf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form a hierarchy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sparse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contain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latively small number of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vel below root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ext level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.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search-key values in the file, the tree height is no more than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log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/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log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  <a:ea typeface="MS PGothic"/>
              </a:rPr>
              <a:t>/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K/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hus searches can be conducted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s and deletions to the main file can be handled efficiently, as the index can be restructured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 logarithmic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23840" y="117360"/>
            <a:ext cx="8528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4800" y="974880"/>
            <a:ext cx="8454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79440" indent="-37944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fin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v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d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=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hile C is not a leaf no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128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V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128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no such exists,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ast non-null pointer in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128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lse { if (V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) Set C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 +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ls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12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=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re is such a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follow po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desired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lse no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76200" y="4508640"/>
            <a:ext cx="8799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23840" y="117360"/>
            <a:ext cx="720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1:  Indexing and H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576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Ind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+-Tree File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Tree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on Multipl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dexing on 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dexing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c2c2d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c2c2d6"/>
                </a:solidFill>
                <a:latin typeface="Arial"/>
              </a:rPr>
              <a:t>Static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c2c2d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c2c2d6"/>
                </a:solidFill>
                <a:latin typeface="Arial"/>
              </a:rPr>
              <a:t>Dynamic Has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c2c2d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c2c2d6"/>
                </a:solidFill>
                <a:latin typeface="Arial"/>
              </a:rPr>
              <a:t>Comparison of Ordered Indexing and Has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c2c2d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c2c2d6"/>
                </a:solidFill>
                <a:latin typeface="Arial"/>
              </a:rPr>
              <a:t>Index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2c2d6"/>
                </a:solidFill>
                <a:latin typeface="Arial"/>
              </a:rPr>
              <a:t>Multiple-Ke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23840" y="117360"/>
            <a:ext cx="820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-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6240" y="1219320"/>
            <a:ext cx="77184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arch-key values in the file, the height of the tree is no more than </a:t>
            </a:r>
            <a:r>
              <a:rPr b="0" lang="en-US" sz="1800" spc="-1" strike="noStrike">
                <a:solidFill>
                  <a:srgbClr val="c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/2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node is generally the same size as a disk block, typically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4 kilo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is typically around 100 (40 bytes per index en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1 million search key valu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1,000,000) =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4 n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re accessed in a loo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 this with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lanced bin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with 1 million search key values — around 20 nodes are accessed in 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bove difference is significant since every node access may need a disk I/O, costing around 20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1760" y="217440"/>
            <a:ext cx="615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Insert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0840" y="3735000"/>
            <a:ext cx="486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Tree before and after insertion of </a:t>
            </a:r>
            <a:r>
              <a:rPr b="1" lang="ja-JP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dams</a:t>
            </a:r>
            <a:r>
              <a:rPr b="1" lang="ja-JP" sz="17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25640" y="4286160"/>
            <a:ext cx="879948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0" b="62547"/>
          <a:stretch/>
        </p:blipFill>
        <p:spPr>
          <a:xfrm>
            <a:off x="1095480" y="1825560"/>
            <a:ext cx="8648640" cy="1833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29520" y="118116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Affected n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8240" y="34178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74760" y="24480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9560" y="6381720"/>
            <a:ext cx="2178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5400" y="641196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5400" y="5116680"/>
            <a:ext cx="2156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27360" y="12524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23840" y="117360"/>
            <a:ext cx="6615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Insert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2520" y="4316400"/>
            <a:ext cx="8512200" cy="1947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82520" y="1211400"/>
            <a:ext cx="8799840" cy="2057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34560" y="3669840"/>
            <a:ext cx="5010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Tree before and after insertion of </a:t>
            </a:r>
            <a:r>
              <a:rPr b="1" lang="ja-JP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Lamport</a:t>
            </a:r>
            <a:r>
              <a:rPr b="1" lang="ja-JP" sz="17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60600" y="20430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94520" y="336384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29080" y="63086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7800" y="631656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10040" y="922176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19360" y="509904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57560" y="796284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1720" y="109584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64080" y="512136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4280" y="698184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600" y="9721800"/>
            <a:ext cx="217440" cy="1983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335240" y="12719160"/>
            <a:ext cx="2178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64080" y="426420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550880" y="772488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014560" y="1072188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470400" y="137192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13040" y="1211400"/>
            <a:ext cx="21600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23840" y="117360"/>
            <a:ext cx="630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3840" y="1081080"/>
            <a:ext cx="77472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insert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pr,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Assume record already added to the file. 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e pointer to the record, and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e the search key value of the recor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eaf node in which the search-key value would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If there is room in the leaf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insert (v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) pair in the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split the node (along with the new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v, 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)  entry) as discussed in the next slide, and propagate updates to parent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23840" y="117360"/>
            <a:ext cx="872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6480" y="1163520"/>
            <a:ext cx="76723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litting a leaf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ak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search-key value, pointer) pairs (including the one being inserted) in sorted order.  Place the firs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the original node, and the rest in a new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et the new node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and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be the least key valu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ser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k,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the parent of the node being spl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f the parent is full, split it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the split further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litting of nodes proceeds upw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 a node that is not full is f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the worst case the root node may be split increasing the height of the tree by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76440" y="5808600"/>
            <a:ext cx="776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of splitting node containing Brandt, Califieri and Crick on inserting Ad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: insert entry with (Califieri, pointer-to-new-node) into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95600" y="5079960"/>
            <a:ext cx="609444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23840" y="117360"/>
            <a:ext cx="806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Delete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49200" y="6221520"/>
            <a:ext cx="6724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inivas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merging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under-full le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4200" y="3200400"/>
            <a:ext cx="43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and after deleting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inivasan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63720" y="1003320"/>
            <a:ext cx="879768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95400" y="3570120"/>
            <a:ext cx="8480520" cy="236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42280" y="311004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12240" y="28638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27760" y="183528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04080" y="4508640"/>
            <a:ext cx="21600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2560" y="10033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97160" y="181944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9120" y="35701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36960" y="4529160"/>
            <a:ext cx="2178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32800" y="574200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23840" y="11736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Delete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98520" y="5762520"/>
            <a:ext cx="7604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f containing Singh and Wu became underfull, and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borrowed a val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m from its left si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-key value in the parent changes as a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8640" y="295740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and after deleting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h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u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98520" y="3406680"/>
            <a:ext cx="7751880" cy="2154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119320" y="5557680"/>
            <a:ext cx="78487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05080" y="763560"/>
            <a:ext cx="7394400" cy="2065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42400" y="26035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22920" y="28861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05840" y="154620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0920" y="55436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91440" y="55483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1480" y="4195800"/>
            <a:ext cx="217440" cy="1983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23840" y="117360"/>
            <a:ext cx="812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Delete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7840" y="5207040"/>
            <a:ext cx="808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with Gold and Katz became underfull, and was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its sib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node becomes underfull, and is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its si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ue separating two nodes (at the parent) is pulled down when me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node then has only one child, and is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88920" y="30924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and after deletion of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l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2880" y="5240160"/>
            <a:ext cx="837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38120" y="3618000"/>
            <a:ext cx="7386840" cy="134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311120" y="885960"/>
            <a:ext cx="7832880" cy="2176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15160" y="314316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28160" y="314316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9240" y="173196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09800" y="173196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78440" y="8557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0960" y="36529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51960" y="471168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23840" y="200160"/>
            <a:ext cx="631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e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23840" y="1339920"/>
            <a:ext cx="7726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delete(pr,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Assume record already deleted from file.  Let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search key value of the record, an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pointer to the record.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r, 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leaf n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the node has too few entr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removal, and the entries in the node and a sibling fit into a single node, then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merge sibl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sert all the search-key values in the two nodes into a single node (the one on the left), and delete the other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lete the pai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is the pointer to the deleted node, from its parent, recursively using the above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23840" y="117360"/>
            <a:ext cx="687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e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2480" y="1163520"/>
            <a:ext cx="767088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node has too few entries due to the removal, but the entries in the node and a sibling do not fit into a single node, the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distribute poi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distribute the pointers between the node and a sibling such that both have more than the minimum number of e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pdate the corresponding search-key value in the parent of the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de deletions may cascade upwards till a node which ha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more pointers is fou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oot node has only one pointer after deletion, it is deleted and the sole child becomes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23840" y="117360"/>
            <a:ext cx="692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9080" y="1154160"/>
            <a:ext cx="76993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mechanisms us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speed up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ir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.g., author catalog in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earch Key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ttribute to set of attributes used to look up records in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ndex f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records (called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ndex en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the for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s are typically much smaller than the original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asic kinds of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Ordered ind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arch keys are stored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sorte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Hash ind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search keys are distributed uniformly across “buckets” using a “hash functio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35160" y="3025800"/>
            <a:ext cx="15066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0080" y="3024360"/>
            <a:ext cx="1184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23840" y="117360"/>
            <a:ext cx="734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N" sz="3200" spc="-1" strike="noStrike">
                <a:solidFill>
                  <a:srgbClr val="cc3300"/>
                </a:solidFill>
                <a:latin typeface="Arial"/>
              </a:rPr>
              <a:t>Complexity of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0120" y="1179360"/>
            <a:ext cx="76356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Cost (in terms of number of I/O operations) of insertion and deletion of a single entry proportional to height of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With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  <a:ea typeface="MS PGothic"/>
              </a:rPr>
              <a:t>K entries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maximum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  <a:ea typeface="MS PGothic"/>
              </a:rPr>
              <a:t>fanout of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n, worst case complexity of insert/delete of an entry is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  <a:ea typeface="MS PGothic"/>
              </a:rPr>
              <a:t>O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lo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/2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practice, number of I/O operations is 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ernal nodes tend to be in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Splits/merges are rare, most insert/delete operations only affect a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Average node occupancy depends on insertio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2/3 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  <a:ea typeface="MS PGothic"/>
              </a:rPr>
              <a:t>with random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½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  <a:ea typeface="MS PGothic"/>
              </a:rPr>
              <a:t>with insertion in sorte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23840" y="117360"/>
            <a:ext cx="779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Unique Search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2320" y="1179360"/>
            <a:ext cx="7653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f a search key 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IN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 is not unique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create instead an index on a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composite key (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IN" sz="20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IN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i="1" lang="en-IN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MS PGothic"/>
              </a:rPr>
              <a:t> could be a primary key, record ID, or any other attribute that guarantees 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IN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 = v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can be implemented by a range search on composite key, with range (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v, -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 ∞) to (</a:t>
            </a:r>
            <a:r>
              <a:rPr b="0" i="1" lang="en-IN" sz="2000" spc="-1" strike="noStrike">
                <a:solidFill>
                  <a:srgbClr val="000099"/>
                </a:solidFill>
                <a:latin typeface="Arial"/>
              </a:rPr>
              <a:t>v, +</a:t>
            </a:r>
            <a:r>
              <a:rPr b="0" lang="en-IN" sz="2000" spc="-1" strike="noStrike">
                <a:solidFill>
                  <a:srgbClr val="000099"/>
                </a:solidFill>
                <a:latin typeface="Arial"/>
              </a:rPr>
              <a:t> ∞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xtra stor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for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impler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sertion/de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ore I/O oper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needed to fetch the actu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 index is clustering, all accesses are sequ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the index is non-clustering, each record access may need an I/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MS PGothic"/>
              </a:rPr>
              <a:t>Wid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23840" y="11736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 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80920" y="1876320"/>
            <a:ext cx="5203800" cy="197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134120" y="354348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34120" y="18763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34120" y="2709720"/>
            <a:ext cx="1278000" cy="8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34120" y="4390920"/>
            <a:ext cx="12780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0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369396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/>
          <p:nvPr/>
        </p:nvCxnSpPr>
        <p:spPr>
          <a:xfrm>
            <a:off x="5292360" y="4595400"/>
            <a:ext cx="1842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"/>
          <p:cNvSpPr/>
          <p:nvPr/>
        </p:nvSpPr>
        <p:spPr>
          <a:xfrm>
            <a:off x="4216320" y="3695760"/>
            <a:ext cx="18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/>
          <p:nvPr/>
        </p:nvCxnSpPr>
        <p:spPr>
          <a:xfrm>
            <a:off x="4215960" y="4227120"/>
            <a:ext cx="291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"/>
          <p:cNvSpPr/>
          <p:nvPr/>
        </p:nvSpPr>
        <p:spPr>
          <a:xfrm>
            <a:off x="961920" y="3683160"/>
            <a:ext cx="180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61920" y="5079960"/>
            <a:ext cx="571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676920" y="2079360"/>
            <a:ext cx="1800" cy="30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>
            <a:off x="6676920" y="2080800"/>
            <a:ext cx="457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"/>
          <p:cNvSpPr/>
          <p:nvPr/>
        </p:nvSpPr>
        <p:spPr>
          <a:xfrm>
            <a:off x="1325520" y="3683160"/>
            <a:ext cx="1800" cy="11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25520" y="4794120"/>
            <a:ext cx="51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75320" y="2278080"/>
            <a:ext cx="180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endCxn id="243" idx="1"/>
          </p:cNvCxnSpPr>
          <p:nvPr/>
        </p:nvCxnSpPr>
        <p:spPr>
          <a:xfrm>
            <a:off x="6489720" y="2279160"/>
            <a:ext cx="645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"/>
          <p:cNvSpPr/>
          <p:nvPr/>
        </p:nvSpPr>
        <p:spPr>
          <a:xfrm>
            <a:off x="1943280" y="402444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83000" y="3695760"/>
            <a:ext cx="1440" cy="328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83000" y="4024440"/>
            <a:ext cx="3422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905520" y="3111480"/>
            <a:ext cx="18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endCxn id="244" idx="1"/>
          </p:cNvCxnSpPr>
          <p:nvPr/>
        </p:nvCxnSpPr>
        <p:spPr>
          <a:xfrm>
            <a:off x="6905160" y="3112560"/>
            <a:ext cx="2293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23840" y="117360"/>
            <a:ext cx="71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- Tree: insert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720880" y="1166760"/>
            <a:ext cx="3915000" cy="2305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685880" y="3959280"/>
            <a:ext cx="5272200" cy="2197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742080" y="28843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680" y="625968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5400" y="6189840"/>
            <a:ext cx="21600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27880" y="495936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3800" y="495936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73720" y="395928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1720" y="195912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23840" y="117360"/>
            <a:ext cx="75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- Tree: insert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55760" y="1347840"/>
            <a:ext cx="5272200" cy="2197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23840" y="4170240"/>
            <a:ext cx="6537600" cy="215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210360" y="2349360"/>
            <a:ext cx="216000" cy="1987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84640" y="63277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94400" y="35622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40320" y="63356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18360" y="5149800"/>
            <a:ext cx="215640" cy="1983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23840" y="117360"/>
            <a:ext cx="800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- Tree: insert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25440" y="1241280"/>
            <a:ext cx="6897960" cy="2276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39720" y="4073400"/>
            <a:ext cx="7696080" cy="2103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57880" y="35179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2880" y="6259680"/>
            <a:ext cx="21600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7760" y="625788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78800" y="22813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30720" y="5025960"/>
            <a:ext cx="216000" cy="1983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6040" y="503064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0720" y="409572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23840" y="117360"/>
            <a:ext cx="792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- Tree: delete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652760" y="1371600"/>
            <a:ext cx="6203880" cy="2048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501920" y="4159080"/>
            <a:ext cx="5576760" cy="2324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7440" y="6259680"/>
            <a:ext cx="21600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346860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3680" y="2246400"/>
            <a:ext cx="2178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61080" y="5124600"/>
            <a:ext cx="217440" cy="1965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023840" y="117360"/>
            <a:ext cx="757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B+- Tree: delet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136520" y="1119240"/>
            <a:ext cx="6274080" cy="2614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440000" y="4349880"/>
            <a:ext cx="6248160" cy="2065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70240" y="384480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65360" y="384480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27400" y="2327400"/>
            <a:ext cx="215640" cy="19836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64080" y="124452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54840" y="2320920"/>
            <a:ext cx="2174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36520" y="5997600"/>
            <a:ext cx="21600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460760"/>
            <a:ext cx="215640" cy="196920"/>
          </a:xfrm>
          <a:custGeom>
            <a:avLst/>
            <a:gdLst/>
            <a:ahLst/>
            <a:rect l="l" t="t" r="r" b="b"/>
            <a:pathLst>
              <a:path w="216510" h="196946">
                <a:moveTo>
                  <a:pt x="0" y="75226"/>
                </a:moveTo>
                <a:lnTo>
                  <a:pt x="82700" y="75227"/>
                </a:lnTo>
                <a:lnTo>
                  <a:pt x="108255" y="0"/>
                </a:lnTo>
                <a:lnTo>
                  <a:pt x="133810" y="75227"/>
                </a:lnTo>
                <a:lnTo>
                  <a:pt x="216510" y="75226"/>
                </a:lnTo>
                <a:lnTo>
                  <a:pt x="149604" y="121719"/>
                </a:lnTo>
                <a:lnTo>
                  <a:pt x="175160" y="196945"/>
                </a:lnTo>
                <a:lnTo>
                  <a:pt x="108255" y="150452"/>
                </a:lnTo>
                <a:lnTo>
                  <a:pt x="41350" y="196945"/>
                </a:lnTo>
                <a:lnTo>
                  <a:pt x="66906" y="121719"/>
                </a:lnTo>
                <a:lnTo>
                  <a:pt x="0" y="7522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23840" y="117360"/>
            <a:ext cx="740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+- tree : height and siz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9080" y="1123920"/>
            <a:ext cx="76615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8)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mall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(40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d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lock size : 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0000 per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rds per block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4096/(18+8+2+40) =60.235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locks for storing 1M persons=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1000000/6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16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+ tree n(fan-out)  = (4096-4)/(18+4) +1 = 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94 , inner pointers  :  94~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-1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93, leaf values    :   93~186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levels:  min=2*93          =186            max=  187*186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4,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 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min=2*94*93     =17484        max= 187*187*186=6,504,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levels:  min=2*94*94*93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,643,4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max= 187*187*187*186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,216,291,7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23840" y="117360"/>
            <a:ext cx="754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stimating height &amp; size of B+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5040" y="1081080"/>
            <a:ext cx="76611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8)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mall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(40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d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lock size : 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0000 persons  </a:t>
            </a:r>
            <a:r>
              <a:rPr b="0" i="1" lang="en-US" sz="18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B+ tree size estimation.xl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3840" y="2800440"/>
          <a:ext cx="5849640" cy="3480840"/>
        </p:xfrm>
        <a:graphic>
          <a:graphicData uri="http://schemas.openxmlformats.org/drawingml/2006/table">
            <a:tbl>
              <a:tblPr/>
              <a:tblGrid>
                <a:gridCol w="782640"/>
                <a:gridCol w="274680"/>
                <a:gridCol w="1556280"/>
                <a:gridCol w="249480"/>
                <a:gridCol w="637920"/>
                <a:gridCol w="783000"/>
                <a:gridCol w="783000"/>
                <a:gridCol w="782640"/>
              </a:tblGrid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41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+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8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+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alf full leaf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af level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75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cond level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 leaf no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af level no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76.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cond level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ccecff"/>
                      </a:solidFill>
                    </a:lnL>
                    <a:lnR w="2880">
                      <a:solidFill>
                        <a:srgbClr val="ccecff"/>
                      </a:solidFill>
                    </a:lnR>
                    <a:lnT w="2880">
                      <a:solidFill>
                        <a:srgbClr val="ccecff"/>
                      </a:solidFill>
                    </a:lnT>
                    <a:lnB w="2880">
                      <a:solidFill>
                        <a:srgbClr val="ccec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23840" y="117360"/>
            <a:ext cx="759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Evaluation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5760" y="1093680"/>
            <a:ext cx="763596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ypes supported efficiently. 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Point qu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: records with a specified value in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Range qu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: or records with an attribute value falling in a specified range of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nser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ele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19080" y="182520"/>
            <a:ext cx="832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9080" y="1430280"/>
            <a:ext cx="77392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leaf nodes in a B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tree file organization store records, instead of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s are still required to be half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e records are larger than pointers, the maximum number of records that can be stored in a leaf node is less than the number of pointers in a non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d deletion are handled in the same way as insertion and deletion of entries in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23840" y="117360"/>
            <a:ext cx="839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95320" y="4726080"/>
            <a:ext cx="78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space utilization important since records use more space than point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rove space utilization, involve more sibling nodes in redistribution during splits and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volving 2 siblings in redistribution (to avoid split / merge where possible) results in each node having at least             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82880" y="432432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740720" y="6046920"/>
                <a:ext cx="6602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52320" y="903240"/>
            <a:ext cx="83329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23840" y="117360"/>
            <a:ext cx="785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Issues in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9080" y="1303200"/>
            <a:ext cx="76914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relocation and secondary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f a record moves, all secondary indices that store record pointers have to be upd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de splits in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-tree file organizations become ver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: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  <a:ea typeface="MS PGothic"/>
              </a:rPr>
              <a:t>use primary-index search key instead of record pointer in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xtra traversal of primary index to loca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igher cost for queries, but node splits are 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dd record-id if primary-index search key is non-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23840" y="117360"/>
            <a:ext cx="744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85760" y="1093680"/>
            <a:ext cx="73836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Variable length strings a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Variable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space utilization as criterion for spli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not number of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efix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ey values at internal nodes can be prefixes of full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eep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enough charac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distinguish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ntries in the subtrees separated by the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8600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.g. “Silas” and “Silberschatz” can be separated by “Sil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Keys in leaf node can be compressed by sharing common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023840" y="117360"/>
            <a:ext cx="782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lk Loading and Bottom-Up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1136520"/>
            <a:ext cx="807264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entries one-at-a-time into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requir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IO per e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ssuming leaf level does not fi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 be very inefficient for loading a large number of entries at a time (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MS PGothic"/>
              </a:rPr>
              <a:t>bulk lo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ternative 1: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Insert in sorte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ort entries first (using efficient external-memory sort algorithms discussed later in Section 12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sert in sorte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sertion will go to existing page (or cause a spl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ch improved IO performance, but most leaf nodes half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ternative 2: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Bottom-up B</a:t>
            </a:r>
            <a:r>
              <a:rPr b="1" lang="en-US" sz="1800" spc="-1" strike="noStrike" baseline="30000">
                <a:solidFill>
                  <a:srgbClr val="0066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-tree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s before sort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nd then create tree layer-by-layer, starting with leaf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tails as an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emented as part of bulk-load utility by most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23840" y="117360"/>
            <a:ext cx="832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-Tree Index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27160" y="1135080"/>
            <a:ext cx="67244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B+-tree, but B-tree allows search-key values to appear only once; eliminates redundant storage of search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keys in nonleaf nodes appear nowhere else in the B-tree; an additional pointer field for each search key in a nonleaf node must be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B-tree leaf nod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27160" y="5364000"/>
            <a:ext cx="6724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leaf node – pointers Bi are the bucket or file record point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511280" y="3424320"/>
            <a:ext cx="76690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23840" y="117360"/>
            <a:ext cx="919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-Tree Index Fi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3080" y="3862440"/>
            <a:ext cx="784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tree (above) and B+-tree (below) on sa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971640" y="1262160"/>
            <a:ext cx="8475480" cy="2241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rcRect l="0" t="0" r="0" b="59284"/>
          <a:stretch/>
        </p:blipFill>
        <p:spPr>
          <a:xfrm>
            <a:off x="843120" y="4289400"/>
            <a:ext cx="864864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23840" y="117360"/>
            <a:ext cx="818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-Tree Index Fi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68320" y="1135080"/>
            <a:ext cx="811836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B-Tree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y use less tree nodes than a correspond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-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ometimes possible to find search-key value before reaching 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of B-Tree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nly small fraction of all search-key values are found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n-leaf nodes are larger, so fan-out is reduced.  Thus, B-Trees typically have greater depth than correspond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-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sertion and deletion more complicated than in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-Tr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ementation is harder than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-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dvantages of B-Trees do not out weigh disadvanta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23840" y="117360"/>
            <a:ext cx="698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-Ke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6240" y="12556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ind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ertain types of 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= “Financ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= 8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sible strategies for processing qu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indices on single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find instructors with department name Finance; te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alary = 8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e inde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find instructors with a salary of $80000; te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dept_nam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“Financ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dex to find pointers to all records pertaining to the “Finance” department.  Similarly 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  Take intersection of both sets of pointers ob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23840" y="117360"/>
            <a:ext cx="7234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85760" y="1093680"/>
            <a:ext cx="74962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mposite search k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arch keys containing more than one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.g.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pt_name,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ographic ordering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&lt; (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i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 &lt; 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=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 and  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 &lt; 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MS P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23840" y="117360"/>
            <a:ext cx="752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ed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37628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ordered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entries are stored sorted on the search key value.  E.g., author catalog in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rimary index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主索引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equentially ordered file, the index whose search key specifies the sequential order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lso called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MS PGothic"/>
              </a:rPr>
              <a:t>clustering index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MS PGothic"/>
              </a:rPr>
              <a:t>（聚集索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search key of a primary index is usually but not necessarily the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condary index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（辅助索引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dex whose search key specifies an order different from the sequential order of the file.  Also called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n-clustering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-sequential file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索引顺序文件）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sequential file with a primary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23840" y="117360"/>
            <a:ext cx="7712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23840" y="2070000"/>
            <a:ext cx="73360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dex 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used to fetch only records that satisfy both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Using separate indices in less efficient — we may fetch many records (or pointers) that satisfy only one of the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efficiently hand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not efficiently hand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y fetch many records that satisfy the first but not the secon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4920" y="117936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63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ve an index on combined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3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23840" y="117360"/>
            <a:ext cx="610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N" sz="3200" spc="-1" strike="noStrike">
                <a:solidFill>
                  <a:srgbClr val="cc3300"/>
                </a:solidFill>
                <a:latin typeface="Arial"/>
              </a:rPr>
              <a:t>Indexing on 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28800" y="1081080"/>
            <a:ext cx="7680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Random I/O cost much lower on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20 to 100 microseconds for read/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Writes are not in-place, and (eventually) require a more expensive 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Optimum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page siz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erefore much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Bulk-loading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still useful since it minimizes page e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Write-optimized tree structures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i.e.,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LSM-tree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 have been adapted to minimize page writes for flash-optimized search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23840" y="117360"/>
            <a:ext cx="752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N" sz="3200" spc="-1" strike="noStrike">
                <a:solidFill>
                  <a:srgbClr val="cc3300"/>
                </a:solidFill>
                <a:latin typeface="Arial"/>
              </a:rPr>
              <a:t>Indexing in Ma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6480" y="1108080"/>
            <a:ext cx="7645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Random access in mem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  <a:ea typeface="MS PGothic"/>
              </a:rPr>
              <a:t>cheaper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 than on disk/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But still expensive compared to cach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Data structures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  <a:ea typeface="MS PGothic"/>
              </a:rPr>
              <a:t>that make best use of cach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pref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Binary search for a key value within a large B</a:t>
            </a:r>
            <a:r>
              <a:rPr b="0" lang="en-IN" sz="2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+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MS PGothic"/>
              </a:rPr>
              <a:t>-tree node results in many cache mi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IN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trees with </a:t>
            </a:r>
            <a:r>
              <a:rPr b="0" lang="en-IN" sz="2000" spc="-1" strike="noStrike">
                <a:solidFill>
                  <a:srgbClr val="ff0000"/>
                </a:solidFill>
                <a:latin typeface="Arial"/>
              </a:rPr>
              <a:t>small nodes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at fit in cache line are preferable to reduce cache mi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Key idea:  use large node size to optimize disk access, but structure data within a node using a tree with small node size, instead of using an ar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14400" y="2286000"/>
            <a:ext cx="1036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23840" y="117360"/>
            <a:ext cx="813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index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主索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9720" y="1434960"/>
            <a:ext cx="8056440" cy="3913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60720" y="5062680"/>
            <a:ext cx="41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index o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6560" y="209520"/>
            <a:ext cx="63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ary Indice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71760" y="555948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index o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alar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395360"/>
            <a:ext cx="792468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23840" y="117360"/>
            <a:ext cx="788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7640" y="1281240"/>
            <a:ext cx="76611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ense index(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稠密索引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Index record appears for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very search-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in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59000" y="2614680"/>
            <a:ext cx="805644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23840" y="11736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8960" y="1206360"/>
            <a:ext cx="7661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nse ind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ort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58960" y="2427120"/>
            <a:ext cx="85071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0:01:06Z</dcterms:created>
  <dc:creator>Silberschatz, Korth and Sudarshan</dc:creator>
  <dc:description/>
  <dc:language>en-US</dc:language>
  <cp:lastModifiedBy/>
  <cp:lastPrinted>2005-01-10T21:51:57Z</cp:lastPrinted>
  <dcterms:modified xsi:type="dcterms:W3CDTF">2021-05-17T12:04:18Z</dcterms:modified>
  <cp:revision>342</cp:revision>
  <dc:subject/>
  <dc:title>Chapter 11: Indexing and Hashing</dc:title>
</cp:coreProperties>
</file>