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12193588" cy="6858000"/>
  <p:notesSz cx="6997700" cy="9283700"/>
  <p:custShowLst>
    <p:custShow name="Custom Show 1" id="0">
      <p:sldLst>
        <p:sld r:id="rId59"/>
        <p:sld r:id="rId54"/>
        <p:sld r:id="rId11"/>
        <p:sld r:id="rId14"/>
        <p:sld r:id="rId58"/>
        <p:sld r:id="rId58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32576B-B1BE-4069-A517-079912FC6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E932BE-C01A-441A-9F01-52ACBF6E0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7C72AC-F810-4EA0-86D5-189018EC63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403200" y="693720"/>
            <a:ext cx="6189840" cy="3483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96BBB5-88E6-4733-9256-AF0200D5F62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FB1F9A-A328-407A-BFBA-75B81742E1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902917-32A2-4C62-8172-2AC636947C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542AE9-DD20-44FB-9BFB-0C46F13C6F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E912EE-4356-4BFC-A04B-61EB5F5101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A34197-B0ED-428D-9E9C-A880A614E3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9D880B-E5BD-4AFB-B926-0BCD408D7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2AA736-0B90-43D6-8FAF-4F0CAC50F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E29269-90AB-471A-BB4C-B22160F83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820CA4-471F-467C-A0C3-C85C192A7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A3A6AD-4D4B-4AE0-B67B-50F5B80D3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403104-5803-4ED2-9CAD-542E37E877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79F081-ACCB-40EC-B148-91691B616A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088F4C-206C-4C90-AC58-41CD1C004A9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570743-DDA1-4B58-BCA5-8FD7168D8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FCBBBE-1332-4E8D-9D19-5181518C02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098C52-358A-46FD-8554-433AAE6AFB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C5B79E3-376A-40B4-B525-EE5497FC59D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85F35C-1EAA-4AFE-A8BB-DE35FE26FC2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7A591F-602E-49B7-A444-E7983E8F86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901ECE-5D05-428C-A534-56B9A4843B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B1355F-30EB-4FD4-BB81-EEE2150C63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1AA693-30DC-4400-A544-718B90BB53B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AC4F36-8EF3-4555-A224-900C261190F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399BCE2-A7E6-49BB-A7C2-A6C784A8B6F3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3D6D53-F86F-437C-AFAB-D46837D393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D62689-7A1F-4C83-87A6-028E88918B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C12038-9829-4F75-818F-B4BFD60E11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EEC5EB-F5DA-4BA4-9430-135E98F928A6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F858F6-3E2F-471D-AFE5-3E17A46C7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A45F44-5A63-4473-AF2E-FACF4C41D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091F3D-3421-4928-99D7-932A440615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75249C-293B-42C6-9D76-4DFD68F7D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6CDC73-F344-48A0-8AB3-EE1CD4C50291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7CD76B-A50B-456D-A527-B70F922AFC9F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0A8415-0368-4E56-90DE-153FDE23411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BB44D4-FCEC-4AF4-9E4F-34E9D87A9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A5A251-5E05-4978-A61B-A486E3C4B6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129FA0-2D4D-49E4-A5F6-BD72C22F2C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1CF004-7E31-4A64-8354-31A7A7BAA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3D9919-6006-487E-8041-83D804805C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88CC30-B5F2-4C5D-B1FA-5C1E4C0498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93AA91-2DA1-499E-8512-59F3BC6982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EF760F-CDA5-46B6-A08B-42F035E338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6C9CA07-6F72-4EE2-8674-28FA7CFDD89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354205-D165-4840-AD61-A7E62DBBDC5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9142E7-6669-4108-837D-9F4699208E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D70160-9209-479B-8489-EB8EDE4D4C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0EF369-8360-4C9A-A97C-09486B98D0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F6C7C1-8935-42CB-9841-98495235B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1B5B30-12FB-46E1-B754-49B8B94E88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930C15-2978-4277-89A2-FD274BDD9F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1BB162-B8D0-4205-93FD-A0C3BE40AB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5FD203-70DD-48CF-B195-AA38F52F7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BE6026-381C-400A-BB9D-6D8E321DC0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0606F7-E707-44C7-BE30-D39798ECE9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4857F8-2A5D-41CD-A5B8-F5D9BE5AB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FEB707-A74E-4882-B14E-BDC6575F2E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151D68-7B99-4FDE-AC8E-D29B2A7C81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CC69CB-220F-4C54-95F8-681124DC5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F07F26-0A1A-4188-9BC4-67263435E6E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2A95AA-049B-47AB-B0CE-60ED2321D6B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223DAC-A26C-42B3-9EC9-561C88D58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2ED995-6980-451B-8D72-FC15C83EFE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E9F37A-9659-4DCA-AE87-F7CD4DB049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ABB91A-A913-4BEC-ABAB-A52D72954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671E27-8DF7-43F0-95CA-17F1D1381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79C32B-43D0-48F9-A1EF-D9AB6EB935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1E7D5B-AA27-4E6A-8236-856856200B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06A7BA-1655-4E4A-8277-6484C0A07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582372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8.</a:t>
            </a:r>
            <a:fld id="{66A62418-4772-44FE-BBC3-5BBB2AD69B04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4235760" y="5726160"/>
            <a:ext cx="358416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hapter 8:  Relational 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2880" y="26208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Example of Lossless-Join Decomposition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2880" y="1385640"/>
            <a:ext cx="699948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33676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ssless 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676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=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B, C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B) ,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432160" y="303372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813040" y="303372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432160" y="3490920"/>
            <a:ext cx="380880" cy="61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3040" y="3490920"/>
            <a:ext cx="380880" cy="61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184640" y="303372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184640" y="3490920"/>
            <a:ext cx="3808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013440" y="3033720"/>
            <a:ext cx="609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013440" y="3490920"/>
            <a:ext cx="6094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881080" y="4166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6235560" y="4157280"/>
            <a:ext cx="104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,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289160" y="4910040"/>
            <a:ext cx="2514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676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r)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3956040" y="4786200"/>
            <a:ext cx="4572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4413240" y="478620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3956040" y="5243400"/>
            <a:ext cx="457200" cy="6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4413240" y="5243400"/>
            <a:ext cx="380880" cy="6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9"/>
          <p:cNvSpPr/>
          <p:nvPr/>
        </p:nvSpPr>
        <p:spPr>
          <a:xfrm>
            <a:off x="2104920" y="5067360"/>
            <a:ext cx="142920" cy="1429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0" y="182"/>
                </a:lnTo>
                <a:lnTo>
                  <a:pt x="182" y="0"/>
                </a:lnTo>
                <a:lnTo>
                  <a:pt x="182" y="182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6603840" y="3033720"/>
            <a:ext cx="609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6603840" y="3490920"/>
            <a:ext cx="6098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4565520" y="3033720"/>
            <a:ext cx="3812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4565520" y="3490920"/>
            <a:ext cx="3812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4794120" y="478620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4794120" y="5243400"/>
            <a:ext cx="381240" cy="6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3193920" y="3033720"/>
            <a:ext cx="3812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3193920" y="3490920"/>
            <a:ext cx="381240" cy="61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3952800" y="4166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,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Lossless-join Decompos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388880"/>
            <a:ext cx="6756480" cy="29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the case of R = (R1, R2), we require that for all possible relations r on schem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com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R into R1 and R2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ossless jo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and only if at least one of the following dependencies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4"/>
          <p:cNvSpPr/>
          <p:nvPr/>
        </p:nvSpPr>
        <p:spPr>
          <a:xfrm>
            <a:off x="4392720" y="2157480"/>
            <a:ext cx="142920" cy="1429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0" y="182"/>
                </a:lnTo>
                <a:lnTo>
                  <a:pt x="182" y="0"/>
                </a:lnTo>
                <a:lnTo>
                  <a:pt x="182" y="182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537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irst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155600"/>
            <a:ext cx="819468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elational schema R is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irst normal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the domains of all attributes of R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tom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main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f its elements are considered to b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ndivi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s of non-atomic dom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names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entification numbers like CS101  that can be broken up int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tom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ctually a property of how the elements of the domain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Strings would normally be considered indivi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ppose that students are given roll numbers which are strings of th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S0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E1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If the first two characters are extracted to find the department, the domain of roll numbers is not atom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ing so is a bad idea: leads to encoding of information in application program rather than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1922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Goal — Devise a Theory for the Follow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9720" y="1108080"/>
            <a:ext cx="78645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ide whether a particular relation R is in “good”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the case that a relation R is not in “good” form, decompose it into a set of relations {R1, R2, ..., Rn} 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relation i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ood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com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ossless-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r theory is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ultivalued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48040" y="287172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92480" y="98280"/>
            <a:ext cx="5341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1720" y="1128600"/>
            <a:ext cx="72342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strai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 the set of legal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quire that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the value for a certain set of attribut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termines uniqu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the value for another set of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functional dependency is a generalization of the notion of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337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5040" y="1143000"/>
            <a:ext cx="724536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R be a relatio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and 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functional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holds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f and only if for any legal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), whenever any two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ree on the attribut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they also agree on the attribute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at i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 Consider r(A,B ) with the following instance of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 this instanc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o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, but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o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304800" y="4486320"/>
            <a:ext cx="1668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90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531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6400" y="1197000"/>
            <a:ext cx="8067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 is a superkey for relation schema 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and only if 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 is a candidate key for R if and only 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n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unctional dependencies allow us to express constraints that cannot be expressed using superkeys.  Consider the sch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dep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D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, salary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, building, bud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expect these functional dependencies to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t would not expect the following to hol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398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83800" y="107316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functional dependency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riv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f it is satisfied by all instances of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, 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genera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rivial 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07720" y="635040"/>
            <a:ext cx="729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losure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闭包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) of a Set of 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7680" y="1385640"/>
            <a:ext cx="74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ven a set F  of functional dependencies, there are certain other functional dependencies that are logically implied by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example:  If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 we can infer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set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unctional dependencies logically impli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denote the closure of F by F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super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={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, B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} , what is F</a:t>
            </a:r>
            <a:r>
              <a:rPr b="0" i="1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={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, B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, 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, AB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, AB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, …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314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hapter 8:  Relational 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1631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eatures of Good Relatio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omic Domains and First 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omposition Using 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unctional Dependency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gorithms for 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omposition Using Multivalued Depend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re 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base-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deling Tempor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9320" y="62712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losure of a Set of 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0920" y="1456920"/>
            <a:ext cx="7640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can find F+,  the closure of F, by repeatedl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mstrong’s 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reflexivity,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自反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augmentation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，增补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transitiv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，传递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se ru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Sound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（正确有效的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generate only functional dependencies that actually hold), 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Complete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（完备的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generate all functional dependencies that h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62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1440" y="960120"/>
            <a:ext cx="824868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= (A, B, C, G, H, I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 member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H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transitivity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AG </a:t>
            </a:r>
            <a:r>
              <a:rPr b="1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augment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th G, to g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then transitivity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CG </a:t>
            </a:r>
            <a:r>
              <a:rPr b="1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HI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augment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 inf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augmenting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 inf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then tra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6440" y="6030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losure of 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39600" y="1398240"/>
            <a:ext cx="735948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itional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ld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s, 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nion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，合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decomposition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，分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ld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pseudotransitivit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，伪传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above rules can be inferred from Armstrong’s axi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047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1160" y="1245960"/>
            <a:ext cx="688176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unctional dependenc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lds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 th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equivalent with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uplicated attributes can be removed from right side of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unctional depend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==&gt;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eflex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=&gt;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ug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17360" y="269640"/>
            <a:ext cx="7939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losure of Attribute Se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200" y="110016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iven a set of attribute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define the closure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der F (denoted by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 as the set of attributes that are functionally determined by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unde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(A,B,C,D )     F={A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,B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, B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Symbol" charset="2"/>
              <a:buChar char="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Symbol" charset="2"/>
              <a:buChar char="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88"/>
              </a:spcBef>
              <a:buClr>
                <a:srgbClr val="ff9933"/>
              </a:buClr>
              <a:buSzPct val="80000"/>
              <a:buFont typeface="Symbol" charset="2"/>
              <a:buChar char="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Algorithm to compute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66cc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, the closure of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under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result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:=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while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(changes to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result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)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for each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n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F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do</a:t>
            </a:r>
            <a:br>
              <a:rPr sz="1800"/>
            </a:b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result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then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result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:=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result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7882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of Attribute Set Clos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2960" y="955800"/>
            <a:ext cx="7130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= (A, B, C, G, 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AG)</a:t>
            </a:r>
            <a:r>
              <a:rPr b="0" lang="en-US" sz="1800" spc="-1" strike="noStrike" baseline="30000">
                <a:solidFill>
                  <a:srgbClr val="0066cc"/>
                </a:solidFill>
                <a:latin typeface="Arial"/>
                <a:ea typeface="宋体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=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= ABC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= ABCG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= ABCGH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B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 candidate key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s AG a super 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0456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? =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(AG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2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s any subset of AG a super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0456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(A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0456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== Is (G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25000" y="125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Uses of Attribute Clos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34920" y="123192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e are several uses of the attribute closure 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Testing for super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 test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superkey, we compu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check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ains all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Testing 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 check if a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olds (or, in other words, 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 just check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t is, we compu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using attribute closure, and then check if it contai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simple and cheap test, and very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Computing closure of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or each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e find the closure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and for e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we output a functional dependency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88" dur="1" fill="hold"/>
                                  <p:tgtEl>
                                    <p:spTgt spid="1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76440" y="201240"/>
            <a:ext cx="5137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Uses of Attribute Clos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1160" y="1104840"/>
            <a:ext cx="8607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uting closure of 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B,C), F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, 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u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ABC,  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BC, 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B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ABC, (AC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ABC, (BC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BC,  (ABC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{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BC, 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宋体"/>
              </a:rPr>
              <a:t>B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b0f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B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ABC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, BC</a:t>
            </a:r>
            <a:r>
              <a:rPr b="0" lang="en-US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B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ABC</a:t>
            </a:r>
            <a:r>
              <a:rPr b="0" lang="en-US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AB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, 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,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, 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B,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C,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C,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宋体"/>
              </a:rPr>
              <a:t>B,B</a:t>
            </a:r>
            <a:r>
              <a:rPr b="0" lang="en-US" sz="1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宋体"/>
              </a:rPr>
              <a:t>C, B</a:t>
            </a:r>
            <a:r>
              <a:rPr b="0" lang="en-US" sz="1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宋体"/>
              </a:rPr>
              <a:t>B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b0f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宋体"/>
              </a:rPr>
              <a:t>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, 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B,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C, 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B,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C,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BC,A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B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A, 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B,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C, 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AB,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AC,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BC,AC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AB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BC</a:t>
            </a:r>
            <a:r>
              <a:rPr b="0" lang="en-US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B, BC</a:t>
            </a:r>
            <a:r>
              <a:rPr b="0" lang="en-US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C, BC</a:t>
            </a:r>
            <a:r>
              <a:rPr b="0" lang="en-US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B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BC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, ABC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,ABC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, ABC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B, ABC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C, ABC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C, ABC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B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=F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023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anonical Cover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（正则覆盖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27000" y="938160"/>
            <a:ext cx="766152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s of functional dependencies may have redundant dependencies that can be inferred from th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example: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redundant in: 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,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rts of a functional dependency may be red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: on RHS:   {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,  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,  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}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be simplifi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.A</a:t>
            </a:r>
            <a:r>
              <a:rPr b="0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CD=&gt; </a:t>
            </a:r>
            <a:r>
              <a:rPr b="0" i="1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B,B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C =&gt; 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 , A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D  =&gt;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: on LHS:    {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,  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,   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}  can be simplifi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{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.A</a:t>
            </a:r>
            <a:r>
              <a:rPr b="0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B,B</a:t>
            </a:r>
            <a:r>
              <a:rPr b="0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C =&gt; A</a:t>
            </a:r>
            <a:r>
              <a:rPr b="0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C=&gt; A</a:t>
            </a:r>
            <a:r>
              <a:rPr b="0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AC, AC</a:t>
            </a:r>
            <a:r>
              <a:rPr b="0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D =&gt;A</a:t>
            </a:r>
            <a:r>
              <a:rPr b="0" lang="en-US" sz="1800" spc="-1" strike="noStrike">
                <a:solidFill>
                  <a:srgbClr val="0090e5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90e5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D =&gt; 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AC</a:t>
            </a:r>
            <a:r>
              <a:rPr b="0" i="1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CD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  =&gt; AC</a:t>
            </a:r>
            <a:r>
              <a:rPr b="0" lang="en-US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uitively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 canonical cover of F is a “minimal” set of functional dependencies equivalent to F, having no redundant dependencies or redundant parts of depend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607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traneous Attributes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无关属性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1560" y="1101240"/>
            <a:ext cx="7588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sider a set F of functional dependencies and the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tribute A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extraneou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logically impli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–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{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extran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and the set of functional dependenc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–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 logically impl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ication in the opposite direction is trivial in each of the cases above, since a “stronger” functional dependency always implies a weake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extraneou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cause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, 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 logically impl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.e. the result of dropp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 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extraneou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inc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an be inferred even after dele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5480" y="80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-R Diagram for a University Enterpri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620040" y="4653000"/>
            <a:ext cx="885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258920" y="690480"/>
            <a:ext cx="63230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662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anonical Cov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1800" y="1190160"/>
            <a:ext cx="82231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canonical cover for F is a set of dependencies Fc 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logically implies all dependencies i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ogically implies all dependencies i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o functional dependency i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tains an extraneous 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ach left side of functional dependency i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s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 compute a canonical cover for F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e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the union rule to replace any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a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th 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raneous attribute either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r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an extraneous attribute is found, delete it fr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t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oes no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Union rule may become applicable after some extraneous attributes have been deleted, so it has to be re-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9960" y="299880"/>
            <a:ext cx="6105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omputing a Canonical Cov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47520" y="1003320"/>
            <a:ext cx="821988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, B, C)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 = {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bine A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BC and A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B into A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t is n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{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extraneous in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eck if the result of deleting A from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implied by the other depend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es: in fact,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lready presen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t is n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{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extraneou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eck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logically impli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the other depend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ing transitivity 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  and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n use attribute closur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n more complex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canonical cover i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{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90760" y="24912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omputing a Canonical Cov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04720" y="949320"/>
            <a:ext cx="821988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, B, C)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 = {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canonical cover i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{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6445080" y="115884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840280" y="1158840"/>
            <a:ext cx="2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6445080" y="169704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直接箭头连接符 3"/>
          <p:cNvCxnSpPr>
            <a:stCxn id="183" idx="3"/>
            <a:endCxn id="182" idx="1"/>
          </p:cNvCxnSpPr>
          <p:nvPr/>
        </p:nvCxnSpPr>
        <p:spPr>
          <a:xfrm>
            <a:off x="6108840" y="1328400"/>
            <a:ext cx="33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直接箭头连接符 7"/>
          <p:cNvCxnSpPr>
            <a:endCxn id="184" idx="1"/>
          </p:cNvCxnSpPr>
          <p:nvPr/>
        </p:nvCxnSpPr>
        <p:spPr>
          <a:xfrm>
            <a:off x="6108840" y="1496520"/>
            <a:ext cx="33660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直接箭头连接符 9"/>
          <p:cNvCxnSpPr>
            <a:stCxn id="182" idx="2"/>
            <a:endCxn id="184" idx="0"/>
          </p:cNvCxnSpPr>
          <p:nvPr/>
        </p:nvCxnSpPr>
        <p:spPr>
          <a:xfrm>
            <a:off x="6579720" y="149688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乘号 10"/>
          <p:cNvSpPr/>
          <p:nvPr/>
        </p:nvSpPr>
        <p:spPr>
          <a:xfrm>
            <a:off x="6083280" y="1574640"/>
            <a:ext cx="166680" cy="352440"/>
          </a:xfrm>
          <a:custGeom>
            <a:avLst/>
            <a:gdLst/>
            <a:ahLst/>
            <a:rect l="l" t="t" r="r" b="b"/>
            <a:pathLst>
              <a:path w="166688" h="352425">
                <a:moveTo>
                  <a:pt x="22314" y="93025"/>
                </a:moveTo>
                <a:lnTo>
                  <a:pt x="57755" y="76262"/>
                </a:lnTo>
                <a:lnTo>
                  <a:pt x="83344" y="130365"/>
                </a:lnTo>
                <a:lnTo>
                  <a:pt x="108933" y="76262"/>
                </a:lnTo>
                <a:lnTo>
                  <a:pt x="144374" y="93025"/>
                </a:lnTo>
                <a:lnTo>
                  <a:pt x="105029" y="176213"/>
                </a:lnTo>
                <a:lnTo>
                  <a:pt x="144374" y="259400"/>
                </a:lnTo>
                <a:lnTo>
                  <a:pt x="108933" y="276163"/>
                </a:lnTo>
                <a:lnTo>
                  <a:pt x="83344" y="222060"/>
                </a:lnTo>
                <a:lnTo>
                  <a:pt x="57755" y="276163"/>
                </a:lnTo>
                <a:lnTo>
                  <a:pt x="22314" y="259400"/>
                </a:lnTo>
                <a:lnTo>
                  <a:pt x="61659" y="176213"/>
                </a:lnTo>
                <a:lnTo>
                  <a:pt x="22314" y="9302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46240" y="152280"/>
            <a:ext cx="236088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 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42760" y="1119240"/>
            <a:ext cx="7661160" cy="235584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txBody>
          <a:bodyPr anchor="t">
            <a:normAutofit fontScale="61000"/>
          </a:bodyPr>
          <a:p>
            <a:pPr marL="232200" indent="-23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the relation schema R(A,B,C,D,E) with the functional dependencies set F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C, A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 , 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, 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-20916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ute  the canonical cover 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-20916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ute (AE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-20916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all candidate keys of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-209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c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, 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, 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-209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E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AB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-209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daidate key: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"/>
          <p:cNvGrpSpPr/>
          <p:nvPr/>
        </p:nvGrpSpPr>
        <p:grpSpPr>
          <a:xfrm>
            <a:off x="5357880" y="3929040"/>
            <a:ext cx="2433600" cy="1262160"/>
            <a:chOff x="5357880" y="3929040"/>
            <a:chExt cx="2433600" cy="1262160"/>
          </a:xfrm>
        </p:grpSpPr>
        <p:sp>
          <p:nvSpPr>
            <p:cNvPr id="192" name="矩形 16"/>
            <p:cNvSpPr/>
            <p:nvPr/>
          </p:nvSpPr>
          <p:spPr>
            <a:xfrm>
              <a:off x="5357880" y="3929040"/>
              <a:ext cx="2433600" cy="12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组合 15"/>
            <p:cNvGrpSpPr/>
            <p:nvPr/>
          </p:nvGrpSpPr>
          <p:grpSpPr>
            <a:xfrm>
              <a:off x="5357880" y="4009680"/>
              <a:ext cx="2192400" cy="969120"/>
              <a:chOff x="5357880" y="4009680"/>
              <a:chExt cx="2192400" cy="969120"/>
            </a:xfrm>
          </p:grpSpPr>
          <p:sp>
            <p:nvSpPr>
              <p:cNvPr id="194" name="TextBox 2"/>
              <p:cNvSpPr/>
              <p:nvPr/>
            </p:nvSpPr>
            <p:spPr>
              <a:xfrm>
                <a:off x="5357880" y="4020480"/>
                <a:ext cx="33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5"/>
              <p:cNvSpPr/>
              <p:nvPr/>
            </p:nvSpPr>
            <p:spPr>
              <a:xfrm>
                <a:off x="6312960" y="4023000"/>
                <a:ext cx="33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6"/>
              <p:cNvSpPr/>
              <p:nvPr/>
            </p:nvSpPr>
            <p:spPr>
              <a:xfrm>
                <a:off x="7214040" y="4009680"/>
                <a:ext cx="33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7"/>
              <p:cNvSpPr/>
              <p:nvPr/>
            </p:nvSpPr>
            <p:spPr>
              <a:xfrm>
                <a:off x="5357880" y="4641480"/>
                <a:ext cx="33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直接箭头连接符 9"/>
              <p:cNvCxnSpPr/>
              <p:nvPr/>
            </p:nvCxnSpPr>
            <p:spPr>
              <a:xfrm>
                <a:off x="5694120" y="4151520"/>
                <a:ext cx="619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99" name="直接箭头连接符 12"/>
              <p:cNvCxnSpPr/>
              <p:nvPr/>
            </p:nvCxnSpPr>
            <p:spPr>
              <a:xfrm>
                <a:off x="6595200" y="4178520"/>
                <a:ext cx="619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00" name="TextBox 5"/>
              <p:cNvSpPr/>
              <p:nvPr/>
            </p:nvSpPr>
            <p:spPr>
              <a:xfrm>
                <a:off x="6312960" y="4624560"/>
                <a:ext cx="33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直接箭头连接符 12"/>
              <p:cNvCxnSpPr/>
              <p:nvPr/>
            </p:nvCxnSpPr>
            <p:spPr>
              <a:xfrm>
                <a:off x="5714640" y="4814280"/>
                <a:ext cx="619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331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oyce-Codd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8840" y="3135240"/>
            <a:ext cx="6562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s trivial (i.e.,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s a superkey for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04960" y="1301760"/>
            <a:ext cx="6851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lation schema R is i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CN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respect to a set F of functional  dependencies if for all functional dependencies in F+ of the fo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of the following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32040" y="4210200"/>
            <a:ext cx="8129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schema not in BCN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_d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, salary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dept_nam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, bud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ilding, budg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_dep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sup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662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ecomposing a Schema into BC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92080" y="1198080"/>
            <a:ext cx="802656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ppose we have a schema R and a non-trivi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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causes a violation of BC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- (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-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our examp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ing,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d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replac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(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, building, bud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 (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) 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, name, salary, dept_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074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C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301400"/>
            <a:ext cx="875664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:= {R }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= fals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compute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F </a:t>
            </a:r>
            <a:r>
              <a:rPr b="0" lang="en-US" sz="1800" spc="-1" strike="noStrike" baseline="30000">
                <a:solidFill>
                  <a:srgbClr val="0066cc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;  // 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not necess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ile (n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there is a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at is not in BCNF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 a nontrivial functional dependency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                       hold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h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s not in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F </a:t>
            </a:r>
            <a:r>
              <a:rPr b="0" lang="en-US" sz="1800" spc="-1" strike="noStrike" baseline="30000">
                <a:solidFill>
                  <a:srgbClr val="0066cc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//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s not key of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and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=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esult := (result – 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(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–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l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u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in BCNF, and decomposition is lossless-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45880" y="152280"/>
            <a:ext cx="32115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4680" y="1209240"/>
            <a:ext cx="766116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the relation schema R(A,B,C,D) with the functional dependencies set F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, 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D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all candidate keys of th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ompose the relation into a collection of BCNF relations. The decomposition must be lossless-jo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didate keys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=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C,D),  R2=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decomposition is lossless-join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ca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(B), and B is a candidate key of R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"/>
          <p:cNvGrpSpPr/>
          <p:nvPr/>
        </p:nvGrpSpPr>
        <p:grpSpPr>
          <a:xfrm>
            <a:off x="6157800" y="2922480"/>
            <a:ext cx="1701720" cy="681840"/>
            <a:chOff x="6157800" y="2922480"/>
            <a:chExt cx="1701720" cy="681840"/>
          </a:xfrm>
        </p:grpSpPr>
        <p:sp>
          <p:nvSpPr>
            <p:cNvPr id="213" name="TextBox 1"/>
            <p:cNvSpPr/>
            <p:nvPr/>
          </p:nvSpPr>
          <p:spPr>
            <a:xfrm>
              <a:off x="6157800" y="292248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4"/>
            <p:cNvSpPr/>
            <p:nvPr/>
          </p:nvSpPr>
          <p:spPr>
            <a:xfrm>
              <a:off x="6924600" y="2922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5"/>
            <p:cNvSpPr/>
            <p:nvPr/>
          </p:nvSpPr>
          <p:spPr>
            <a:xfrm flipH="1">
              <a:off x="7583040" y="3267000"/>
              <a:ext cx="2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6"/>
            <p:cNvSpPr/>
            <p:nvPr/>
          </p:nvSpPr>
          <p:spPr>
            <a:xfrm>
              <a:off x="7583760" y="292536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直接箭头连接符 9"/>
            <p:cNvCxnSpPr>
              <a:endCxn id="214" idx="1"/>
            </p:cNvCxnSpPr>
            <p:nvPr/>
          </p:nvCxnSpPr>
          <p:spPr>
            <a:xfrm>
              <a:off x="6494040" y="3092040"/>
              <a:ext cx="43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8" name="直接箭头连接符 12"/>
            <p:cNvCxnSpPr/>
            <p:nvPr/>
          </p:nvCxnSpPr>
          <p:spPr>
            <a:xfrm>
              <a:off x="7152840" y="3092040"/>
              <a:ext cx="43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9" name="直接箭头连接符 11"/>
            <p:cNvCxnSpPr/>
            <p:nvPr/>
          </p:nvCxnSpPr>
          <p:spPr>
            <a:xfrm>
              <a:off x="7152840" y="3262320"/>
              <a:ext cx="430920" cy="17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745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CNF and Dependency Preser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114200"/>
            <a:ext cx="78562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straints, includ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unctional dependenc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stly to che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practic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less they pertain to only on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it is sufficient to test only those dependencies on each individual relation of a decomposition in order to ensur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unctional dependencies hold, then that decomposition is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pendency preserv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保持依赖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如果检验各单个关系上的函数依赖，就能确保所有的函数依赖成立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么这样的分解就是依赖保持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或者，原来关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的每一个函数依赖，都可以在分解后的单个的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系上得到检验，或者推导出来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cause it is not always possible to achieve both BCNF and dependency preservation, we consider a weaker normal form, known as third norm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573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26640" y="13363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B, 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ey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is not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composition R</a:t>
            </a:r>
            <a:r>
              <a:rPr b="0" i="1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= (A, B),  R</a:t>
            </a:r>
            <a:r>
              <a:rPr b="0" i="1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= (B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BCNF,   F</a:t>
            </a:r>
            <a:r>
              <a:rPr b="0" i="1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={A </a:t>
            </a:r>
            <a:r>
              <a:rPr b="0" i="1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B },  F</a:t>
            </a:r>
            <a:r>
              <a:rPr b="0" i="1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= {B </a:t>
            </a:r>
            <a:r>
              <a:rPr b="0" i="1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Lossless-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pendency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composition R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= (A, B),  R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= (A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in BCNF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={A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B },  F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= {A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ossless-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t is not dependency preserving, because checking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C needs  on 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88"/>
              </a:spcBef>
              <a:buNone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9"/>
          <p:cNvSpPr/>
          <p:nvPr/>
        </p:nvSpPr>
        <p:spPr>
          <a:xfrm>
            <a:off x="9117000" y="5969160"/>
            <a:ext cx="142920" cy="14256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0" y="182"/>
                </a:lnTo>
                <a:lnTo>
                  <a:pt x="182" y="0"/>
                </a:lnTo>
                <a:lnTo>
                  <a:pt x="182" y="182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ce to Relational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3760" y="1127160"/>
            <a:ext cx="834552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al Schemas of a University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at abou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at abou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at abou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plit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udent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1(ID, department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2(name, tot_cred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0" b="21118"/>
          <a:stretch/>
        </p:blipFill>
        <p:spPr>
          <a:xfrm>
            <a:off x="1155600" y="1519200"/>
            <a:ext cx="80265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33080" y="212760"/>
            <a:ext cx="5442120" cy="4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ependency Preser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32040" y="1357200"/>
            <a:ext cx="74563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 the set of dependenc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at include only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 :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the restriction of F on R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 decomposition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dependency preser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it is not, then checking updates for violation of functional dependencies may require computing joins, which is expen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45880" y="152280"/>
            <a:ext cx="374508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 4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34920" y="1160280"/>
            <a:ext cx="766152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the relation schema R(A,B,C,D,E) with the functional dependencies set F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, 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D, 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 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all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candidate key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 th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ompose the relation into a collection of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BC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lations. The decomposition must be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lossless-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ther the decomposition of (b) is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pendency preserv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didate keys: 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D), R2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C), R3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B), R4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,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ove decomposition is not dependency preserving, because 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 cannot be inferred by all functional dependencies holds  on R1, R2, R3, and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1=(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}      F2={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}     F3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}       F4={A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1"/>
          <p:cNvGrpSpPr/>
          <p:nvPr/>
        </p:nvGrpSpPr>
        <p:grpSpPr>
          <a:xfrm>
            <a:off x="6942240" y="3313080"/>
            <a:ext cx="1701360" cy="1015200"/>
            <a:chOff x="6942240" y="3313080"/>
            <a:chExt cx="1701360" cy="1015200"/>
          </a:xfrm>
        </p:grpSpPr>
        <p:sp>
          <p:nvSpPr>
            <p:cNvPr id="230" name="TextBox 1"/>
            <p:cNvSpPr/>
            <p:nvPr/>
          </p:nvSpPr>
          <p:spPr>
            <a:xfrm>
              <a:off x="6942240" y="331308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4"/>
            <p:cNvSpPr/>
            <p:nvPr/>
          </p:nvSpPr>
          <p:spPr>
            <a:xfrm>
              <a:off x="7709040" y="33130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5"/>
            <p:cNvSpPr/>
            <p:nvPr/>
          </p:nvSpPr>
          <p:spPr>
            <a:xfrm flipH="1">
              <a:off x="8367120" y="3657600"/>
              <a:ext cx="2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6"/>
            <p:cNvSpPr/>
            <p:nvPr/>
          </p:nvSpPr>
          <p:spPr>
            <a:xfrm>
              <a:off x="8367840" y="331596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7"/>
            <p:cNvSpPr/>
            <p:nvPr/>
          </p:nvSpPr>
          <p:spPr>
            <a:xfrm>
              <a:off x="7709040" y="399096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直接箭头连接符 9"/>
            <p:cNvCxnSpPr>
              <a:endCxn id="231" idx="1"/>
            </p:cNvCxnSpPr>
            <p:nvPr/>
          </p:nvCxnSpPr>
          <p:spPr>
            <a:xfrm>
              <a:off x="7278480" y="3482280"/>
              <a:ext cx="43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6" name="直接箭头连接符 12"/>
            <p:cNvCxnSpPr/>
            <p:nvPr/>
          </p:nvCxnSpPr>
          <p:spPr>
            <a:xfrm>
              <a:off x="7937280" y="3482280"/>
              <a:ext cx="43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7" name="直接箭头连接符 11"/>
            <p:cNvCxnSpPr/>
            <p:nvPr/>
          </p:nvCxnSpPr>
          <p:spPr>
            <a:xfrm>
              <a:off x="7937280" y="3652560"/>
              <a:ext cx="430920" cy="17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8" name="直接箭头连接符 14"/>
            <p:cNvCxnSpPr/>
            <p:nvPr/>
          </p:nvCxnSpPr>
          <p:spPr>
            <a:xfrm flipV="1">
              <a:off x="8004240" y="3975840"/>
              <a:ext cx="405360" cy="17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945880" y="152280"/>
            <a:ext cx="3364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ercise 4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4920" y="1173240"/>
            <a:ext cx="766152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the relation schema R(A,B,C,D,E) with the functional dependencies set F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, 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D, 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 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all candidate keys of th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ompose the relation into a collection of BCNF relations. The decomposition must be lossless-jo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ther the decomposition of (b) is dependency preserving or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nother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didate keys: 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,D), R2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B), R3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,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lphaLcParenR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ove decomposition is not dependency preserving, because 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 cannot be inferred by all functional dependencies holds  on R1, R2, R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1=(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D}      F2={A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}       F3={A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"/>
          <p:cNvGrpSpPr/>
          <p:nvPr/>
        </p:nvGrpSpPr>
        <p:grpSpPr>
          <a:xfrm>
            <a:off x="6942240" y="3313080"/>
            <a:ext cx="1701360" cy="1015200"/>
            <a:chOff x="6942240" y="3313080"/>
            <a:chExt cx="1701360" cy="1015200"/>
          </a:xfrm>
        </p:grpSpPr>
        <p:sp>
          <p:nvSpPr>
            <p:cNvPr id="242" name="TextBox 1"/>
            <p:cNvSpPr/>
            <p:nvPr/>
          </p:nvSpPr>
          <p:spPr>
            <a:xfrm>
              <a:off x="6942240" y="331308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4"/>
            <p:cNvSpPr/>
            <p:nvPr/>
          </p:nvSpPr>
          <p:spPr>
            <a:xfrm>
              <a:off x="7709040" y="33130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5"/>
            <p:cNvSpPr/>
            <p:nvPr/>
          </p:nvSpPr>
          <p:spPr>
            <a:xfrm flipH="1">
              <a:off x="8367120" y="3657600"/>
              <a:ext cx="2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6"/>
            <p:cNvSpPr/>
            <p:nvPr/>
          </p:nvSpPr>
          <p:spPr>
            <a:xfrm>
              <a:off x="8367840" y="331596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7"/>
            <p:cNvSpPr/>
            <p:nvPr/>
          </p:nvSpPr>
          <p:spPr>
            <a:xfrm>
              <a:off x="7709040" y="399096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直接箭头连接符 9"/>
            <p:cNvCxnSpPr>
              <a:endCxn id="243" idx="1"/>
            </p:cNvCxnSpPr>
            <p:nvPr/>
          </p:nvCxnSpPr>
          <p:spPr>
            <a:xfrm>
              <a:off x="7278480" y="3482280"/>
              <a:ext cx="43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8" name="直接箭头连接符 12"/>
            <p:cNvCxnSpPr/>
            <p:nvPr/>
          </p:nvCxnSpPr>
          <p:spPr>
            <a:xfrm>
              <a:off x="7937280" y="3482280"/>
              <a:ext cx="43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9" name="直接箭头连接符 11"/>
            <p:cNvCxnSpPr/>
            <p:nvPr/>
          </p:nvCxnSpPr>
          <p:spPr>
            <a:xfrm>
              <a:off x="7937280" y="3652560"/>
              <a:ext cx="430920" cy="17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0" name="直接箭头连接符 14"/>
            <p:cNvCxnSpPr/>
            <p:nvPr/>
          </p:nvCxnSpPr>
          <p:spPr>
            <a:xfrm flipV="1">
              <a:off x="8004240" y="3975840"/>
              <a:ext cx="405360" cy="17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0800" y="120240"/>
            <a:ext cx="75261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CNF and Dependency Preser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5840" y="1374480"/>
            <a:ext cx="71820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s not always possible to get a BCNF decomposition that is dependency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, K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wo candidate keys =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J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J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not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y 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ll fail to p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mplies that tes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quires a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3"/>
          <p:cNvGrpSpPr/>
          <p:nvPr/>
        </p:nvGrpSpPr>
        <p:grpSpPr>
          <a:xfrm>
            <a:off x="4583160" y="2216160"/>
            <a:ext cx="2085840" cy="1325520"/>
            <a:chOff x="4583160" y="2216160"/>
            <a:chExt cx="2085840" cy="1325520"/>
          </a:xfrm>
        </p:grpSpPr>
        <p:sp>
          <p:nvSpPr>
            <p:cNvPr id="254" name="矩形 12"/>
            <p:cNvSpPr/>
            <p:nvPr/>
          </p:nvSpPr>
          <p:spPr>
            <a:xfrm>
              <a:off x="4583160" y="2216160"/>
              <a:ext cx="2085840" cy="132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"/>
            <p:cNvSpPr/>
            <p:nvPr/>
          </p:nvSpPr>
          <p:spPr>
            <a:xfrm>
              <a:off x="5229000" y="2463480"/>
              <a:ext cx="4305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"/>
            <p:cNvSpPr/>
            <p:nvPr/>
          </p:nvSpPr>
          <p:spPr>
            <a:xfrm>
              <a:off x="6238440" y="2705400"/>
              <a:ext cx="29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直接箭头连接符 4"/>
            <p:cNvCxnSpPr>
              <a:stCxn id="255" idx="3"/>
            </p:cNvCxnSpPr>
            <p:nvPr/>
          </p:nvCxnSpPr>
          <p:spPr>
            <a:xfrm>
              <a:off x="5659560" y="2878560"/>
              <a:ext cx="64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8" name="直接箭头连接符 9"/>
            <p:cNvCxnSpPr/>
            <p:nvPr/>
          </p:nvCxnSpPr>
          <p:spPr>
            <a:xfrm flipH="1">
              <a:off x="5510880" y="3017160"/>
              <a:ext cx="794520" cy="10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178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Third Normal Form: Moti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7640" y="1287360"/>
            <a:ext cx="794232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e are some situations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BCNF is not dependency preserving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efficient checking for FD violation on updates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lution: define a weaker normal form, called Third Normal Form  (3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ows some redund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t functional dependencies can be checked on individual relations without computing a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e is always a lossless-join, dependency-preserving decomposition into 3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635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Third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69760" y="1163520"/>
            <a:ext cx="7980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elation schema R is in third normal form (3NF) if for a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 least one of the following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s trivial (i.e.,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s a superkey for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ach attribut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–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is contained in a candidate key for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attribute may be in a different candidate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a relation is in BCNF it is in 3NF (since in BCNF one of the first two conditions above must h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rd condition is a minimal relaxation of BCNF to ensure dependency preservation (will see why la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6880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3NF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0800" y="1169640"/>
            <a:ext cx="75646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ad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advisor (s_ID, i_ID, dept_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= {s_ID, dept_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_ID,  i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ept_nam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wo candidate keys: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s_ID, 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and  i_ID, s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advisor is in 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_ID, dept_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_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s_ID, dept_name is a sup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pt_name is contained in a candid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04720" y="666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Redundancy  in 3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6284880" y="198756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284880" y="2416320"/>
            <a:ext cx="609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894360" y="198756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894360" y="241632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351560" y="198756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7346880" y="241632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976320" y="4068720"/>
            <a:ext cx="787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etition of information (e.g., the relationshi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b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e0e0eb"/>
                </a:solidFill>
                <a:latin typeface="Arial"/>
                <a:ea typeface="宋体"/>
              </a:rPr>
              <a:t>i_ID, dept_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ed to use null values (e.g., to represent the relation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here there is no corresponding valu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b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e0e0eb"/>
                </a:solidFill>
                <a:latin typeface="Arial"/>
                <a:ea typeface="宋体"/>
              </a:rPr>
              <a:t>i_ID, dept_nameI) </a:t>
            </a:r>
            <a:r>
              <a:rPr b="0" lang="en-US" sz="1800" spc="-1" strike="noStrike">
                <a:solidFill>
                  <a:srgbClr val="e0e0eb"/>
                </a:solidFill>
                <a:latin typeface="Arial"/>
                <a:ea typeface="宋体"/>
              </a:rPr>
              <a:t>if there is no separate relation mapping instructors to 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6320" y="998640"/>
            <a:ext cx="78487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e is some redundancy in this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 of problems due to redundancy in 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, K, L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, 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372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3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20520" y="817200"/>
            <a:ext cx="795636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  Let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 a canonical cover for F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 i := 0;</a:t>
            </a: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3   for each  functional dependency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in F</a:t>
            </a:r>
            <a:r>
              <a:rPr b="0" lang="en-US" sz="20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do</a:t>
            </a: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4 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5 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 := i  + 1;     R</a:t>
            </a:r>
            <a:r>
              <a:rPr b="0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i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:=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6      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   if none of the schemas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j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1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j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i contains a candidate key for 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   then beg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 := i  + 1;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:= any candidate key for R;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12  /* Optionally, remove redundant relation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13 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14      if any schema R</a:t>
            </a:r>
            <a:r>
              <a:rPr b="0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j</a:t>
            </a:r>
            <a:r>
              <a:rPr b="0" lang="en-US" sz="24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s contained in another schema R</a:t>
            </a:r>
            <a:r>
              <a:rPr b="0" lang="en-US" sz="24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k</a:t>
            </a:r>
            <a:br>
              <a:rPr sz="2400"/>
            </a:br>
            <a:r>
              <a:rPr b="0" lang="en-US" sz="24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15     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then /* delete R</a:t>
            </a:r>
            <a:r>
              <a:rPr b="0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j</a:t>
            </a:r>
            <a:r>
              <a:rPr b="0" lang="en-US" sz="24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16           begin </a:t>
            </a:r>
            <a:br>
              <a:rPr sz="1800"/>
            </a:b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17              R</a:t>
            </a:r>
            <a:r>
              <a:rPr b="0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j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= R</a:t>
            </a:r>
            <a:r>
              <a:rPr b="0" lang="en-US" sz="18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i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;   i=i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18  until no more Rj s can be dele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  return (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...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047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omparison of BCNF and 3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70534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 is always possible to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comp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 relation into a set of  relations that are in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3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uch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he decomposition is 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he dependencies are p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 is always possible to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comp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 relation into a set of relations that are in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BC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uch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he decomposition is 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t may not be possible to preserve depend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120760" y="4064040"/>
            <a:ext cx="7283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ombine Schema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39600" y="878040"/>
            <a:ext cx="7661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ppose we combi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is possible repetition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tfalls of the “bad”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43360"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Information repetition 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信息重复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43360"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Insertion anomalies 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插入异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43360"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Update difficulty 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更新困难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8"/>
          <p:cNvPicPr/>
          <p:nvPr/>
        </p:nvPicPr>
        <p:blipFill>
          <a:blip r:embed="rId1"/>
          <a:stretch/>
        </p:blipFill>
        <p:spPr>
          <a:xfrm>
            <a:off x="1293840" y="1712880"/>
            <a:ext cx="5788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76280" y="156960"/>
            <a:ext cx="48258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Goals of Normal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1160" y="1273320"/>
            <a:ext cx="75564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 a relation scheme with a s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functional dependencies. Decide whether a relation sche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in “good”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the case that a relation sche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not in “good” form, decompose it into a set of relation scheme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...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 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relation scheme is in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good form (i.e., BCNF or 3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decomposition is a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lossless-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eferably, the decomposition should be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dependency preser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8480" y="115920"/>
            <a:ext cx="71247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-R Modeling and Normal For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6080" y="1190520"/>
            <a:ext cx="766152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ove is an E-R diagram that depicts a many-to-many relationship R between two entity sets E1 and E2. The candidate key of E1 and E2 are underlined in the diagram. If the E-R diagram is transform to a relation schema S(A, B, C, D, E, 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answer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ve the no-trivial functional dependency set F that holds o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the candidate key(s) of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 that  S is not in BC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lain the issues exist with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 that decomposing of S into three relation schemas R1(A,B,C), R2(D,E) and R3(A,D,G) is lossless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2003400" y="1190520"/>
            <a:ext cx="1332000" cy="4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"/>
          <p:cNvSpPr/>
          <p:nvPr/>
        </p:nvSpPr>
        <p:spPr>
          <a:xfrm>
            <a:off x="6227640" y="1454040"/>
            <a:ext cx="1170000" cy="484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菱形 4"/>
          <p:cNvSpPr/>
          <p:nvPr/>
        </p:nvSpPr>
        <p:spPr>
          <a:xfrm>
            <a:off x="3924360" y="1981080"/>
            <a:ext cx="1709640" cy="622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5854"/>
          <p:cNvSpPr/>
          <p:nvPr/>
        </p:nvSpPr>
        <p:spPr>
          <a:xfrm flipH="1">
            <a:off x="3338640" y="228924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2003400" y="1676520"/>
            <a:ext cx="1332000" cy="955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5"/>
          <p:cNvSpPr/>
          <p:nvPr/>
        </p:nvSpPr>
        <p:spPr>
          <a:xfrm>
            <a:off x="6227640" y="1936800"/>
            <a:ext cx="1170000" cy="73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4335480" y="1239840"/>
            <a:ext cx="906480" cy="39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10"/>
          <p:cNvSpPr/>
          <p:nvPr/>
        </p:nvSpPr>
        <p:spPr>
          <a:xfrm flipH="1">
            <a:off x="4777920" y="1636560"/>
            <a:ext cx="11160" cy="34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5854"/>
          <p:cNvSpPr/>
          <p:nvPr/>
        </p:nvSpPr>
        <p:spPr>
          <a:xfrm flipH="1">
            <a:off x="5646600" y="228924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3240" y="65160"/>
            <a:ext cx="71247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-R Modeling and Normal For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6080" y="1149480"/>
            <a:ext cx="766152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answer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ve the no-trivial functional dependency set F that holds o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={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C, D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, AD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the candidate key(s) of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 that  S is not in BC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C, A is not a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lain the issues exist with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nformation repetition, Insertion anomalies, Update diffic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358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 that decomposing of S into three relation schem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=R1(A,B,C)     (R2(D,E)      R3(A,D,G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"/>
          <p:cNvSpPr/>
          <p:nvPr/>
        </p:nvSpPr>
        <p:spPr>
          <a:xfrm>
            <a:off x="1982880" y="1006560"/>
            <a:ext cx="1332000" cy="48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"/>
          <p:cNvSpPr/>
          <p:nvPr/>
        </p:nvSpPr>
        <p:spPr>
          <a:xfrm>
            <a:off x="6207120" y="1270080"/>
            <a:ext cx="1170000" cy="484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菱形 4"/>
          <p:cNvSpPr/>
          <p:nvPr/>
        </p:nvSpPr>
        <p:spPr>
          <a:xfrm>
            <a:off x="3903840" y="1797120"/>
            <a:ext cx="1709640" cy="62208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5854"/>
          <p:cNvSpPr/>
          <p:nvPr/>
        </p:nvSpPr>
        <p:spPr>
          <a:xfrm flipH="1">
            <a:off x="3317760" y="2104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"/>
          <p:cNvSpPr/>
          <p:nvPr/>
        </p:nvSpPr>
        <p:spPr>
          <a:xfrm>
            <a:off x="1982880" y="1492200"/>
            <a:ext cx="1332000" cy="95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6207120" y="1752480"/>
            <a:ext cx="1170000" cy="73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"/>
          <p:cNvSpPr/>
          <p:nvPr/>
        </p:nvSpPr>
        <p:spPr>
          <a:xfrm>
            <a:off x="4314960" y="1055520"/>
            <a:ext cx="906480" cy="397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0"/>
          <p:cNvSpPr/>
          <p:nvPr/>
        </p:nvSpPr>
        <p:spPr>
          <a:xfrm flipH="1">
            <a:off x="4757400" y="1452600"/>
            <a:ext cx="11160" cy="34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5854"/>
          <p:cNvSpPr/>
          <p:nvPr/>
        </p:nvSpPr>
        <p:spPr>
          <a:xfrm flipH="1">
            <a:off x="5626080" y="2104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 rot="5400000">
            <a:off x="3173040" y="6335640"/>
            <a:ext cx="189000" cy="173160"/>
          </a:xfrm>
          <a:prstGeom prst="flowChartCollat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rot="5400000">
            <a:off x="4436640" y="6335640"/>
            <a:ext cx="189000" cy="173160"/>
          </a:xfrm>
          <a:prstGeom prst="flowChartCollat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45880" y="152280"/>
            <a:ext cx="42656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ow good is BCNF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7905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e are database schemas in BCNF that do not seem to be sufficiently norm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sider a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info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D, child_name, ph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an instructor may have more than one phone and can have multiple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793880" y="349416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927600" y="349416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ild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060960" y="349416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793880" y="3875040"/>
            <a:ext cx="2133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927600" y="3875040"/>
            <a:ext cx="2133360" cy="13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lli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ll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6060960" y="3875040"/>
            <a:ext cx="2133720" cy="13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272840" y="53103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942840" y="1307880"/>
            <a:ext cx="784872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e are no non-trivial functional dependencies and therefore the relation is in BC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ion anomalies – i.e., if we add a phone 981-992-3443 to 99999, we need to add two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99999, David,   981-992-3443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99999, William, 981-992-344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413000" y="18720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ow good is BCNF?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168200" y="1120680"/>
            <a:ext cx="672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refore, it is better to decompose inst_info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1362240" y="5796000"/>
            <a:ext cx="892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suggests the need for higher normal forms, such 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ourth Normal Form (4N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1812600" y="177480"/>
            <a:ext cx="6405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How good is BCNF?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3502080" y="185436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5635800" y="185436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ild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3502080" y="2235240"/>
            <a:ext cx="2133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5635800" y="2235240"/>
            <a:ext cx="2133360" cy="13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lli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ll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1724040" y="23050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3548160" y="401652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1"/>
          <p:cNvSpPr/>
          <p:nvPr/>
        </p:nvSpPr>
        <p:spPr>
          <a:xfrm>
            <a:off x="5672160" y="401652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3548160" y="4397400"/>
            <a:ext cx="213336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4"/>
          <p:cNvSpPr/>
          <p:nvPr/>
        </p:nvSpPr>
        <p:spPr>
          <a:xfrm>
            <a:off x="5672160" y="4397400"/>
            <a:ext cx="2133720" cy="13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5"/>
          <p:cNvSpPr/>
          <p:nvPr/>
        </p:nvSpPr>
        <p:spPr>
          <a:xfrm>
            <a:off x="1690920" y="4511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38040" y="2663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Multivalued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6865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Multivalued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ppose we record names of children, and phone numbers for instru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nst_child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child_name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nst_phone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phone_number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we were to combine these schemas to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nst_info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child_name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phone_number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 data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99999, David, 512-555-1234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99999, David, 512-555-432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99999, William, 512-555-1234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99999, William, 512-555-43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relation is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669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Multivalued Dependencies (MVD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83800" y="1227240"/>
            <a:ext cx="7605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 a relation schema and l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multivalued depend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ld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f in any legal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(R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or all pairs for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, there exist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h tha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       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       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8796240" y="6636960"/>
            <a:ext cx="317520" cy="5040"/>
            <a:chOff x="8796240" y="6636960"/>
            <a:chExt cx="317520" cy="5040"/>
          </a:xfrm>
        </p:grpSpPr>
        <p:sp>
          <p:nvSpPr>
            <p:cNvPr id="335" name="Line 5"/>
            <p:cNvSpPr/>
            <p:nvPr/>
          </p:nvSpPr>
          <p:spPr>
            <a:xfrm flipV="1">
              <a:off x="8796240" y="6636960"/>
              <a:ext cx="215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>
              <a:off x="8897760" y="6642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205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MVD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31680" y="1204560"/>
            <a:ext cx="7661160" cy="6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abular represent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8"/>
          <p:cNvPicPr/>
          <p:nvPr/>
        </p:nvPicPr>
        <p:blipFill>
          <a:blip r:embed="rId1"/>
          <a:stretch/>
        </p:blipFill>
        <p:spPr>
          <a:xfrm>
            <a:off x="1676520" y="2239920"/>
            <a:ext cx="61722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 Combined Schema Without Repet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9120" y="1190520"/>
            <a:ext cx="75610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sid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udent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name, tot_cre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ud_dept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deprt_na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udent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name, tot_cred, deprt_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o repeti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440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9080" y="1120680"/>
            <a:ext cx="7664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 a relation schema with a set of attributes that are partitioned into 3 nonempty sub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, Z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say that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Z (Y multidetermines Z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and only if for all possible relations r (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 y1, z1, w1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 and &lt; y1, z2, w2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 that since the behavior of Z and W are identical it follow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05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25560" y="1246320"/>
            <a:ext cx="7781760" cy="47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ou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ild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hone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above formal definition is supposed to formalize the notion that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given a particular value of Y (ID) it has associated with it a set of values of Z (child_name) and a set of values of W (phone_number), and these two sets are in some sense independent of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en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deed we have (in above notati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05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Theory of MV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0800" y="1196640"/>
            <a:ext cx="780732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the definition of multivalued dependency, we can derive the following 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then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t is,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every functional dependency is also a multivalued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losure D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D is the set of all functional and multivalued dependenci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ogically implied by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8661240" y="6585120"/>
            <a:ext cx="366840" cy="0"/>
            <a:chOff x="8661240" y="6585120"/>
            <a:chExt cx="366840" cy="0"/>
          </a:xfrm>
        </p:grpSpPr>
        <p:sp>
          <p:nvSpPr>
            <p:cNvPr id="347" name="Line 5"/>
            <p:cNvSpPr/>
            <p:nvPr/>
          </p:nvSpPr>
          <p:spPr>
            <a:xfrm>
              <a:off x="8661240" y="65851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6"/>
            <p:cNvSpPr/>
            <p:nvPr/>
          </p:nvSpPr>
          <p:spPr>
            <a:xfrm>
              <a:off x="8813880" y="6585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5168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ourth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85600" y="137808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4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th respect to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functional and multivalued dependencies if for all multivalued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the fo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 least one of the following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s trivial (i.e.,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or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= R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s a superkey for sche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f a relation is in 4NF it is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8632800" y="6641640"/>
            <a:ext cx="317520" cy="5040"/>
            <a:chOff x="8632800" y="6641640"/>
            <a:chExt cx="317520" cy="5040"/>
          </a:xfrm>
        </p:grpSpPr>
        <p:sp>
          <p:nvSpPr>
            <p:cNvPr id="352" name="Line 5"/>
            <p:cNvSpPr/>
            <p:nvPr/>
          </p:nvSpPr>
          <p:spPr>
            <a:xfrm flipV="1">
              <a:off x="8632800" y="6641640"/>
              <a:ext cx="215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8734320" y="66466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613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4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5960" y="1212480"/>
            <a:ext cx="804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:= false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ute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enote the restriction of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there is a sche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t is not in 4NF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 a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nontrivial multivalued depende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t hol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uch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no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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=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el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in 4NF, and decomposition is lossless-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9872640" y="6476760"/>
            <a:ext cx="317520" cy="5040"/>
            <a:chOff x="9872640" y="6476760"/>
            <a:chExt cx="317520" cy="5040"/>
          </a:xfrm>
        </p:grpSpPr>
        <p:sp>
          <p:nvSpPr>
            <p:cNvPr id="357" name="Line 5"/>
            <p:cNvSpPr/>
            <p:nvPr/>
          </p:nvSpPr>
          <p:spPr>
            <a:xfrm flipV="1">
              <a:off x="9872640" y="6476760"/>
              <a:ext cx="215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>
              <a:off x="9974160" y="648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635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5840" y="1177560"/>
            <a:ext cx="8412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B, C, G, H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not in 4NF 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not a super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in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C, G, H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not in 4NF, decompose in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, G,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in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C, G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not in 4NF, decompose in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(MVD transitivity)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he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 (MVD restriction to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in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A, C, G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in 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39320" y="156960"/>
            <a:ext cx="712476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-R Modeling and Normal For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46080" y="1136160"/>
            <a:ext cx="766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ove is an E-R diagram that depicts a many-to-many relationship R between two entity sets E and E’. The candidate key of E and E’ are underlined in the diagram. B and C are multivalued attributes of Entity E. If the Entity E is transform to a relation schema E(A,B,C,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answer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ve the no-trivial functional dependency and  multivalued   dependency set D that holds on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the candidate key(s) of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 that  E is not in 4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lain the issues exist with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decompose  E into 4NF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1990800" y="1328760"/>
            <a:ext cx="1332000" cy="48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"/>
          <p:cNvSpPr/>
          <p:nvPr/>
        </p:nvSpPr>
        <p:spPr>
          <a:xfrm>
            <a:off x="6215040" y="1592280"/>
            <a:ext cx="1170000" cy="484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菱形 4"/>
          <p:cNvSpPr/>
          <p:nvPr/>
        </p:nvSpPr>
        <p:spPr>
          <a:xfrm>
            <a:off x="3911760" y="2119320"/>
            <a:ext cx="1709640" cy="622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35854"/>
          <p:cNvSpPr/>
          <p:nvPr/>
        </p:nvSpPr>
        <p:spPr>
          <a:xfrm flipH="1">
            <a:off x="3325680" y="24271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990800" y="1814400"/>
            <a:ext cx="1332000" cy="1125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"/>
          <p:cNvSpPr/>
          <p:nvPr/>
        </p:nvSpPr>
        <p:spPr>
          <a:xfrm>
            <a:off x="6215040" y="2075040"/>
            <a:ext cx="1170000" cy="731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"/>
          <p:cNvSpPr/>
          <p:nvPr/>
        </p:nvSpPr>
        <p:spPr>
          <a:xfrm>
            <a:off x="4322880" y="1378080"/>
            <a:ext cx="906480" cy="39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10"/>
          <p:cNvSpPr/>
          <p:nvPr/>
        </p:nvSpPr>
        <p:spPr>
          <a:xfrm flipH="1">
            <a:off x="4765320" y="1774800"/>
            <a:ext cx="11160" cy="34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35854"/>
          <p:cNvSpPr/>
          <p:nvPr/>
        </p:nvSpPr>
        <p:spPr>
          <a:xfrm flipH="1">
            <a:off x="5634000" y="24271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03000" y="168120"/>
            <a:ext cx="71247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-R Modeling and Normal For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46080" y="974880"/>
            <a:ext cx="7661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answer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ve the no-trivial functional dependency and  multivalued   dependency set D that holds on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 = {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, 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, 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the candidate key(s) of E  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e that  E is not in 4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 is no-trivial , and A is not a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lain the issues exist with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nformation repetition, Insertion anomalies, Update diffic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decompose  E into 4NF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),  R3(A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"/>
          <p:cNvSpPr/>
          <p:nvPr/>
        </p:nvSpPr>
        <p:spPr>
          <a:xfrm>
            <a:off x="2066760" y="1057320"/>
            <a:ext cx="1332000" cy="485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5"/>
          <p:cNvSpPr/>
          <p:nvPr/>
        </p:nvSpPr>
        <p:spPr>
          <a:xfrm>
            <a:off x="6291360" y="1320840"/>
            <a:ext cx="1170000" cy="484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菱形 4"/>
          <p:cNvSpPr/>
          <p:nvPr/>
        </p:nvSpPr>
        <p:spPr>
          <a:xfrm>
            <a:off x="3987720" y="1847880"/>
            <a:ext cx="1709640" cy="622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35854"/>
          <p:cNvSpPr/>
          <p:nvPr/>
        </p:nvSpPr>
        <p:spPr>
          <a:xfrm flipH="1">
            <a:off x="3402000" y="215568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"/>
          <p:cNvSpPr/>
          <p:nvPr/>
        </p:nvSpPr>
        <p:spPr>
          <a:xfrm>
            <a:off x="2066760" y="1542960"/>
            <a:ext cx="1332000" cy="1125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6291360" y="1803240"/>
            <a:ext cx="1170000" cy="73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"/>
          <p:cNvSpPr/>
          <p:nvPr/>
        </p:nvSpPr>
        <p:spPr>
          <a:xfrm>
            <a:off x="4398840" y="1106640"/>
            <a:ext cx="906480" cy="39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10"/>
          <p:cNvSpPr/>
          <p:nvPr/>
        </p:nvSpPr>
        <p:spPr>
          <a:xfrm flipH="1">
            <a:off x="4841640" y="1503360"/>
            <a:ext cx="11160" cy="34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35854"/>
          <p:cNvSpPr/>
          <p:nvPr/>
        </p:nvSpPr>
        <p:spPr>
          <a:xfrm flipH="1">
            <a:off x="5710320" y="215568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286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verall Database Design Proces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1239480"/>
            <a:ext cx="79596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have assumed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uld have been generated 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verting E-R diagram to a set of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uld have bee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ingle relation containing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l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attribu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t are of interest (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niversal re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.Normalization break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to smaller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uld have been the result of s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d hoc design of rel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which we then test/convert to norm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794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R Model and Normal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0560" y="1239480"/>
            <a:ext cx="786636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n an E-R diagram is carefully designed, identifying all entities correctly, the tables generated from the E-R diagram should not need further norm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wever, in a real (imperfect) design, there can be functional dependencies from non-key attributes of an entity to other attributes of the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ntity with attribu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 a functional dependenc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_name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ood design would have made department an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What About Smaller Schema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31680" y="1176120"/>
            <a:ext cx="78930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ppose we had started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dept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name,salary,dept_name, building, bu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w would we know to split up (decompose) it into instructor  and department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  there were a sche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, building, bud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uld be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candidate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note as a functional dependenc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ame, salary, dep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pt_nam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uilding,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d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beca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not a candidate key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 may have to be repe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ndicates the need to decompo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745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enormalization for Perform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0280" y="134568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y want to use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non-normalized schema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example, display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ereq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long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quires jo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e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lterna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Use denormalized relation containing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s well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ere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th all abo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ster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ra space and extra execution time fo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ra coding work for programmer and possibility of error in extr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lterna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use a materialized view defin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e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nefits and drawbacks same as above, except no extra coding work for programmer and avoids possi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4"/>
          <p:cNvSpPr/>
          <p:nvPr/>
        </p:nvSpPr>
        <p:spPr>
          <a:xfrm>
            <a:off x="2766960" y="4525920"/>
            <a:ext cx="142920" cy="1429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0" y="182"/>
                </a:lnTo>
                <a:lnTo>
                  <a:pt x="182" y="0"/>
                </a:lnTo>
                <a:lnTo>
                  <a:pt x="182" y="182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628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ther 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96400" y="1128240"/>
            <a:ext cx="81090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 aspects of database design are not caught by 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s : 3 approaches to represent  the sam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1.   earnings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(</a:t>
            </a:r>
            <a:r>
              <a:rPr b="1" i="1" lang="en-US" sz="1800" spc="-1" strike="noStrike" u="sng">
                <a:solidFill>
                  <a:srgbClr val="0066cc"/>
                </a:solidFill>
                <a:uFillTx/>
                <a:latin typeface="Arial"/>
                <a:ea typeface="宋体"/>
              </a:rPr>
              <a:t>company_id, year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, amount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.   ernings_20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ompany_i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earning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arnings_201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company_i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earning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arnings_201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company_i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 earning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ove are in BCNF, but make querying across years difficult and needs new table each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3.  company_year (company_id, earnings_2012, earnings_2013,  </a:t>
            </a:r>
            <a:br>
              <a:rPr sz="1800"/>
            </a:br>
            <a:r>
              <a:rPr b="1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                        earnings_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so in BCNF, but also makes querying across years difficult and requires new attribute each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n example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osst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where values for one attribute become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d in spreadsheets, and in data analysis tool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What About Smaller Schema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0800" y="1149480"/>
            <a:ext cx="78930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 all decompositions are good.  Suppose we decom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mployee(ID, name, street, city, salary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mployee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mployee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reet, city, sal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next slide shows how we lose information -- we cannot reconstruct the origin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lation -- and so, this 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lossy decom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 Lossy Decompos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9" name="Picture 5" descr="8"/>
          <p:cNvPicPr/>
          <p:nvPr/>
        </p:nvPicPr>
        <p:blipFill>
          <a:blip r:embed="rId1"/>
          <a:stretch/>
        </p:blipFill>
        <p:spPr>
          <a:xfrm>
            <a:off x="2192400" y="1077840"/>
            <a:ext cx="60562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JL Sun</cp:lastModifiedBy>
  <cp:lastPrinted>2005-01-10T21:51:57Z</cp:lastPrinted>
  <dcterms:modified xsi:type="dcterms:W3CDTF">2021-04-18T13:27:33Z</dcterms:modified>
  <cp:revision>593</cp:revision>
  <dc:subject/>
  <dc:title>Chapter 1:  Introduction</dc:title>
</cp:coreProperties>
</file>