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997700" cy="9283700"/>
  <p:custShowLst>
    <p:custShow name="Custom Show 1" id="0">
      <p:sldLst>
        <p:sld r:id="rId14"/>
        <p:sld r:id="rId37"/>
        <p:sld r:id="rId33"/>
        <p:sld r:id="rId36"/>
        <p:sld r:id="rId44"/>
        <p:sld r:id="rId17"/>
        <p:sld r:id="rId18"/>
        <p:sld r:id="rId13"/>
        <p:sld r:id="rId34"/>
        <p:sld r:id="rId35"/>
        <p:sld r:id="rId4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59412E-FDD0-430E-A282-84EDDC82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1D4E4A-9B31-415E-8B48-E27232A4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6501D1-286D-4610-AF82-A2C91541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4B2AD2-B4FD-478A-922F-3D25DCE2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5B0537-246D-4389-B57F-0797D6FB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0E3061-D89F-40DA-8A3C-D8D412C0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A56B12-E12C-49E1-901D-FFD96206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E76C00-99B9-4304-9FC4-8B3EAD71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587511-9933-48B0-84BA-7A9735B3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5DD230-ACAD-4284-8165-87CBDDA6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2C690C-2788-4BB8-9962-1D825D78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0DCC14-4965-4712-AEAB-1757C701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DC930A-6876-4DD0-A486-8BCFAEE8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24F613-E994-4E0F-99FB-92B715BA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800CF6-9778-4CD1-9AD3-720CE9EB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508795-5EF2-4750-BEDD-212418A7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160514-2086-4568-8608-19D0E3D5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F241E9-8721-403F-B9BB-DFCDB8FDF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85FB73-DBFD-476E-A762-91B4749C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93C592-C554-4C24-82D4-1FE07B66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E56A62-BB3D-473B-A9C5-6E84DCF79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1B6F23-4CA4-4811-9F47-2666C576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C90C2B-F02E-4F50-B6D5-DA668C4AB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5A320E-18B6-4549-84BC-A2ECBE39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302B09-D3B8-4AEB-AC6B-8403EB62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D73FEC-3D9F-4DC3-A01E-1F0B054D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8EC9F9-55EF-4742-9D44-E4BBC1EC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9F699C-8A79-4924-BAE8-4B97F8C0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ADBA2F-67BA-4E7F-8F01-0636E5B1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74BA01-4198-4F8A-8BED-CF79E65E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A77244-F85A-4E49-80BF-25584104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F0BD98-672A-4E2A-AAEF-C71E6C41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0E0B67-9FE9-4547-B4E9-BE678465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F5EFE9-6B69-40DA-8EC5-DD5C2A01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39CCAD-6992-425F-BAFA-164BE082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5882BE-1D25-491F-83A5-99074CBC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52745E-EA8D-4D93-8388-38A006F04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159BC1-FA97-4073-8AD8-FB1078AF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76099A-E391-445C-B7C9-5B91A9F1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F501B4-5F04-47A7-800D-F13DB72C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E360BA-5597-4521-BD71-BABF027EB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7C372B-387D-4D92-97C4-2118B0EC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2AA981-578D-464D-AD03-BF7E6FA3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BE765A-1C1C-479A-9D78-582486BB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73DD1D-C1F8-4348-8DB1-07E2C135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B6A838-FDBE-463B-93A2-DCBA65CE8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279106-F340-446D-A543-961A18F1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CF7916-ACFB-4A80-A21B-49B32001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F51580-44C7-47F6-A7AF-DB118299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80EE-05E6-4620-91D4-F97609A60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02BD-CF34-4886-8823-9FC381AF3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F6A6-4AD7-403F-9C69-5DAEC660D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5FD1-2341-4754-801C-2ED3826CB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9C3-7C3B-4903-AD07-C8E9ED67BF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B78-F23F-451C-949A-ECE680A78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F51-ECA3-4A0C-A0B1-4D9931117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F16-760F-4953-8C31-AD736D434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9B7-DDA3-464A-915D-46D9BAEB76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286-61E9-463A-B3D0-BFA1A2457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BA9-87CF-4FC3-94F4-2D5F40409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31F8-5154-459A-B0C8-EC650A205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7BF-F952-4529-9E54-90E9A9DB6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1A4-318F-4C43-B905-C5B8371E1B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CD5-75AF-4BF1-A927-89A87347B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677-8564-4C2D-8775-1C09B4135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623-C93F-4EDB-A01F-D9F71D7B0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76EE-77F1-45DC-97ED-85497801E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A4ED-E2D5-4712-913A-7D7D51104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CD9E-7D00-4F2C-8E57-70473BEC1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1E8B-A8CD-4AB0-97D8-DD65E4DCC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A5AE-A4BF-4B00-B92A-3F1246FC4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D3F5-4955-4FA6-B654-2364CB356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3C0F-D233-4FCB-9676-D9D4DE6BD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049-E3D0-402F-825D-CA0682B165F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5E3E3CE3-D48E-4661-891F-F49692CC7EF4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A02-3771-4943-A061-D5A307A7881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80" y="1698120"/>
            <a:ext cx="8584920" cy="24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hapter 2: Introduction to Relational Model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hapter 6.1: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Relational Algebra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ma Diagram for University Databas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38040" y="735120"/>
            <a:ext cx="8529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关系代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元组关系演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域关系演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61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ix basic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ject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ion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differenc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rtesian product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笛卡尔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: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name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operators take one or  two relations as inputs and produce a new relation as a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9848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lation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498840" y="1449360"/>
            <a:ext cx="1887480" cy="3876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046160" y="372168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=B ^ D &gt; 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le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86124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tation: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called th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selection pred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fined as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 = {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(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r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formula in propositional calculus consisting of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term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ed by :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no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ach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on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&lt;attribute&gt;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&lt;attribut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&lt;attribute&gt;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&lt;consta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one of: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=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, &gt;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. &lt;.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xample of selection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Physic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alary 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90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Physics”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salary 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9000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Project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8000" y="10778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04640" y="365904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2443320" y="1189080"/>
            <a:ext cx="2708280" cy="4430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723960" y="3597120"/>
            <a:ext cx="1468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,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Proje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re attribute nam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relation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result is defined as the rel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lumns obtained by erasing the columns that are not 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plicate rows removed from result, since relations are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To elimin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ttribu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D, 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440160" y="1224000"/>
                <a:ext cx="1914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Union Operation – Exampl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98480" y="3238560"/>
            <a:ext cx="7029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986200" y="1138320"/>
            <a:ext cx="23572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Un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ation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ed 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o be val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ust ha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(same number of 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 The attribute domains must b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compat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example: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lum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als with the same type of values as does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colum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to find all courses taught in the Fall 2009 semester, or in the Spring 2010 semester, or in bo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emester=“Fall”  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year=200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emester=“Spring”  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year=20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88"/>
              </a:spcBef>
              <a:buNone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404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t difference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98480" y="3220920"/>
            <a:ext cx="7029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 –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21040" y="1211400"/>
            <a:ext cx="255420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(or Table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t Differenc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49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t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–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fined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–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= {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t differences must be taken betwee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compati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re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must have th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s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ttribute domains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ust be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xample: to find all courses taught in the Fall 2009 semester, but not in the Spring 2010 semes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emester=“Fall”  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year=200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  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emester=“Spring”  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year=20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732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artesian-Product Operation – 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artesian-Produ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88560" y="1077480"/>
            <a:ext cx="562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ume that attributes of r(R) and s(S) are disjoint.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(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are not disjoint, then renaming must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omposition of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build expressions using multipl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x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451320" y="291636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Text Box 25"/>
          <p:cNvSpPr/>
          <p:nvPr/>
        </p:nvSpPr>
        <p:spPr>
          <a:xfrm>
            <a:off x="2438280" y="5610240"/>
            <a:ext cx="184320" cy="366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1" descr=""/>
          <p:cNvPicPr/>
          <p:nvPr/>
        </p:nvPicPr>
        <p:blipFill>
          <a:blip r:embed="rId1"/>
          <a:stretch/>
        </p:blipFill>
        <p:spPr>
          <a:xfrm>
            <a:off x="2544840" y="1949400"/>
            <a:ext cx="175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ows us to name, and therefore to refer to, the results of relational-algebra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ows us to refer to a relation by more than on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turns the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der the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a relational-algebra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as ar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turns the result of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der the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with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tributes renam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….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671920" y="3944880"/>
                <a:ext cx="2979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8480" y="1077840"/>
            <a:ext cx="81532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in the Physics department, along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all courses they have ta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30080" y="1841400"/>
            <a:ext cx="866160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20000"/>
              </a:lnSpc>
              <a:spcBef>
                <a:spcPts val="876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uery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name,course_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hysics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ID=teaches.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857160" y="3427560"/>
            <a:ext cx="866160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20000"/>
              </a:lnSpc>
              <a:spcBef>
                <a:spcPts val="876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uery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name,course_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ID=teaches.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hysics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8480" y="1077840"/>
            <a:ext cx="81532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in the Physics department, along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title of all courses they have ta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30080" y="1841400"/>
            <a:ext cx="86616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20000"/>
              </a:lnSpc>
              <a:spcBef>
                <a:spcPts val="876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ue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name, course.course_id. course.titl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hysics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ID=teaches.ID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teaches.course_id=course.course_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x cours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07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largest salary in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ep 1: find instructor salaries that are less than some other instructor salary (i.e. no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a cop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der a new n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 &lt; d.salary  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ep 2: Find the larges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structor) –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 &lt; d,salary  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074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d the largest salary in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al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structor) –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or.salary &lt; d.salary  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1160640" y="2743200"/>
            <a:ext cx="2540880" cy="1223640"/>
            <a:chOff x="1160640" y="2743200"/>
            <a:chExt cx="2540880" cy="1223640"/>
          </a:xfrm>
        </p:grpSpPr>
        <p:sp>
          <p:nvSpPr>
            <p:cNvPr id="207" name="Rectangle 12"/>
            <p:cNvSpPr/>
            <p:nvPr/>
          </p:nvSpPr>
          <p:spPr>
            <a:xfrm>
              <a:off x="1160640" y="2747880"/>
              <a:ext cx="157104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1160640" y="3128760"/>
              <a:ext cx="15710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2731680" y="2743200"/>
              <a:ext cx="969840" cy="3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2736720" y="3124080"/>
              <a:ext cx="964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0"/>
          <p:cNvGrpSpPr/>
          <p:nvPr/>
        </p:nvGrpSpPr>
        <p:grpSpPr>
          <a:xfrm>
            <a:off x="1177920" y="4040280"/>
            <a:ext cx="3537000" cy="2612880"/>
            <a:chOff x="1177920" y="4040280"/>
            <a:chExt cx="3537000" cy="2612880"/>
          </a:xfrm>
        </p:grpSpPr>
        <p:sp>
          <p:nvSpPr>
            <p:cNvPr id="212" name="Rectangle 12"/>
            <p:cNvSpPr/>
            <p:nvPr/>
          </p:nvSpPr>
          <p:spPr>
            <a:xfrm>
              <a:off x="1177920" y="4044960"/>
              <a:ext cx="1571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strtuctor.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4"/>
            <p:cNvSpPr/>
            <p:nvPr/>
          </p:nvSpPr>
          <p:spPr>
            <a:xfrm>
              <a:off x="1177920" y="4425840"/>
              <a:ext cx="1571400" cy="22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2749320" y="4040280"/>
              <a:ext cx="1965600" cy="3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structor.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2754360" y="4421160"/>
              <a:ext cx="1960560" cy="22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0"/>
          <p:cNvGrpSpPr/>
          <p:nvPr/>
        </p:nvGrpSpPr>
        <p:grpSpPr>
          <a:xfrm>
            <a:off x="4714920" y="4040280"/>
            <a:ext cx="2541600" cy="2619360"/>
            <a:chOff x="4714920" y="4040280"/>
            <a:chExt cx="2541600" cy="2619360"/>
          </a:xfrm>
        </p:grpSpPr>
        <p:sp>
          <p:nvSpPr>
            <p:cNvPr id="217" name="Rectangle 12"/>
            <p:cNvSpPr/>
            <p:nvPr/>
          </p:nvSpPr>
          <p:spPr>
            <a:xfrm>
              <a:off x="4714920" y="4044960"/>
              <a:ext cx="1571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.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714920" y="4425840"/>
              <a:ext cx="1571400" cy="22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6286320" y="4040280"/>
              <a:ext cx="970200" cy="3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.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291360" y="4421160"/>
              <a:ext cx="965160" cy="22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Formal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basic expression in the relational algebra consists of either one of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lation in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onstant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be relational-algebra expressions; the following are all relational-algebra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predicate on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list consisting of some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x is the new name for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asic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ally, given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…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subset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…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us, a relation is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tupl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where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 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 {Wu, Mozart, Gold, Singh, …}         /* set of all instructor nam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 {Music, Physics, Finance, …} /* set of all department names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=  {40000, 80000, 87000,90000 …} /* set of all sal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        (Wu,   Finance,  90000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(Mozart,    Music, 4000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(Gold,    Physics, 8700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(Singh, Finance,  80000)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relatio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me  x  dept_name  x 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dditional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define additional operations that do not add any power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al algebra, but that simplify common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intersect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:  r  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ignment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er join : r       s,  r      s, r     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vision Operato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 flipV="1" rot="16200000">
            <a:off x="2741040" y="246528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5"/>
          <p:cNvGrpSpPr/>
          <p:nvPr/>
        </p:nvGrpSpPr>
        <p:grpSpPr>
          <a:xfrm>
            <a:off x="2520720" y="3193920"/>
            <a:ext cx="372600" cy="177840"/>
            <a:chOff x="2520720" y="3193920"/>
            <a:chExt cx="372600" cy="177840"/>
          </a:xfrm>
        </p:grpSpPr>
        <p:sp>
          <p:nvSpPr>
            <p:cNvPr id="227" name="AutoShape 26"/>
            <p:cNvSpPr/>
            <p:nvPr/>
          </p:nvSpPr>
          <p:spPr>
            <a:xfrm flipV="1" rot="16200000">
              <a:off x="2710080" y="3188520"/>
              <a:ext cx="177840" cy="188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7"/>
            <p:cNvSpPr/>
            <p:nvPr/>
          </p:nvSpPr>
          <p:spPr>
            <a:xfrm flipH="1">
              <a:off x="2525040" y="319644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 flipH="1">
              <a:off x="2520720" y="3362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3427200" y="3218040"/>
            <a:ext cx="264960" cy="156960"/>
            <a:chOff x="3427200" y="3218040"/>
            <a:chExt cx="264960" cy="156960"/>
          </a:xfrm>
        </p:grpSpPr>
        <p:sp>
          <p:nvSpPr>
            <p:cNvPr id="231" name="AutoShape 32"/>
            <p:cNvSpPr/>
            <p:nvPr/>
          </p:nvSpPr>
          <p:spPr>
            <a:xfrm flipV="1" rot="16200000">
              <a:off x="3427200" y="3218400"/>
              <a:ext cx="15228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H="1">
              <a:off x="3590640" y="32180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H="1">
              <a:off x="3590640" y="33750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3"/>
          <p:cNvGrpSpPr/>
          <p:nvPr/>
        </p:nvGrpSpPr>
        <p:grpSpPr>
          <a:xfrm>
            <a:off x="4084200" y="3219120"/>
            <a:ext cx="387720" cy="152280"/>
            <a:chOff x="4084200" y="3219120"/>
            <a:chExt cx="387720" cy="152280"/>
          </a:xfrm>
        </p:grpSpPr>
        <p:sp>
          <p:nvSpPr>
            <p:cNvPr id="235" name="AutoShape 24"/>
            <p:cNvSpPr/>
            <p:nvPr/>
          </p:nvSpPr>
          <p:spPr>
            <a:xfrm flipV="1" rot="16200000">
              <a:off x="4198680" y="3218760"/>
              <a:ext cx="15228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 flipH="1">
              <a:off x="4089600" y="32288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 flipH="1">
              <a:off x="4084200" y="3366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7"/>
            <p:cNvSpPr/>
            <p:nvPr/>
          </p:nvSpPr>
          <p:spPr>
            <a:xfrm flipH="1">
              <a:off x="4370400" y="33667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8"/>
            <p:cNvSpPr/>
            <p:nvPr/>
          </p:nvSpPr>
          <p:spPr>
            <a:xfrm flipH="1">
              <a:off x="4350960" y="32194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t-Intersect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at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u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a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e 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re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=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–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–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4040" y="234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et-Intersection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98480" y="15098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874960" y="1550880"/>
            <a:ext cx="26575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19440" y="1103400"/>
            <a:ext cx="18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tation:  r   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Natural-Joi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98480" y="1495440"/>
            <a:ext cx="82152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,  r     s 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, C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, B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schema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, B, C, D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=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r.A, r.B, r.C, r.D, s.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r.B = s.B 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 r.D = s.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x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 flipV="1" rot="16200000">
            <a:off x="2296800" y="121860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 flipV="1" rot="16200000">
            <a:off x="1787400" y="5650560"/>
            <a:ext cx="152280" cy="152640"/>
          </a:xfrm>
          <a:prstGeom prst="flowChartCollat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 flipV="1" rot="16200000">
            <a:off x="2095200" y="189324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19000" y="3654360"/>
            <a:ext cx="7029360" cy="996120"/>
            <a:chOff x="819000" y="3654360"/>
            <a:chExt cx="7029360" cy="996120"/>
          </a:xfrm>
        </p:grpSpPr>
        <p:sp>
          <p:nvSpPr>
            <p:cNvPr id="254" name="Rectangle 5"/>
            <p:cNvSpPr/>
            <p:nvPr/>
          </p:nvSpPr>
          <p:spPr>
            <a:xfrm>
              <a:off x="819000" y="365436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cc33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    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6"/>
            <p:cNvSpPr/>
            <p:nvPr/>
          </p:nvSpPr>
          <p:spPr>
            <a:xfrm flipV="1" rot="16200000">
              <a:off x="998640" y="413424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2913120" y="1170000"/>
            <a:ext cx="4276800" cy="46418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 flipV="1" rot="16200000">
            <a:off x="1428480" y="376164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Natural Join and Theta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61680" y="1093680"/>
            <a:ext cx="8178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the names of all instructors in the Comp. Sci. department together with the course titles of all the courses that the instructors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ame, 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=“Comp. Sci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is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 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is equivalent to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     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join is 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is equivalent to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ches    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theta 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peration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is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flipV="1" rot="16200000">
            <a:off x="3823560" y="274464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 flipV="1" rot="16200000">
            <a:off x="7619760" y="196632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 flipV="1" rot="16200000">
            <a:off x="6491160" y="195012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 flipV="1" rot="16200000">
            <a:off x="2590560" y="27424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flipV="1" rot="16200000">
            <a:off x="2576160" y="29710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 flipV="1" rot="16200000">
            <a:off x="3825720" y="301680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 flipV="1" rot="16200000">
            <a:off x="2523960" y="375660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flipV="1" rot="16200000">
            <a:off x="2361960" y="40078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flipV="1" rot="16200000">
            <a:off x="1766520" y="486180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 flipV="1" rot="16200000">
            <a:off x="3871800" y="439488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extension of the join operation that avoids loss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utes the join and then adds tuples form one relation that does not match tuples in the other relation to the result of the jo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nu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ignifies that the value is unknown or does not ex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comparisons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re (roughly speaking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y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shall study precise meaning of comparisons with null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86124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798480" y="3581280"/>
            <a:ext cx="7029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ach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2438280" y="4089240"/>
            <a:ext cx="3276720" cy="1219320"/>
            <a:chOff x="2438280" y="4089240"/>
            <a:chExt cx="3276720" cy="1219320"/>
          </a:xfrm>
        </p:grpSpPr>
        <p:sp>
          <p:nvSpPr>
            <p:cNvPr id="276" name="Rectangle 6"/>
            <p:cNvSpPr/>
            <p:nvPr/>
          </p:nvSpPr>
          <p:spPr>
            <a:xfrm>
              <a:off x="2438280" y="4089240"/>
              <a:ext cx="1676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7"/>
            <p:cNvSpPr/>
            <p:nvPr/>
          </p:nvSpPr>
          <p:spPr>
            <a:xfrm>
              <a:off x="4114800" y="40892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urs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8"/>
            <p:cNvSpPr/>
            <p:nvPr/>
          </p:nvSpPr>
          <p:spPr>
            <a:xfrm>
              <a:off x="2438280" y="4470480"/>
              <a:ext cx="16765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b0f0"/>
                  </a:solidFill>
                  <a:latin typeface="Arial"/>
                  <a:ea typeface="宋体"/>
                </a:rPr>
                <a:t>767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4114800" y="4470480"/>
              <a:ext cx="1600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S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-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b0f0"/>
                  </a:solidFill>
                  <a:latin typeface="Arial"/>
                  <a:ea typeface="宋体"/>
                </a:rPr>
                <a:t>BIO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0"/>
          <p:cNvGrpSpPr/>
          <p:nvPr/>
        </p:nvGrpSpPr>
        <p:grpSpPr>
          <a:xfrm>
            <a:off x="2044800" y="1951200"/>
            <a:ext cx="4292640" cy="1223640"/>
            <a:chOff x="2044800" y="1951200"/>
            <a:chExt cx="4292640" cy="1223640"/>
          </a:xfrm>
        </p:grpSpPr>
        <p:sp>
          <p:nvSpPr>
            <p:cNvPr id="281" name="Rectangle 11"/>
            <p:cNvSpPr/>
            <p:nvPr/>
          </p:nvSpPr>
          <p:spPr>
            <a:xfrm>
              <a:off x="5194440" y="2336760"/>
              <a:ext cx="1143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. Sc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2044800" y="1955880"/>
              <a:ext cx="1571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189400" y="1955880"/>
              <a:ext cx="112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t_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2044800" y="2336760"/>
              <a:ext cx="1571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3621240" y="1951200"/>
              <a:ext cx="1573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3621240" y="2332080"/>
              <a:ext cx="1573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iniv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oz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4"/>
          <p:cNvSpPr/>
          <p:nvPr/>
        </p:nvSpPr>
        <p:spPr>
          <a:xfrm>
            <a:off x="885960" y="3408480"/>
            <a:ext cx="42354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ft Outer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     te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2147760" y="3809880"/>
            <a:ext cx="414360" cy="209520"/>
            <a:chOff x="2147760" y="3809880"/>
            <a:chExt cx="414360" cy="209520"/>
          </a:xfrm>
        </p:grpSpPr>
        <p:sp>
          <p:nvSpPr>
            <p:cNvPr id="289" name="AutoShape 26"/>
            <p:cNvSpPr/>
            <p:nvPr/>
          </p:nvSpPr>
          <p:spPr>
            <a:xfrm flipV="1" rot="16200000">
              <a:off x="2352600" y="380988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7"/>
            <p:cNvSpPr/>
            <p:nvPr/>
          </p:nvSpPr>
          <p:spPr>
            <a:xfrm flipH="1">
              <a:off x="2152080" y="38131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H="1">
              <a:off x="2147760" y="40086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99156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oin </a:t>
            </a:r>
            <a:br>
              <a:rPr sz="1800"/>
            </a:br>
            <a:br>
              <a:rPr sz="16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 t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 flipV="1" rot="16200000">
            <a:off x="2309400" y="16408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508040" y="2149560"/>
            <a:ext cx="12049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327560" y="2149560"/>
            <a:ext cx="1325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508040" y="2530440"/>
            <a:ext cx="12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4327560" y="2530440"/>
            <a:ext cx="13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. S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5621400" y="2149560"/>
            <a:ext cx="14637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635800" y="2530440"/>
            <a:ext cx="14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S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27360" y="214956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2727360" y="253044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riniv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1533600" y="4302000"/>
            <a:ext cx="12049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0"/>
          <p:cNvSpPr/>
          <p:nvPr/>
        </p:nvSpPr>
        <p:spPr>
          <a:xfrm>
            <a:off x="4352760" y="4302000"/>
            <a:ext cx="1325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1533600" y="4683240"/>
            <a:ext cx="123336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5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4352760" y="4683240"/>
            <a:ext cx="1357560" cy="8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. S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5646600" y="4302000"/>
            <a:ext cx="14637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5710320" y="4683240"/>
            <a:ext cx="141264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S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2752560" y="4302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2752560" y="4668840"/>
            <a:ext cx="1600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riniv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Moz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806400" y="3405240"/>
            <a:ext cx="40705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ull Outer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    te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2052360" y="3825720"/>
            <a:ext cx="387720" cy="152640"/>
            <a:chOff x="2052360" y="3825720"/>
            <a:chExt cx="387720" cy="152640"/>
          </a:xfrm>
        </p:grpSpPr>
        <p:sp>
          <p:nvSpPr>
            <p:cNvPr id="314" name="AutoShape 24"/>
            <p:cNvSpPr/>
            <p:nvPr/>
          </p:nvSpPr>
          <p:spPr>
            <a:xfrm flipV="1" rot="16200000">
              <a:off x="2166480" y="3825720"/>
              <a:ext cx="15264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 flipH="1">
              <a:off x="2057760" y="38354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 flipH="1">
              <a:off x="2052360" y="39733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 flipH="1">
              <a:off x="2338560" y="39733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 flipH="1">
              <a:off x="2319120" y="3825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30"/>
          <p:cNvSpPr/>
          <p:nvPr/>
        </p:nvSpPr>
        <p:spPr>
          <a:xfrm>
            <a:off x="849240" y="1103400"/>
            <a:ext cx="40705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ight Outer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structor        te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1"/>
          <p:cNvGrpSpPr/>
          <p:nvPr/>
        </p:nvGrpSpPr>
        <p:grpSpPr>
          <a:xfrm>
            <a:off x="2112840" y="1522440"/>
            <a:ext cx="264960" cy="156960"/>
            <a:chOff x="2112840" y="1522440"/>
            <a:chExt cx="264960" cy="156960"/>
          </a:xfrm>
        </p:grpSpPr>
        <p:sp>
          <p:nvSpPr>
            <p:cNvPr id="321" name="AutoShape 32"/>
            <p:cNvSpPr/>
            <p:nvPr/>
          </p:nvSpPr>
          <p:spPr>
            <a:xfrm flipV="1" rot="16200000">
              <a:off x="2112840" y="1522440"/>
              <a:ext cx="152280" cy="15264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 flipH="1">
              <a:off x="2275920" y="15224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 flipH="1">
              <a:off x="2275920" y="16794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39"/>
          <p:cNvSpPr/>
          <p:nvPr/>
        </p:nvSpPr>
        <p:spPr>
          <a:xfrm>
            <a:off x="1685880" y="2028960"/>
            <a:ext cx="1204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4505400" y="2028960"/>
            <a:ext cx="1338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685880" y="2398680"/>
            <a:ext cx="1233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76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2"/>
          <p:cNvSpPr/>
          <p:nvPr/>
        </p:nvSpPr>
        <p:spPr>
          <a:xfrm>
            <a:off x="4505400" y="2397240"/>
            <a:ext cx="135720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. S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3"/>
          <p:cNvSpPr/>
          <p:nvPr/>
        </p:nvSpPr>
        <p:spPr>
          <a:xfrm>
            <a:off x="5838840" y="2028960"/>
            <a:ext cx="14238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4"/>
          <p:cNvSpPr/>
          <p:nvPr/>
        </p:nvSpPr>
        <p:spPr>
          <a:xfrm>
            <a:off x="5862600" y="2397240"/>
            <a:ext cx="1413000" cy="8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S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BIO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5"/>
          <p:cNvSpPr/>
          <p:nvPr/>
        </p:nvSpPr>
        <p:spPr>
          <a:xfrm>
            <a:off x="2905200" y="202896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6"/>
          <p:cNvSpPr/>
          <p:nvPr/>
        </p:nvSpPr>
        <p:spPr>
          <a:xfrm>
            <a:off x="2905200" y="2395440"/>
            <a:ext cx="1600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riniv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1838160" y="4365720"/>
            <a:ext cx="1204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4657680" y="4365720"/>
            <a:ext cx="1338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838160" y="4735440"/>
            <a:ext cx="1233720" cy="11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5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76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4657680" y="4734000"/>
            <a:ext cx="135720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. S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5991120" y="4365720"/>
            <a:ext cx="1424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2"/>
          <p:cNvSpPr/>
          <p:nvPr/>
        </p:nvSpPr>
        <p:spPr>
          <a:xfrm>
            <a:off x="6014880" y="4734000"/>
            <a:ext cx="1413000" cy="11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S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N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BIO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3"/>
          <p:cNvSpPr/>
          <p:nvPr/>
        </p:nvSpPr>
        <p:spPr>
          <a:xfrm>
            <a:off x="3057480" y="436572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4"/>
          <p:cNvSpPr/>
          <p:nvPr/>
        </p:nvSpPr>
        <p:spPr>
          <a:xfrm>
            <a:off x="3057480" y="4732200"/>
            <a:ext cx="16002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riniv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Moz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3040" y="1219320"/>
            <a:ext cx="712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owed values for eac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域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values are (normally) required to b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omic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原子的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at is, indi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al valu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ll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空值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member of ever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ll value causes complications in the definition of many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Outer Join using 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98120" y="10936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er join can be expressed using bas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 can be 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      s)  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∏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x 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, …,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 can be 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      s)  U 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, …,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 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∏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 can be 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r      s) 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∏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x 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, …,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, …,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 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∏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    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836360" y="1598760"/>
            <a:ext cx="308160" cy="193680"/>
            <a:chOff x="1836360" y="1598760"/>
            <a:chExt cx="308160" cy="193680"/>
          </a:xfrm>
        </p:grpSpPr>
        <p:sp>
          <p:nvSpPr>
            <p:cNvPr id="343" name="AutoShape 5"/>
            <p:cNvSpPr/>
            <p:nvPr/>
          </p:nvSpPr>
          <p:spPr>
            <a:xfrm flipV="1" rot="16200000">
              <a:off x="1969920" y="1617840"/>
              <a:ext cx="193680" cy="155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"/>
            <p:cNvSpPr/>
            <p:nvPr/>
          </p:nvSpPr>
          <p:spPr>
            <a:xfrm flipH="1">
              <a:off x="1839960" y="1601640"/>
              <a:ext cx="15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"/>
            <p:cNvSpPr/>
            <p:nvPr/>
          </p:nvSpPr>
          <p:spPr>
            <a:xfrm flipH="1">
              <a:off x="1836360" y="1782360"/>
              <a:ext cx="15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8"/>
          <p:cNvSpPr/>
          <p:nvPr/>
        </p:nvSpPr>
        <p:spPr>
          <a:xfrm flipV="1" rot="16200000">
            <a:off x="2064600" y="196200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flipV="1" rot="16200000">
            <a:off x="4016160" y="19774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1"/>
          <p:cNvGrpSpPr/>
          <p:nvPr/>
        </p:nvGrpSpPr>
        <p:grpSpPr>
          <a:xfrm>
            <a:off x="1836360" y="2347920"/>
            <a:ext cx="264960" cy="157320"/>
            <a:chOff x="1836360" y="2347920"/>
            <a:chExt cx="264960" cy="157320"/>
          </a:xfrm>
        </p:grpSpPr>
        <p:sp>
          <p:nvSpPr>
            <p:cNvPr id="349" name="AutoShape 32"/>
            <p:cNvSpPr/>
            <p:nvPr/>
          </p:nvSpPr>
          <p:spPr>
            <a:xfrm flipV="1" rot="16200000">
              <a:off x="1836000" y="2349360"/>
              <a:ext cx="15264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 flipH="1">
              <a:off x="1999800" y="23479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4"/>
            <p:cNvSpPr/>
            <p:nvPr/>
          </p:nvSpPr>
          <p:spPr>
            <a:xfrm flipH="1">
              <a:off x="1999800" y="250524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8"/>
          <p:cNvSpPr/>
          <p:nvPr/>
        </p:nvSpPr>
        <p:spPr>
          <a:xfrm flipV="1" rot="16200000">
            <a:off x="2141280" y="269496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9"/>
          <p:cNvSpPr/>
          <p:nvPr/>
        </p:nvSpPr>
        <p:spPr>
          <a:xfrm flipV="1" rot="16200000">
            <a:off x="5719680" y="269460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3"/>
          <p:cNvGrpSpPr/>
          <p:nvPr/>
        </p:nvGrpSpPr>
        <p:grpSpPr>
          <a:xfrm>
            <a:off x="1777680" y="3082680"/>
            <a:ext cx="387720" cy="152280"/>
            <a:chOff x="1777680" y="3082680"/>
            <a:chExt cx="387720" cy="152280"/>
          </a:xfrm>
        </p:grpSpPr>
        <p:sp>
          <p:nvSpPr>
            <p:cNvPr id="355" name="AutoShape 24"/>
            <p:cNvSpPr/>
            <p:nvPr/>
          </p:nvSpPr>
          <p:spPr>
            <a:xfrm flipV="1" rot="16200000">
              <a:off x="1892160" y="3082320"/>
              <a:ext cx="15228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5"/>
            <p:cNvSpPr/>
            <p:nvPr/>
          </p:nvSpPr>
          <p:spPr>
            <a:xfrm flipH="1">
              <a:off x="1783080" y="30924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6"/>
            <p:cNvSpPr/>
            <p:nvPr/>
          </p:nvSpPr>
          <p:spPr>
            <a:xfrm flipH="1">
              <a:off x="1777680" y="3230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 flipH="1">
              <a:off x="2063880" y="323028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8"/>
            <p:cNvSpPr/>
            <p:nvPr/>
          </p:nvSpPr>
          <p:spPr>
            <a:xfrm flipH="1">
              <a:off x="2044440" y="30830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AutoShape 8"/>
          <p:cNvSpPr/>
          <p:nvPr/>
        </p:nvSpPr>
        <p:spPr>
          <a:xfrm flipV="1" rot="16200000">
            <a:off x="2113920" y="342576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9"/>
          <p:cNvSpPr/>
          <p:nvPr/>
        </p:nvSpPr>
        <p:spPr>
          <a:xfrm flipV="1" rot="16200000">
            <a:off x="4628520" y="417024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 flipV="1" rot="16200000">
            <a:off x="2868480" y="3801960"/>
            <a:ext cx="15264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7920" y="88848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 is possible for tuples to have a null value, deno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for some of thei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ignifies an unknown value or that a value does not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result of any arithmetic express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gregate functions simply ignore null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duplicate elimination and grouping, null is treated like any other value, and two nulls are assumed to be 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18640" y="1104480"/>
            <a:ext cx="77914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mparisons with null values return the special truth value: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ree-valued logic using the truth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: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     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     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= unknown,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= fals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SQL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valuates to true if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of 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redicate is treate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it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ssignmen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109160"/>
            <a:ext cx="72043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ssignment operati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provides a convenient way to express complex qu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rite query as a sequential program consist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series of assig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llowed by an expression whose value is displayed as a result of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ignment must always be made to a temporary relation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ivision Operat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78580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n relations r(R) and s(S), such that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, 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 is the largest relation t(R-S) such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t x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let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, 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D, 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s(course_id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=“Biolog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n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 gives us students who have taken all courses in the Biology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 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mp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m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m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-S,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m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em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8260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result to the right of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ssigned to the relation variable on the left of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8260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y use variable in subsequent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ivision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838080" y="1079640"/>
            <a:ext cx="7029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38080" y="4876920"/>
            <a:ext cx="7029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590920" y="4876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295960" y="13716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2590920" y="539604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295960" y="190512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467160" y="12193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12193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467160" y="1828800"/>
            <a:ext cx="4572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3924360" y="1828800"/>
            <a:ext cx="4572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3778200" y="49676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379840" y="275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nother Divis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270504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16224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2705040" y="1981080"/>
            <a:ext cx="457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162240" y="1981080"/>
            <a:ext cx="457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61944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07664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3619440" y="1981080"/>
            <a:ext cx="457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4076640" y="1981080"/>
            <a:ext cx="457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3384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4533840" y="1981080"/>
            <a:ext cx="457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838080" y="1079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838080" y="4660920"/>
            <a:ext cx="1295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09588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095880" y="1981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6553080" y="1371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6553080" y="1981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35053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39625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505320" y="5410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3962520" y="5410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4197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4419720" y="5410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3625560" y="4218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408360" y="25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300880" cy="4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Extended Relational-Algebra-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66116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eralized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greg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Generalized Proj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ds the projection operation by allowing arithmetic functions to be used in the projection list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ny relational-algebra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are arithmetic expressions involving constants and attributes in the schema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ve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(ID, name, dept_nam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lary) where salary is annual salary, get the same information but with monthly sa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D, name, dept_name, salary/1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instru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3517920" y="2179800"/>
                <a:ext cx="9507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,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,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06040" y="174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ggregate Functions and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ggregation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akes a collection of values and returns a single value as a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average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min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max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sum of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number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ggregate op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relational alge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ny relational-algebra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list of attributes on which to group (can be emp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n aggregat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n attribut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te: Some books/articles 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stead of      (Calligraphic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1889280" y="3438360"/>
                <a:ext cx="370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Picture 6" descr="CalG"/>
          <p:cNvPicPr/>
          <p:nvPr/>
        </p:nvPicPr>
        <p:blipFill>
          <a:blip r:embed="rId1"/>
          <a:srcRect l="0" t="0" r="88994" b="0"/>
          <a:stretch/>
        </p:blipFill>
        <p:spPr>
          <a:xfrm>
            <a:off x="2930400" y="3514680"/>
            <a:ext cx="336600" cy="425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CalG"/>
          <p:cNvPicPr/>
          <p:nvPr/>
        </p:nvPicPr>
        <p:blipFill>
          <a:blip r:embed="rId2"/>
          <a:srcRect l="0" t="0" r="88994" b="0"/>
          <a:stretch/>
        </p:blipFill>
        <p:spPr>
          <a:xfrm>
            <a:off x="5649840" y="5724360"/>
            <a:ext cx="336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Relation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)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structor_schema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 = (id, 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name, dept_name, salary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denot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schem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66cc"/>
                </a:solidFill>
                <a:latin typeface="Arial"/>
                <a:ea typeface="宋体"/>
              </a:rPr>
              <a:t>instructor (Instructor_sch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ggregate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98480" y="1077840"/>
            <a:ext cx="17654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8862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3434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8862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43434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8006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48006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798480" y="4343400"/>
            <a:ext cx="201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um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3962520" y="43434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3962520" y="48769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3" descr="CalG"/>
          <p:cNvPicPr/>
          <p:nvPr/>
        </p:nvPicPr>
        <p:blipFill>
          <a:blip r:embed="rId1"/>
          <a:srcRect l="0" t="0" r="88994" b="0"/>
          <a:stretch/>
        </p:blipFill>
        <p:spPr>
          <a:xfrm>
            <a:off x="1165320" y="4383000"/>
            <a:ext cx="336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ggregate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2600" y="1118880"/>
            <a:ext cx="686268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the average salary in each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v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066680" y="3835440"/>
            <a:ext cx="702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6" descr="3"/>
          <p:cNvPicPr/>
          <p:nvPr/>
        </p:nvPicPr>
        <p:blipFill>
          <a:blip r:embed="rId1"/>
          <a:stretch/>
        </p:blipFill>
        <p:spPr>
          <a:xfrm>
            <a:off x="652320" y="2571840"/>
            <a:ext cx="4056120" cy="3647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3"/>
          <p:cNvPicPr/>
          <p:nvPr/>
        </p:nvPicPr>
        <p:blipFill>
          <a:blip r:embed="rId2"/>
          <a:stretch/>
        </p:blipFill>
        <p:spPr>
          <a:xfrm>
            <a:off x="5629320" y="3122640"/>
            <a:ext cx="2411280" cy="2670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8"/>
          <p:cNvSpPr/>
          <p:nvPr/>
        </p:nvSpPr>
        <p:spPr>
          <a:xfrm>
            <a:off x="7129440" y="3228840"/>
            <a:ext cx="882720" cy="21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g_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9" descr="CalG"/>
          <p:cNvPicPr/>
          <p:nvPr/>
        </p:nvPicPr>
        <p:blipFill>
          <a:blip r:embed="rId3"/>
          <a:srcRect l="829" t="0" r="90241" b="0"/>
          <a:stretch/>
        </p:blipFill>
        <p:spPr>
          <a:xfrm>
            <a:off x="2455920" y="1589040"/>
            <a:ext cx="272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 of aggregation does not hav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use rename operation to give it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convenience, we permit renaming as part of aggregate op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498680" y="2717640"/>
            <a:ext cx="665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ept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v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(salary)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avg_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CalG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2913120" y="2795760"/>
            <a:ext cx="272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odification of th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1661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ontent of the database may be modified using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these operations can be expressed using the assignment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Multiset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re relational algebra removes all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aft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set relational algebra retains duplicates, to match SQL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duplicate retention was initially for efficiency, but is now a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set relational algebra defined as f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ion: has as many duplicates of a tuple as in  the input, if the tuple satisfies th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jection: one tuple per input tuple, even if it is a dupl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oss product:  If there ar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1.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ther operators similarly def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un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 copi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tersection: min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,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cop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difference: min(0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QL and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1, A2, .. 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, .., 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1, A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1,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,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CalG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2806560" y="4557600"/>
            <a:ext cx="273240" cy="4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SQL and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re generally, the non-aggregated attribu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lause may be a subse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ttributes, in which case the equivalence is as follows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1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1,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,sumA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,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u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sumA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CalG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3332160" y="3867120"/>
            <a:ext cx="272880" cy="4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Relation Ins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809136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urrent valu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io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of a relation are specified by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el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u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represent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2"/>
          <p:cNvPicPr/>
          <p:nvPr/>
        </p:nvPicPr>
        <p:blipFill>
          <a:blip r:embed="rId1"/>
          <a:stretch/>
        </p:blipFill>
        <p:spPr>
          <a:xfrm>
            <a:off x="1442880" y="267984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7043040" y="20858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3238560" y="22906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608360" y="23446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5819400" y="23176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990480" y="32749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 flipV="1">
            <a:off x="6742080" y="32396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6729120" y="3459240"/>
            <a:ext cx="3697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6717960" y="3470400"/>
            <a:ext cx="392040" cy="31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6729480" y="3479760"/>
            <a:ext cx="38088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3360" y="12240"/>
            <a:ext cx="80769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 are Unordere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98480" y="1077840"/>
            <a:ext cx="77360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tuples is irrelevant (tuples may be stored in an arbitrary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unordere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"/>
          <p:cNvPicPr/>
          <p:nvPr/>
        </p:nvPicPr>
        <p:blipFill>
          <a:blip r:embed="rId1"/>
          <a:stretch/>
        </p:blipFill>
        <p:spPr>
          <a:xfrm>
            <a:off x="1905120" y="2208240"/>
            <a:ext cx="4952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0040" y="1077480"/>
            <a:ext cx="7978680" cy="531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perkey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超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ufficient to identify a unique tuple of each possibl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nd {ID,name} are both superkey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didate key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候选健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candidate keys is selected to b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key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主键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eign key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外键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: value in one relation must appear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: teaching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fere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: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4807080" y="5199120"/>
            <a:ext cx="4292640" cy="1223640"/>
            <a:chOff x="4807080" y="5199120"/>
            <a:chExt cx="4292640" cy="1223640"/>
          </a:xfrm>
        </p:grpSpPr>
        <p:sp>
          <p:nvSpPr>
            <p:cNvPr id="129" name="Rectangle 11"/>
            <p:cNvSpPr/>
            <p:nvPr/>
          </p:nvSpPr>
          <p:spPr>
            <a:xfrm>
              <a:off x="7956720" y="5584680"/>
              <a:ext cx="1143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. Sc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4807080" y="5203800"/>
              <a:ext cx="1571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7951680" y="5203800"/>
              <a:ext cx="112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t_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807080" y="5584680"/>
              <a:ext cx="1571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1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6383520" y="5199120"/>
              <a:ext cx="1573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"/>
            <p:cNvSpPr/>
            <p:nvPr/>
          </p:nvSpPr>
          <p:spPr>
            <a:xfrm>
              <a:off x="6383520" y="5580000"/>
              <a:ext cx="1573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iniv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z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5"/>
          <p:cNvGrpSpPr/>
          <p:nvPr/>
        </p:nvGrpSpPr>
        <p:grpSpPr>
          <a:xfrm>
            <a:off x="925560" y="4894200"/>
            <a:ext cx="3276720" cy="1219320"/>
            <a:chOff x="925560" y="4894200"/>
            <a:chExt cx="3276720" cy="1219320"/>
          </a:xfrm>
        </p:grpSpPr>
        <p:sp>
          <p:nvSpPr>
            <p:cNvPr id="136" name="Rectangle 6"/>
            <p:cNvSpPr/>
            <p:nvPr/>
          </p:nvSpPr>
          <p:spPr>
            <a:xfrm>
              <a:off x="925560" y="4894200"/>
              <a:ext cx="1676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2602080" y="48942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urs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925560" y="5275440"/>
              <a:ext cx="16765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67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2602080" y="5275440"/>
              <a:ext cx="1600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S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-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O-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直接箭头连接符 23"/>
          <p:cNvCxnSpPr/>
          <p:nvPr/>
        </p:nvCxnSpPr>
        <p:spPr>
          <a:xfrm flipH="1" flipV="1">
            <a:off x="1662840" y="5433840"/>
            <a:ext cx="32122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1" name="直接箭头连接符 25"/>
          <p:cNvCxnSpPr/>
          <p:nvPr/>
        </p:nvCxnSpPr>
        <p:spPr>
          <a:xfrm flipH="1" flipV="1">
            <a:off x="1698120" y="5694120"/>
            <a:ext cx="316944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80773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consists of multipl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an enterprise is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979560" y="2014560"/>
            <a:ext cx="8026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n JL</cp:lastModifiedBy>
  <cp:lastPrinted>2005-01-10T21:51:57Z</cp:lastPrinted>
  <dcterms:modified xsi:type="dcterms:W3CDTF">2019-03-03T16:20:35Z</dcterms:modified>
  <cp:revision>242</cp:revision>
  <dc:subject/>
  <dc:title>Chapter 1:  Introduction</dc:title>
</cp:coreProperties>
</file>