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9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5.wmf" ContentType="image/x-wmf"/>
  <Override PartName="/ppt/media/image4.png" ContentType="image/png"/>
  <Override PartName="/ppt/media/image27.png" ContentType="image/png"/>
  <Override PartName="/ppt/media/image15.jpeg" ContentType="image/jpeg"/>
  <Override PartName="/ppt/media/image2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0.png" ContentType="image/pn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12193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16A827-D0E7-4C54-AA36-9CDC1E0E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BE73ED-1CD9-4E51-BB03-5936B587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D56549-FDF4-43DC-A137-0948C430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4FEB41-7F8C-4AA8-B615-05AD4D2B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F1B431-9580-41F5-A4E2-E4201429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3724A5-4430-4F74-9AAD-936AB624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003119-6363-4EC1-8CB6-2C6D012B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51894F-BBA8-4F2E-ADC7-0896F1E8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205451-2E28-42B6-BF4D-E5FDA816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4C0FED-0D7B-4802-9BCC-0412D5D3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1AA544-71D9-48CF-831D-6EC1C6F2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6A6412-4B78-49AD-BA66-BEE88176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7FB452-5132-4CFD-8777-B492E3956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8F5576-A250-4E72-9025-4DA21887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880E2F-CB64-4963-B2CA-17C5A266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5CB750-70C4-407C-95CF-89EA2D7F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1FDF8E-A278-4D36-97C8-E9429DDB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0E3D4C-89A5-4F18-9191-C48718C9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A3E8F3-DCF7-409D-9132-E2E01148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36BD0E-67A2-4D08-BFB5-1FE27DC0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854556-ED24-4D50-8051-8CE2BBF3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F7C70D-DB44-41BC-A78E-D9DF8DFC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FDA39D-420B-4C3F-8559-A487FB71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2B61A0-9439-490B-A9A3-C857A5D56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66A790-AD3E-4CC4-B852-BE25DE6C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A02C77-12CE-4E96-A859-20883FB8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A16BB2-FF72-486D-A1E3-7F815B6C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999C5A-C99B-4495-B96F-3457DBCF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AAD4E8-B5A2-4B25-8FC2-6897F579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3B2940-F387-4959-9D01-46989459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65CF55-CAFB-44C0-B0ED-1C6F8648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961C38-1BDF-4364-82C2-D29BCFEE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00F8CC-4F1D-4361-8AFC-A06BB201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A1C266-BFFF-4E80-96A2-2A00A15D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1DEF15-4A40-46AA-A121-2E2AC11C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F18F05-7DA5-45EE-9D79-AA098E18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6B0307-3786-4096-87CF-410493ED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34D5E5-BD19-486E-8030-80D632A6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634B1C-46D8-47C3-9113-71FDD467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D0F454-AD2D-4933-912C-88405109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5A288C-49B5-41D5-BDDB-29788F784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7296B1-F568-439D-9967-94398217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7007C2-B8F6-4132-BB6C-42683D75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0DE4EB-7FD7-480C-8990-D4749E4B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99D900-0071-4BEF-8290-6F922FB1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9C3FEA-7416-4277-BAEE-0EA6FB464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B787C2-BE42-4102-9AD7-A1ADC040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DDF56C-7755-45ED-AA66-EBD8C2FB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1480" y="8896320"/>
            <a:ext cx="3065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9008-F5B8-4B56-BA36-84329D32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1040" y="4447800"/>
            <a:ext cx="51944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1480" y="8896320"/>
            <a:ext cx="3065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2122-02A8-446D-93C1-54E9D290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1040" y="4447800"/>
            <a:ext cx="51944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67822A-3E74-4A1C-A477-2B6DC192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FA48B9-6423-4C07-8BEE-1849B3D2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B84D18-CDBB-480F-BDFA-C8E36DBC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10518D-ADFE-4FBB-8026-FF8961EE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893B21-079D-4114-ADD0-C7405F98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5C61B9-5FDF-4345-A428-7C74C607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BAE9DF-0D13-4734-B72D-54FBE1F8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52A050-D544-4204-A597-8623C710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3ED950-8EDA-453F-B3A7-0D0E9EAB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FBBD7C-886F-4799-93A8-EDBF827F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02CD0E-9F5E-4D2F-A183-AFB73A1A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E169D6-25CE-4AE0-B44B-D198F4D2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11480" y="8896320"/>
            <a:ext cx="3065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679-33F8-4B74-B656-05C9AC4C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1040" y="4447800"/>
            <a:ext cx="51944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11480" y="8896320"/>
            <a:ext cx="3065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63E-C0B7-4718-A189-744AAEA6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1040" y="4447800"/>
            <a:ext cx="51944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E77498-38E2-4C05-AEFD-9077B43F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03EA97-A583-4926-8939-6F327F6B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FA9B26-E8BF-438C-8C20-0D4B93EB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76C5E9-33A1-49C7-952E-1CAA2396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9BD525-66B3-45D1-9D2B-AF729CFB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5A4599-8182-40FF-90CB-812869EC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EDF3FA-52B4-4D40-A5FE-A1B0DC6A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5CFE16-4C9B-49F4-B2D2-879CA90A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7.</a:t>
            </a:r>
            <a:fld id="{10516EF8-885B-46FE-9754-C5A1615AE6B4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235760" y="5726160"/>
            <a:ext cx="35841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or conditions on re-us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7:  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3680" y="273672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 of the ER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946240" y="2851200"/>
            <a:ext cx="68454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82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ode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4680" y="1215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model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t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ong 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object that exists and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other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specific person, company, event,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hav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eople ha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ity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ntities of the same type that share the same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t of all persons, companies, trees, holi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774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 Sets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instructo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tud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77880" y="177624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tructor_ID  instructor_name                                    student-ID   student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665360" y="2197080"/>
            <a:ext cx="6354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640" y="9972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Entity sets in ER Diagra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63640" y="998640"/>
            <a:ext cx="761508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ity sets can be represented graphically as follow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tangles represent entity se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tributes listed inside entity rectang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derline indicates primary key attrib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23880" y="2881440"/>
            <a:ext cx="4464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240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5560" y="1339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ociation among several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4553 (Pelti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222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nstei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hip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mathematical relation amo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entities, each taken from entity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ctr" pos="1536840"/>
                <a:tab algn="ctr" pos="35434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4553,2222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871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Set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dvis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942840" y="1447920"/>
            <a:ext cx="8028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4440" y="450720"/>
            <a:ext cx="7202520" cy="5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Relationship Sets in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R Diagrams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3880" y="1484280"/>
            <a:ext cx="7496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amonds represent relationship se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617840" y="2514600"/>
            <a:ext cx="60069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666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Sets with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66600" y="1271160"/>
            <a:ext cx="757044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also be property of a relationship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tance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set between entity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racks when the student started being associated with the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368360" y="2673360"/>
            <a:ext cx="7751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259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Sets with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981080" y="1701720"/>
            <a:ext cx="69328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936720" y="288720"/>
            <a:ext cx="107697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o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185480"/>
            <a:ext cx="788832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ity sets of a relationship need not be distin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occurrence of an entity set plays a “role” in the relationsh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abels “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rereq_i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 are calle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rol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1"/>
          <a:stretch/>
        </p:blipFill>
        <p:spPr>
          <a:xfrm>
            <a:off x="1665360" y="2752560"/>
            <a:ext cx="513864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5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7:  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79600" y="1221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R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to Relation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Entity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E-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gree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 of a Relationship Se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31680" y="1412640"/>
            <a:ext cx="72212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 relationship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二元联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two entity sets (or degree tw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lationship sets in a database system are bi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861840" y="2523960"/>
            <a:ext cx="7634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st relationship sets are bin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re are  occasions when it is more convenient to represent relationships as non-binar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-R Diagram with a Ternary Relationsh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0" descr=""/>
          <p:cNvPicPr/>
          <p:nvPr/>
        </p:nvPicPr>
        <p:blipFill>
          <a:blip r:embed="rId1"/>
          <a:stretch/>
        </p:blipFill>
        <p:spPr>
          <a:xfrm>
            <a:off x="1476360" y="4146480"/>
            <a:ext cx="50990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080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31680" y="1304640"/>
            <a:ext cx="7965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tity is represented by a set of attributes, that i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criptive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essed by all members of an entity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name, street, city, sal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title, 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set of permitted values for each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简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osite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复合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-valued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单值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valued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多值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multivalued attribut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ne_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rived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派生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omputed from oth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age, given date_of_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76640" y="104400"/>
            <a:ext cx="5308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e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955800" y="1565280"/>
            <a:ext cx="80928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8880" y="110880"/>
            <a:ext cx="8157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Representing Complex Attributes  in ER Diagram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3443400" y="932040"/>
            <a:ext cx="25365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5200" y="566640"/>
            <a:ext cx="72658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Cardinality Constraints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映射基数约束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25200" y="15303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the number of entities to which another entity can be associated via a relationship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useful in describing binary relationship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binary relationship set the mapping cardinality must be one of the following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ne t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ne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any t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any to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739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Cardinali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901880" y="505476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970240" y="50529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284840" y="5557680"/>
            <a:ext cx="70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ement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be mapped to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in the oth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7"/>
          <p:cNvPicPr/>
          <p:nvPr/>
        </p:nvPicPr>
        <p:blipFill>
          <a:blip r:embed="rId1"/>
          <a:stretch/>
        </p:blipFill>
        <p:spPr>
          <a:xfrm>
            <a:off x="1292400" y="1359000"/>
            <a:ext cx="670536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93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Cardinaliti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089080" y="4803840"/>
            <a:ext cx="14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924160" y="49957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16680" y="5594400"/>
            <a:ext cx="70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ements in A and B may not be mapped to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in the oth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7"/>
          <p:cNvPicPr/>
          <p:nvPr/>
        </p:nvPicPr>
        <p:blipFill>
          <a:blip r:embed="rId1"/>
          <a:stretch/>
        </p:blipFill>
        <p:spPr>
          <a:xfrm>
            <a:off x="1584360" y="1465200"/>
            <a:ext cx="6324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809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presenting Cardinality Constraints in ER Diagram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69760" y="1248840"/>
            <a:ext cx="764676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express cardinality constraints by drawing either a directed line (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, signifying “one,” or an undirected line (—), signifying “many,” between the relationship set and the entity s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-to-one relationship between a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at most on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the relationship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 associated with at most on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a the relationship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0" r="0" b="78432"/>
          <a:stretch/>
        </p:blipFill>
        <p:spPr>
          <a:xfrm>
            <a:off x="1739880" y="3960720"/>
            <a:ext cx="553572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71440" y="158400"/>
            <a:ext cx="52498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e-to-Many Relationshi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2120" y="1239840"/>
            <a:ext cx="764388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-to-many relationship between a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several (including 0)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at most one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advisor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rcRect l="0" t="31465" r="0" b="44709"/>
          <a:stretch/>
        </p:blipFill>
        <p:spPr>
          <a:xfrm>
            <a:off x="2170080" y="2981160"/>
            <a:ext cx="51516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31600" y="208080"/>
            <a:ext cx="5832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ny-to-One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1720" y="1186920"/>
            <a:ext cx="77518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a many-to-one relationship between a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at most one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several (including 0)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1619280" y="2881440"/>
            <a:ext cx="5875200" cy="1814400"/>
            <a:chOff x="1619280" y="2881440"/>
            <a:chExt cx="5875200" cy="1814400"/>
          </a:xfrm>
        </p:grpSpPr>
        <p:pic>
          <p:nvPicPr>
            <p:cNvPr id="192" name="Picture 5" descr=""/>
            <p:cNvPicPr/>
            <p:nvPr/>
          </p:nvPicPr>
          <p:blipFill>
            <a:blip r:embed="rId1"/>
            <a:srcRect l="0" t="68168" r="0" b="6373"/>
            <a:stretch/>
          </p:blipFill>
          <p:spPr>
            <a:xfrm>
              <a:off x="1619280" y="2881440"/>
              <a:ext cx="58752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Line 6"/>
            <p:cNvSpPr/>
            <p:nvPr/>
          </p:nvSpPr>
          <p:spPr>
            <a:xfrm>
              <a:off x="5979960" y="3821040"/>
              <a:ext cx="22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551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36720" y="995400"/>
            <a:ext cx="834552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al Schemas of a University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21118"/>
          <a:stretch/>
        </p:blipFill>
        <p:spPr>
          <a:xfrm>
            <a:off x="1096920" y="1666800"/>
            <a:ext cx="8026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0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ny-to-Many Relationshi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17612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 instructo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 associated with several (possibly 0)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associated with several (possibly 0)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866960" y="2541600"/>
            <a:ext cx="616104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68040" y="247680"/>
            <a:ext cx="553572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otal and Partial Particip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87400" y="1093680"/>
            <a:ext cx="776124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Total participatio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indicated by double line):  every entity in the entity set participates in at least one relationship in the relationship s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icipation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 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lation is to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37"/>
              </a:spcBef>
              <a:buClr>
                <a:srgbClr val="33cc33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st have an associated instru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Partial particip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some entities may not participate in any relationship in the relationship s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: participation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dvis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part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04850" descr=""/>
          <p:cNvPicPr/>
          <p:nvPr/>
        </p:nvPicPr>
        <p:blipFill>
          <a:blip r:embed="rId1"/>
          <a:stretch/>
        </p:blipFill>
        <p:spPr>
          <a:xfrm>
            <a:off x="1981080" y="1874880"/>
            <a:ext cx="59850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63280" y="57240"/>
            <a:ext cx="8420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Notation for Expressing More Complex Constraints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90440" y="1125360"/>
            <a:ext cx="7632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line may have an associated minimum and maximum cardinality, shown in the form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..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the minimum and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he maximum cardina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inimum value of 1 indicates total particip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ximum value of 1 indicates that the entity participates  in at most one relationsh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ximum value of * indicates no lim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an advise 0 or more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 A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ust have 1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advisor (instructor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cannot have multiple </a:t>
            </a: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advisors(instructor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027160" y="3463920"/>
            <a:ext cx="53928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5520" y="383760"/>
            <a:ext cx="7900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dinality Constraints on Ternary Relationship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0800" y="1171440"/>
            <a:ext cx="76374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allow at most one arrow out of a ternary (or greater degree) relationship to indicate a cardinality constra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example, an arrow from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roj_guid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dicates each student has at most one guide for a proj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avoid confusion we outlaw(</a:t>
            </a:r>
            <a:r>
              <a:rPr b="1" lang="zh-CN" sz="1700" spc="-1" strike="noStrike">
                <a:solidFill>
                  <a:srgbClr val="000099"/>
                </a:solidFill>
                <a:latin typeface="Arial"/>
              </a:rPr>
              <a:t>禁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more than one arro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0" descr=""/>
          <p:cNvPicPr/>
          <p:nvPr/>
        </p:nvPicPr>
        <p:blipFill>
          <a:blip r:embed="rId1"/>
          <a:stretch/>
        </p:blipFill>
        <p:spPr>
          <a:xfrm>
            <a:off x="1523880" y="3054240"/>
            <a:ext cx="6737400" cy="2595600"/>
          </a:xfrm>
          <a:prstGeom prst="rect">
            <a:avLst/>
          </a:prstGeom>
          <a:ln w="0">
            <a:noFill/>
          </a:ln>
        </p:spPr>
      </p:pic>
      <p:cxnSp>
        <p:nvCxnSpPr>
          <p:cNvPr id="210" name="直接箭头连接符 6"/>
          <p:cNvCxnSpPr/>
          <p:nvPr/>
        </p:nvCxnSpPr>
        <p:spPr>
          <a:xfrm flipH="1">
            <a:off x="2991960" y="4873320"/>
            <a:ext cx="45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148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Ke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39600" y="1298520"/>
            <a:ext cx="764676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mary keys provide a way to specify how entities and  relations are distinguished.  We will conside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ity 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ationship 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ak entity 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8182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key for Entity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9960" y="1177560"/>
            <a:ext cx="75340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y definition, individual entities are distinc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om database perspective, the differences among them must be expressed in terms of their attribu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values of the attribute values of an entity must be such that they can uniquely identify the entit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two entities in an entity set are allowed to have exactly the same value for all attribu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A key for an entity is a set of attributes that suffice to distinguish entities from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720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Key for Relationship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39960" y="1120680"/>
            <a:ext cx="766584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distinguish among the various relationships of a relationship set we use the individual  primary keys of the entities in the relationship s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7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e a relationship set involving entity sets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E1, E2, .. 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rimary key for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consists of the 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un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the primary keys of entity sets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E1, E2, ..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the relationship set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has attributes  a1, a2, .., am associated with it, then the  primary key of </a:t>
            </a:r>
            <a:r>
              <a:rPr b="0" i="1" lang="en-US" sz="17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so includes the attributes 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a1, a2, .., a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: relationship set “advisor”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rimary key  consists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nstructor.I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udent.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hoice of the primary key for a relationship set depends on  the mapping cardinality of the relationship s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04850" descr=""/>
          <p:cNvPicPr/>
          <p:nvPr/>
        </p:nvPicPr>
        <p:blipFill>
          <a:blip r:embed="rId1"/>
          <a:stretch/>
        </p:blipFill>
        <p:spPr>
          <a:xfrm>
            <a:off x="1779480" y="4218120"/>
            <a:ext cx="59850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9600" y="161640"/>
            <a:ext cx="65991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imary key for Binary Relationship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39960" y="1288800"/>
            <a:ext cx="77421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Many-to-Man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ationships.   The preceding union of the primary keys is a minimal superkey and is chosen  as the primary ke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One-to-Man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ationships . The primary key of the “Many” side is a minimal superkey and is used as the primary ke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Many-to-o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ationships. The primary key of the “Many” side is a minimal superkey and is used as the primary ke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One-to-o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lationships. The primary key of either one of the participating entity sets forms a minimal superkey, and either one can be chosen as the primary ke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31465" r="0" b="44709"/>
          <a:stretch/>
        </p:blipFill>
        <p:spPr>
          <a:xfrm>
            <a:off x="2235240" y="4181400"/>
            <a:ext cx="51512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321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Entity Sets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弱实体集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48880" y="1236240"/>
            <a:ext cx="7496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tity set that does not have a primary key is referred to a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ak entity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istence of a weak entity set depends on the existence of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entity set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标识性实体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relate to the identifying entity set via a total, one-to-many relationship set from the identifying to the weak entity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relationship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标识性联系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icted using a double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criminator 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分辨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 partial ke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weak entity set is the set of attributes that distinguishes among all the entities of a weak entity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key of a weak entity set is formed by the primary key of the strong entity set on which the weak entity set is existence dependent, plus the weak entity set’s discrimin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63880" y="85320"/>
            <a:ext cx="6075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Entity Se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6400" y="1225080"/>
            <a:ext cx="74790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nderlin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crimin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weak entity set  with a dashed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relationshi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 weak entity in a double diamo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sec_id, semester,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1" descr=""/>
          <p:cNvPicPr/>
          <p:nvPr/>
        </p:nvPicPr>
        <p:blipFill>
          <a:blip r:embed="rId1"/>
          <a:stretch/>
        </p:blipFill>
        <p:spPr>
          <a:xfrm>
            <a:off x="1492200" y="3387600"/>
            <a:ext cx="68086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85320"/>
            <a:ext cx="7361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 Proc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695760" y="5035680"/>
            <a:ext cx="889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332000" y="1743120"/>
            <a:ext cx="355284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quirement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494000" y="2651040"/>
            <a:ext cx="322884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eptual-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494000" y="3579840"/>
            <a:ext cx="322884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ogical-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1494000" y="4595760"/>
            <a:ext cx="322884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ysical-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箭头连接符 3"/>
          <p:cNvCxnSpPr>
            <a:stCxn id="99" idx="2"/>
            <a:endCxn id="100" idx="0"/>
          </p:cNvCxnSpPr>
          <p:nvPr/>
        </p:nvCxnSpPr>
        <p:spPr>
          <a:xfrm>
            <a:off x="3107880" y="2142720"/>
            <a:ext cx="1080" cy="508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直接箭头连接符 12"/>
          <p:cNvCxnSpPr/>
          <p:nvPr/>
        </p:nvCxnSpPr>
        <p:spPr>
          <a:xfrm>
            <a:off x="3107880" y="3050640"/>
            <a:ext cx="1080" cy="515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" name="直接箭头连接符 13"/>
          <p:cNvCxnSpPr/>
          <p:nvPr/>
        </p:nvCxnSpPr>
        <p:spPr>
          <a:xfrm>
            <a:off x="3107880" y="4080960"/>
            <a:ext cx="1080" cy="515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" name="TextBox 10"/>
          <p:cNvSpPr/>
          <p:nvPr/>
        </p:nvSpPr>
        <p:spPr>
          <a:xfrm>
            <a:off x="5208480" y="265104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R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232240" y="361008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221440" y="464652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箭头连接符 18"/>
          <p:cNvCxnSpPr/>
          <p:nvPr/>
        </p:nvCxnSpPr>
        <p:spPr>
          <a:xfrm>
            <a:off x="3114360" y="4986000"/>
            <a:ext cx="1080" cy="515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0" name="TextBox 10"/>
          <p:cNvSpPr/>
          <p:nvPr/>
        </p:nvSpPr>
        <p:spPr>
          <a:xfrm>
            <a:off x="5232240" y="174312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user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90360"/>
            <a:ext cx="5192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Entity Se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4160" y="1239480"/>
            <a:ext cx="738504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primary key of the strong entity set is not explicitly stored with the weak entity set, since it is implicit in the identifying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re explicitly stor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be made a strong entity, but then the 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be duplicated by an implicit relationship defined by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on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1"/>
          <a:stretch/>
        </p:blipFill>
        <p:spPr>
          <a:xfrm>
            <a:off x="1363680" y="3832200"/>
            <a:ext cx="68086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1931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ndant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27000" y="1131840"/>
            <a:ext cx="759456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se we have entity se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with attributes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ame, tot_cr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700" spc="-1" strike="noStrike">
                <a:solidFill>
                  <a:srgbClr val="ff0000"/>
                </a:solidFill>
                <a:latin typeface="Arial"/>
              </a:rPr>
              <a:t>dep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partment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 attributes: </a:t>
            </a:r>
            <a:r>
              <a:rPr b="0" i="1" lang="en-US" sz="1700" spc="-1" strike="noStrike">
                <a:solidFill>
                  <a:srgbClr val="ff0000"/>
                </a:solidFill>
                <a:latin typeface="Arial"/>
              </a:rPr>
              <a:t>dept_name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, building, budg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model the fact that each student has an associated department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ing a relationship se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0" i="1" lang="en-US" sz="1700" spc="-1" strike="noStrike">
                <a:solidFill>
                  <a:srgbClr val="ff0000"/>
                </a:solidFill>
                <a:latin typeface="Arial"/>
              </a:rPr>
              <a:t>_de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attribut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elow replicates information present in the relationship and is therefore  redund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needs to be remov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T: when converting back to tables, in some cases the attribute gets reintroduced, as we will see lat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1820880" y="4567320"/>
            <a:ext cx="5560920" cy="2084400"/>
          </a:xfrm>
          <a:prstGeom prst="rect">
            <a:avLst/>
          </a:prstGeom>
          <a:ln w="0">
            <a:noFill/>
          </a:ln>
        </p:spPr>
      </p:pic>
      <p:sp>
        <p:nvSpPr>
          <p:cNvPr id="237" name="Straight Connector 6"/>
          <p:cNvSpPr/>
          <p:nvPr/>
        </p:nvSpPr>
        <p:spPr>
          <a:xfrm>
            <a:off x="3530520" y="6075360"/>
            <a:ext cx="924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1800" y="150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R Diagram for a University Enterpr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620040" y="4653000"/>
            <a:ext cx="885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1252440" y="760320"/>
            <a:ext cx="63230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ction to Relational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42800" y="141120"/>
            <a:ext cx="71643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ction to Relation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6760" y="1176120"/>
            <a:ext cx="76708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sets and relationship sets can be expressed uniformly a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relation schem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represent the contents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which conforms to an E-R diagram can be represented by a collection of sch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entity set and relationship set there is a unique schema that is assigned the name of the corresponding entity set or relationship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chema has a number of columns (generally corresponding to attributes), which have unique n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3480" y="345960"/>
            <a:ext cx="6249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Entity Sets With Simple Attribut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0640" y="1401480"/>
            <a:ext cx="80820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strong entity 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o a schema with the same attribute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rse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se_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title, cred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weak ent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ecomes a table that includes a column for the primary key of the identifying strong entity set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tion (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se_id, sec_id, semester, yea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1" descr=""/>
          <p:cNvPicPr/>
          <p:nvPr/>
        </p:nvPicPr>
        <p:blipFill>
          <a:blip r:embed="rId1"/>
          <a:stretch/>
        </p:blipFill>
        <p:spPr>
          <a:xfrm>
            <a:off x="1273320" y="3424320"/>
            <a:ext cx="7605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9360" y="199800"/>
            <a:ext cx="84294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presenting Relationship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8320" y="1441440"/>
            <a:ext cx="795996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y-to-many relationship 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epresented as a schema with attributes for the primary keys of the two participating entity sets, and any descriptive attributes of the relationship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chema for relationship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visor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_id, i_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 rot="21226800">
            <a:off x="3740040" y="3624120"/>
            <a:ext cx="197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386000" y="3556080"/>
            <a:ext cx="65293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983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ndancy of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30160" y="1100160"/>
            <a:ext cx="7758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y-to-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-to-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 sets that are total on the many-side can be represented by adding an extra attribute to the “many” side, containing the primary key of the “one”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Instead of creating a schema for relationship set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st_dep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 an attribut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chema arising from entity set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 rot="21226800">
            <a:off x="3216240" y="3449520"/>
            <a:ext cx="197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3"/>
          <p:cNvGrpSpPr/>
          <p:nvPr/>
        </p:nvGrpSpPr>
        <p:grpSpPr>
          <a:xfrm>
            <a:off x="490680" y="2830680"/>
            <a:ext cx="8184600" cy="3423960"/>
            <a:chOff x="490680" y="2830680"/>
            <a:chExt cx="8184600" cy="3423960"/>
          </a:xfrm>
        </p:grpSpPr>
        <p:pic>
          <p:nvPicPr>
            <p:cNvPr id="255" name="Picture 6" descr=""/>
            <p:cNvPicPr/>
            <p:nvPr/>
          </p:nvPicPr>
          <p:blipFill>
            <a:blip r:embed="rId1"/>
            <a:srcRect l="17952" t="424" r="7482" b="61660"/>
            <a:stretch/>
          </p:blipFill>
          <p:spPr>
            <a:xfrm>
              <a:off x="751680" y="2830680"/>
              <a:ext cx="7923600" cy="34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1"/>
            <p:cNvSpPr/>
            <p:nvPr/>
          </p:nvSpPr>
          <p:spPr>
            <a:xfrm>
              <a:off x="490680" y="2947680"/>
              <a:ext cx="2919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3356640" y="3202920"/>
              <a:ext cx="558000" cy="15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170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ndancy of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189080" y="4505400"/>
            <a:ext cx="775800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ilding,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name,sal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_dept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ilding,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me, salar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 rot="21226800">
            <a:off x="3216240" y="3449520"/>
            <a:ext cx="1970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844560" y="830160"/>
            <a:ext cx="8184960" cy="3425760"/>
            <a:chOff x="844560" y="830160"/>
            <a:chExt cx="8184960" cy="3425760"/>
          </a:xfrm>
        </p:grpSpPr>
        <p:pic>
          <p:nvPicPr>
            <p:cNvPr id="262" name="Picture 6" descr=""/>
            <p:cNvPicPr/>
            <p:nvPr/>
          </p:nvPicPr>
          <p:blipFill>
            <a:blip r:embed="rId1"/>
            <a:srcRect l="17952" t="424" r="7482" b="61660"/>
            <a:stretch/>
          </p:blipFill>
          <p:spPr>
            <a:xfrm>
              <a:off x="1105560" y="830160"/>
              <a:ext cx="792396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1"/>
            <p:cNvSpPr/>
            <p:nvPr/>
          </p:nvSpPr>
          <p:spPr>
            <a:xfrm>
              <a:off x="844560" y="947160"/>
              <a:ext cx="2919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3710880" y="1202760"/>
              <a:ext cx="558000" cy="15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284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ndancy of Schema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280" y="127116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-to-one relationship 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, either side can be chosen to act as the “many”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extra attribute can be added to either of the tables corresponding to the two entity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ticipat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“many” side, replacing a schema by an extra attribute in the schema corresponding to the “many” side could result i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l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a corresponding to a relationship set linking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eak entity 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ts identifying strong entity set is redund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lready contains the attributes that would appear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79160" y="125280"/>
            <a:ext cx="5194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Ph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217520"/>
            <a:ext cx="75960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quirement Specific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haracterize fully the data needs of the prospective database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(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ceptual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-- choosing  a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concepts of the chosen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ng  these requirements into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ceptua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lly developed conceptual schema indicates the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unctional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enterpr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kinds of operations (or transactions) that will be performed on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3800" y="101520"/>
            <a:ext cx="7559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e and Multivalued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58880" y="1004760"/>
            <a:ext cx="58863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site attribu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f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tten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by creating a separate attribute for each component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given entity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composit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component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chema corresponding to the entity set has two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_fir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_la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 omitted if there is no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multivalued attributes, extended instructor schema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ructor(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rst_name, middle_initial,  last_name,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eet_number, street_name,  apt_numb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y, state, zip_code, 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date_of_birth, ag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880920" y="984240"/>
            <a:ext cx="251964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48880" y="72720"/>
            <a:ext cx="7604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e and Multivalued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960" y="985680"/>
            <a:ext cx="76723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multivalued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nt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resented by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parate schem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ttributes corresponding to the primary ke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n attribute corresponding to multivalued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Multivalued attribut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hone_numb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resented by a sch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_phone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ne_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alue of the multivalued attribute maps to a separate tuple of the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 with primary key  22222 and phone numbers 456-7890 and 123-4567 maps to two tuples: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22222, 456-789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2222, 123-4567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8023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alued Attribu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0280" y="883800"/>
            <a:ext cx="786924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: ent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only one attribute other than the primary-key attribute, and that attribute is multival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_slot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_slot_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_slot_detail(time_slot_id, day, start_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d_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: Don’t create the relation corresponding to the entity, just create the one corresponding to the multivalu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_slot_id, day, start_tim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end_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vea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警告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of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e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ec_time_s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not be a foreign key due to this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589040" y="3989520"/>
            <a:ext cx="6891120" cy="3079080"/>
            <a:chOff x="1589040" y="3989520"/>
            <a:chExt cx="6891120" cy="3079080"/>
          </a:xfrm>
        </p:grpSpPr>
        <p:pic>
          <p:nvPicPr>
            <p:cNvPr id="275" name="Picture 6" descr=""/>
            <p:cNvPicPr/>
            <p:nvPr/>
          </p:nvPicPr>
          <p:blipFill>
            <a:blip r:embed="rId1"/>
            <a:srcRect l="47634" t="59746" r="-1475" b="19834"/>
            <a:stretch/>
          </p:blipFill>
          <p:spPr>
            <a:xfrm>
              <a:off x="1842480" y="4267800"/>
              <a:ext cx="6637680" cy="26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6"/>
            <p:cNvSpPr/>
            <p:nvPr/>
          </p:nvSpPr>
          <p:spPr>
            <a:xfrm>
              <a:off x="1589040" y="5835240"/>
              <a:ext cx="198504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7"/>
            <p:cNvSpPr/>
            <p:nvPr/>
          </p:nvSpPr>
          <p:spPr>
            <a:xfrm>
              <a:off x="1686240" y="4278960"/>
              <a:ext cx="254880" cy="15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8"/>
            <p:cNvSpPr/>
            <p:nvPr/>
          </p:nvSpPr>
          <p:spPr>
            <a:xfrm>
              <a:off x="3384360" y="3989520"/>
              <a:ext cx="622800" cy="63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17200" y="137880"/>
            <a:ext cx="7116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mon Mistakes in E-R Dia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83800" y="1093680"/>
            <a:ext cx="73962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78840" indent="-78840">
              <a:spcBef>
                <a:spcPts val="876"/>
              </a:spcBef>
              <a:buClr>
                <a:srgbClr val="cc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 of erroneous E-R diagrams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1"/>
          <a:stretch/>
        </p:blipFill>
        <p:spPr>
          <a:xfrm>
            <a:off x="1981080" y="1679400"/>
            <a:ext cx="55152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87040" y="164880"/>
            <a:ext cx="6296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mon Mistakes in E-R Diagram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6" name="Graphic 8" descr=""/>
          <p:cNvPicPr/>
          <p:nvPr/>
        </p:nvPicPr>
        <p:blipFill>
          <a:blip r:embed="rId1"/>
          <a:srcRect l="-36192" t="105607" r="36204" b="-56123"/>
          <a:stretch/>
        </p:blipFill>
        <p:spPr>
          <a:xfrm>
            <a:off x="3584520" y="4276800"/>
            <a:ext cx="5023080" cy="2149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4986360" y="2693880"/>
            <a:ext cx="6321240" cy="3988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3"/>
          <a:srcRect l="0" t="44313" r="0" b="0"/>
          <a:stretch/>
        </p:blipFill>
        <p:spPr>
          <a:xfrm>
            <a:off x="996840" y="938160"/>
            <a:ext cx="43992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932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1108080"/>
            <a:ext cx="791856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f entity sets vs. attribute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phone as an entity allows extra information about phone numbers (plus multiple phone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rcRect l="0" t="0" r="0" b="18658"/>
          <a:stretch/>
        </p:blipFill>
        <p:spPr>
          <a:xfrm>
            <a:off x="1244520" y="1830240"/>
            <a:ext cx="72295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372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55800" y="1052280"/>
            <a:ext cx="820872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f entity sets vs. relationship s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guideline is to designate a relationship set to describe an action that occur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31760" indent="0">
              <a:spcBef>
                <a:spcPts val="788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1146240" y="2685960"/>
            <a:ext cx="75042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6658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101600"/>
            <a:ext cx="820908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lacement of relationship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ttribut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as attribut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31760" indent="0">
              <a:spcBef>
                <a:spcPts val="788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533600" y="2782800"/>
            <a:ext cx="12142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533600" y="3121200"/>
            <a:ext cx="121428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5595840" y="2778120"/>
            <a:ext cx="121464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5595840" y="3117960"/>
            <a:ext cx="121464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菱形 3"/>
          <p:cNvSpPr/>
          <p:nvPr/>
        </p:nvSpPr>
        <p:spPr>
          <a:xfrm>
            <a:off x="3581280" y="3017880"/>
            <a:ext cx="1170000" cy="714240"/>
          </a:xfrm>
          <a:prstGeom prst="diamond">
            <a:avLst/>
          </a:prstGeom>
          <a:solidFill>
            <a:srgbClr val="e2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直接箭头连接符 8"/>
          <p:cNvCxnSpPr>
            <a:stCxn id="301" idx="3"/>
          </p:cNvCxnSpPr>
          <p:nvPr/>
        </p:nvCxnSpPr>
        <p:spPr>
          <a:xfrm flipV="1">
            <a:off x="4751280" y="3374280"/>
            <a:ext cx="84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TextBox 15"/>
          <p:cNvSpPr/>
          <p:nvPr/>
        </p:nvSpPr>
        <p:spPr>
          <a:xfrm>
            <a:off x="3778200" y="2146320"/>
            <a:ext cx="78732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4"/>
          <p:cNvSpPr/>
          <p:nvPr/>
        </p:nvSpPr>
        <p:spPr>
          <a:xfrm>
            <a:off x="4165560" y="2484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直接箭头连接符 18"/>
          <p:cNvCxnSpPr/>
          <p:nvPr/>
        </p:nvCxnSpPr>
        <p:spPr>
          <a:xfrm flipV="1">
            <a:off x="2736720" y="3364920"/>
            <a:ext cx="84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TextBox 19"/>
          <p:cNvSpPr/>
          <p:nvPr/>
        </p:nvSpPr>
        <p:spPr>
          <a:xfrm>
            <a:off x="1538280" y="5005440"/>
            <a:ext cx="12160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1538280" y="5343480"/>
            <a:ext cx="121608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1"/>
          <p:cNvSpPr/>
          <p:nvPr/>
        </p:nvSpPr>
        <p:spPr>
          <a:xfrm>
            <a:off x="5600880" y="5000760"/>
            <a:ext cx="121572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2"/>
          <p:cNvSpPr/>
          <p:nvPr/>
        </p:nvSpPr>
        <p:spPr>
          <a:xfrm>
            <a:off x="5600880" y="5340240"/>
            <a:ext cx="1215720" cy="106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菱形 23"/>
          <p:cNvSpPr/>
          <p:nvPr/>
        </p:nvSpPr>
        <p:spPr>
          <a:xfrm>
            <a:off x="3587760" y="5240160"/>
            <a:ext cx="1168560" cy="714600"/>
          </a:xfrm>
          <a:prstGeom prst="diamond">
            <a:avLst/>
          </a:prstGeom>
          <a:solidFill>
            <a:srgbClr val="e2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直接箭头连接符 24"/>
          <p:cNvCxnSpPr>
            <a:stCxn id="310" idx="3"/>
          </p:cNvCxnSpPr>
          <p:nvPr/>
        </p:nvCxnSpPr>
        <p:spPr>
          <a:xfrm flipV="1">
            <a:off x="4756320" y="5596920"/>
            <a:ext cx="84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直接箭头连接符 27"/>
          <p:cNvCxnSpPr/>
          <p:nvPr/>
        </p:nvCxnSpPr>
        <p:spPr>
          <a:xfrm flipV="1">
            <a:off x="2743200" y="5585760"/>
            <a:ext cx="84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下箭头 16"/>
          <p:cNvSpPr/>
          <p:nvPr/>
        </p:nvSpPr>
        <p:spPr>
          <a:xfrm>
            <a:off x="4010040" y="4299120"/>
            <a:ext cx="299880" cy="625320"/>
          </a:xfrm>
          <a:prstGeom prst="downArrow">
            <a:avLst>
              <a:gd name="adj1" fmla="val 50000"/>
              <a:gd name="adj2" fmla="val 502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96400" y="198360"/>
            <a:ext cx="78901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inary Vs. Non-Binary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6760" y="1257120"/>
            <a:ext cx="774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 versus n-ary relationship s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it is possible to replace any nonbinary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ry,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) relationship set by a number of distinct binary relationship sets,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ry relationship set shows more clearly that several entities participate in a single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lationships that appear to be non-binary may be better represented using binary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 A ternary relation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lating a child to his/her father and mother, is best replaced by two binary relationships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wo binary relationships allows partial information (e.g., only mother being kn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re are some relationships that are naturally non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_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8720" y="117360"/>
            <a:ext cx="8479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Phas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9080" y="1180800"/>
            <a:ext cx="76104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al Phase (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atabase Desig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-- Moving from an abstract data model to the implementation of the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Logical Desig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  Deciding on the 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database schem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3552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requires that we find a “good” collection of relation sch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35520">
              <a:spcBef>
                <a:spcPts val="737"/>
              </a:spcBef>
              <a:buClr>
                <a:srgbClr val="33cc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siness decision – What attributes should we record in the databas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35520">
              <a:spcBef>
                <a:spcPts val="737"/>
              </a:spcBef>
              <a:buClr>
                <a:srgbClr val="33cc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uter Science decision –  What relation schemas should we have and how should the attributes be distributed among the various relation schem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Physical Desig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 Deciding on the physical layout of the database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51240" y="1074600"/>
            <a:ext cx="74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1680" y="172800"/>
            <a:ext cx="5919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verting Non-Binary Relationships to Binary Form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7640" y="939600"/>
            <a:ext cx="77328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any non-binary relationship can be represented using binary relationships by creating an artificial entity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ntity sets A, B and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n entity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ree relationship se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la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la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la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pecial identifying attribut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y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elationship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new ent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ntity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d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d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4. ad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1766880" y="4535640"/>
            <a:ext cx="592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84160" y="0"/>
            <a:ext cx="84312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ting Non-Binary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83800" y="1558440"/>
            <a:ext cx="7194600" cy="34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need to translat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ng all constraints may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may be instances in the translated schema th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rrespond to any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dd constraints to the relationships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that a newly created entity corresponds to exactly one entity in each of entity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void creating an identifying attribute by making E a weak entity set (described shortly) identified by the three relationship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5168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R Design Deci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84160" y="1068120"/>
            <a:ext cx="739800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tribute or entity 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present an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a real-world concept is best expressed by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tity set or a relationship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rnary relationship or binary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ong or weak entity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ER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6160" y="95400"/>
            <a:ext cx="9126720" cy="103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E-R Features: 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ecialization/Gener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52200" y="1318680"/>
            <a:ext cx="802620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alization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特化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p-down design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we designate subgroupings within an entity set that are distinctive from other entities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ribute inheri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lower-level entity set inherits all the attributes and relationship participation of the higher-level entity set to which it is lin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eralization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概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bottom-up design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bine a number of entity sets that share the same features into a higher-level entity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ation and generalization are simple inversions of each other; they are represented in an E-R diagram in the sa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s specialization and generalization are used interchangea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302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ecializat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7" name="Picture 37" descr=""/>
          <p:cNvPicPr/>
          <p:nvPr/>
        </p:nvPicPr>
        <p:blipFill>
          <a:blip r:embed="rId1"/>
          <a:stretch/>
        </p:blipFill>
        <p:spPr>
          <a:xfrm>
            <a:off x="2436840" y="1301760"/>
            <a:ext cx="46846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391520" y="273672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5423040" y="41720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998640" y="41688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954000" y="2595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l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直接箭头连接符 2"/>
          <p:cNvCxnSpPr/>
          <p:nvPr/>
        </p:nvCxnSpPr>
        <p:spPr>
          <a:xfrm flipH="1">
            <a:off x="6141960" y="2920680"/>
            <a:ext cx="1162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3" name="直接箭头连接符 9"/>
          <p:cNvCxnSpPr/>
          <p:nvPr/>
        </p:nvCxnSpPr>
        <p:spPr>
          <a:xfrm flipH="1">
            <a:off x="4260960" y="4352400"/>
            <a:ext cx="1162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01520"/>
            <a:ext cx="807732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Constraints on a Specialization/Gener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8840" y="1216080"/>
            <a:ext cx="8040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on whether or not entities may belong to more than one lower-level entity set within a single gener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joint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不相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tity can belong to only one lower-level entity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d in E-R diagram by having multiple lower-level entity sets link to the sam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lapping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重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tity can belong to more than one lower-level entity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7640" y="-84240"/>
            <a:ext cx="8077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Constraints on a Specialization/General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5040" y="1432080"/>
            <a:ext cx="73641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teness constraint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完全性约束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specifies whether or not an entity in the higher-level entity set must belong to at least one of the lower-level entity sets within a gener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tal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全部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 entity must belong to one of the lower-level entity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部分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 entity need not belong to one of the lower-level entity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2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8160" y="91800"/>
            <a:ext cx="7284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Specialization via Schema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1068120"/>
            <a:ext cx="7505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thod 1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 a schema for the higher-level ent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 a schema for each lower-level entity set, include primary key of higher-level entity set and local attrib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rawba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getting information about, a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mploye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quires accessing two relations, the one corresponding to the low-level schema and the one corresponding to the high-level sch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2382840" y="2500200"/>
            <a:ext cx="363384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traight Connector 2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1840" y="137880"/>
            <a:ext cx="7158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Specialization as Schema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28800" y="1161720"/>
            <a:ext cx="73929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thod 2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 a schema for each entity set with all local and inherited attrib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rawba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ame, stree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ay be stored redundantly for people who are both students and employ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2130480" y="2181240"/>
            <a:ext cx="4451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480" y="117360"/>
            <a:ext cx="7047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Alternativ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1162080"/>
            <a:ext cx="76122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designing a database schema, we must ensure that we avoid two major pitfall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Redundanc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a bad design  may result in repeat information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ndant representation of information may lead to data inconsistency among the various copies of 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Incompletene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a bad design may make certain aspects of the enterprise difficult or impossible to mod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ing bad designs is not enough. There may be a  large number  of  good designs from which we must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can be a challeng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huge design sp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6760" y="122040"/>
            <a:ext cx="7156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resenting Specialization as Schemas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6760" y="1066320"/>
            <a:ext cx="86076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3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single schema for all super /suber entity sets , with a type attribute to differentnate 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345960"/>
                <a:tab algn="ctr" pos="1255680"/>
                <a:tab algn="l" pos="245268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chema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trib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D, name, street, city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erson_typ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ot_cred, salary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2076480" y="3049560"/>
            <a:ext cx="681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 flipH="1">
            <a:off x="3270240" y="2720880"/>
            <a:ext cx="6480" cy="59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6926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ML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8720" y="1324080"/>
            <a:ext cx="7419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 has many components to graphically model different aspects of an entire softwa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 Class Diagrams correspond to E-R Diagram, but several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97000" y="180720"/>
            <a:ext cx="5757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R vs. UML Class Dia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Text Box 163"/>
          <p:cNvSpPr/>
          <p:nvPr/>
        </p:nvSpPr>
        <p:spPr>
          <a:xfrm>
            <a:off x="3204360" y="6006960"/>
            <a:ext cx="60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reversal of position in cardinality constraint dep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rcRect l="0" t="0" r="0" b="44094"/>
          <a:stretch/>
        </p:blipFill>
        <p:spPr>
          <a:xfrm>
            <a:off x="932040" y="1090440"/>
            <a:ext cx="8280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R vs. UML Class Dia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6" name="Text Box 82"/>
          <p:cNvSpPr/>
          <p:nvPr/>
        </p:nvSpPr>
        <p:spPr>
          <a:xfrm>
            <a:off x="1452600" y="1011240"/>
            <a:ext cx="2335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 Diagram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3"/>
          <p:cNvSpPr/>
          <p:nvPr/>
        </p:nvSpPr>
        <p:spPr>
          <a:xfrm>
            <a:off x="5587920" y="1057320"/>
            <a:ext cx="2030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valent in 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4"/>
          <p:cNvSpPr/>
          <p:nvPr/>
        </p:nvSpPr>
        <p:spPr>
          <a:xfrm>
            <a:off x="2691000" y="5829480"/>
            <a:ext cx="67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ation can use merged or separate arrows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sjoint/overl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rcRect l="0" t="56216" r="11430" b="0"/>
          <a:stretch/>
        </p:blipFill>
        <p:spPr>
          <a:xfrm>
            <a:off x="814320" y="1539720"/>
            <a:ext cx="78710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544680" y="231480"/>
            <a:ext cx="107697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ML Class Diagra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23840" y="1311120"/>
            <a:ext cx="7359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relationship sets are represented in UML by just drawing a line connecting the entity sets. The relationship set name is written adjacent to the l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 played by an entity set in a relationship set may also be specified by writing the role name on the line, adjacent to the entity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set name may alternatively be written in a box, along with attributes of the relationship set, and the box is connected, using a dotted line, to the line depicting the  relationship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1"/>
          <p:cNvSpPr/>
          <p:nvPr/>
        </p:nvSpPr>
        <p:spPr>
          <a:xfrm>
            <a:off x="152388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76406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Approach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1440" y="1206000"/>
            <a:ext cx="776268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Entity Relationship Mode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overed in this chapt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s an enterprise as a collection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ity: a “thing” or “object” in the enterprise that is distinguishable from other ob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37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cribed by a set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ationship: an association among several ent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ntity-relationship diagra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Normalization The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pter 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ze what designs are bad, and test for th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9720" y="144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R Diagram for a University Enterpr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620040" y="4653000"/>
            <a:ext cx="885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467000" y="816120"/>
            <a:ext cx="63230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15Z</dcterms:created>
  <dc:creator>Marilyn Turnamian</dc:creator>
  <dc:description/>
  <dc:language>en-US</dc:language>
  <cp:lastModifiedBy>Sun JL</cp:lastModifiedBy>
  <cp:lastPrinted>2005-01-10T21:51:57Z</cp:lastPrinted>
  <dcterms:modified xsi:type="dcterms:W3CDTF">2020-04-07T12:04:52Z</dcterms:modified>
  <cp:revision>496</cp:revision>
  <dc:subject/>
  <dc:title>Chapter 1:  Introduction</dc:title>
</cp:coreProperties>
</file>