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12193588" cy="6858000"/>
  <p:notesSz cx="6997700" cy="9283700"/>
  <p:custShowLst>
    <p:custShow name="Custom Show 1" id="0">
      <p:sldLst>
        <p:sld r:id="rId33"/>
        <p:sld r:id="rId7"/>
        <p:sld r:id="rId29"/>
        <p:sld r:id="rId12"/>
        <p:sld r:id="rId14"/>
        <p:sld r:id="rId39"/>
        <p:sld r:id="rId38"/>
        <p:sld r:id="rId16"/>
        <p:sld r:id="rId68"/>
        <p:sld r:id="rId41"/>
        <p:sld r:id="rId64"/>
        <p:sld r:id="rId67"/>
        <p:sld r:id="rId20"/>
        <p:sld r:id="rId49"/>
        <p:sld r:id="rId50"/>
        <p:sld r:id="rId40"/>
        <p:sld r:id="rId65"/>
        <p:sld r:id="rId6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FBB5A9-C456-47AD-90D4-2BAB62339E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8AA5CC-47A5-4A62-940A-99CE85851D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88040" cy="3481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7E266F-C03B-4AD8-A7A6-DA83384175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1D63E6D-3CA4-41EE-8F40-AF4E5F7E89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6CF971-F368-45FE-A7C9-7962A5FD1B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A511B64-22B1-489A-9558-4C391C1E6E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B8CC1FE-6C40-42D0-838C-0C2E78AE07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CD65EE-ED83-4F98-8C94-EEDCB760A9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359AD8-D783-47DE-ADA3-4A820E6F32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6592E8-D840-4F20-9745-6EBE516A8F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5C2EC8-1960-4B43-ABD8-2EF9D0561F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BE239C-09AB-49EC-9EF3-5387E81B40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E61403-0BB6-410A-83CA-95AB59C782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94AC6C-3175-49F7-837E-C8501DB43F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370C87-C7C7-4946-8B78-9900DCFAF1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E84B3D8-D984-4A20-AAF2-201355D84D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2C2BF6-4300-4AF0-8112-4FA9EF57B2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EE57C4C-23A7-40E4-965E-E694286C28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A7ED04-BE7F-40CF-A2EE-B93BEE3FBB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12727A-ED1E-48AD-81E1-FC8B2432D3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E51BD58-A9CD-4DE1-93FB-89178B7E9E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1DEBF6-9DC4-4CEA-A6A0-5618A17069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D39B54-F936-48AC-B2CB-EA061F8EFD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B55F95-A63F-4449-8413-22CFA18463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6FD064-CC0B-4298-85D5-9369A751A6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94FE83B-690E-400D-84FA-6E534EEB78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998373-A62F-4EE3-B54A-15860F2B7D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C95ABD-1DB1-41F0-BB26-8B776BD7DA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1D5DB9-0A21-4009-8CAC-B47F56264B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2D29C8-B489-4969-894F-F8D5CD4C0B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B1C254-BE6A-450B-9985-35189FA7D1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6F1A7B-859A-46C7-A482-A6625A9542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D398C4-7865-42E8-B1FC-536650D713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B9ED31-FCD2-4A5A-9192-956C90C9E7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9365F8-8A32-4B63-AD17-DCACD542E9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FEE99B-BCC5-4020-B03D-81101E6373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AFB8957-9810-489F-8DB7-6FFE24270F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F14DDF-A671-4B66-929B-BA9BBCB75F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FE2488-BB26-40D5-9A93-8E9B437C3D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2A7887-19AC-4E42-B29B-987766310A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069CFF-FB1A-43F6-A002-8A584D681C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865058-7D32-451C-9E43-4B4AEEFAE3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AE22F47-96A8-4931-8EA3-799E41ECF3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6E0D10-5902-4900-BF40-AF312708EE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9E5A6C-24CE-46A0-A44D-2339727B30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B8A4E1-C995-4AD5-A486-B388C126BF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908308-E818-43E4-83C9-2BBC3A7D76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DDFAA9-71B6-4F4C-9484-7528F19190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8400" cy="3481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311D0F-644A-45F4-A0D1-C0868A7227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B97580-89DA-4FBA-BE56-E3F96B3051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8355C0E-9248-4A1F-AE10-7D5F4FA3C9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54F0E4-7DDD-4514-B171-3C9BE783FE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35A4B8D-1D1F-4A6A-970C-2D3A1AB71F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6DE431-0355-4D8B-AD41-3402CE8DEA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EC1F73-4A60-4D57-8EAB-77EB17E371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417600" y="703440"/>
            <a:ext cx="6162480" cy="3466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51A5-FD99-4D29-BA21-755ECA310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3547-6095-4C48-8F7D-72B436CE7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3D3C-7E82-4660-A821-CB980583E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396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938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54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396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938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9EA5-EEDE-497D-96CE-9298573F3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856-D6C8-445F-89E6-8D549532A4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531-8995-4080-8BA5-BD55F70844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BFE-D66B-48D4-B852-A4E5506E01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52C-8743-4086-94BD-DAF04A35E2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CF78-747E-490A-AF54-A858241F85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23840" y="117360"/>
            <a:ext cx="10769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E76-B76E-4375-8333-887656CD1E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574-338D-400D-BDD1-2B250DDDF6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200A-91A5-4AE6-B4FA-C9F726E44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FED-178F-4AE0-9029-E782CF80B6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109-BF48-46BD-B425-5CE4B5ECC0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08B-A819-4786-989D-B3183869BB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BCF-CC36-4C8D-A9D8-8212C47C9D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396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938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854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396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9938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3BC-08D1-4488-91DD-326D0AF18F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BE4E-2FE1-42A5-94A6-C3B121ED7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C1E8-19F1-4945-AB15-769754763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3551-631D-4964-BB54-A398D8103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23840" y="117360"/>
            <a:ext cx="10769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39BA-F094-4798-AA94-8BFEC3C60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5729-7943-46EA-ADF7-C67765673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5FD6-D1EF-4408-BED5-A71E269D2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475D-0DAE-4DF6-B396-4411C431C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737560" y="640080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4D2A-9B19-43EE-8866-AED3A72BDD72}" type="slidenum">
              <a:rPr b="0" lang="en-US" sz="1400" spc="-1" strike="noStrike">
                <a:solidFill>
                  <a:srgbClr val="666699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94161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  <a:ea typeface="宋体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582372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  <a:ea typeface="宋体"/>
              </a:rPr>
              <a:t>3.</a:t>
            </a:r>
            <a:fld id="{78940AC5-F2E8-4F8E-B5B7-7BBADFD003F8}" type="slidenum">
              <a:rPr b="1" lang="en-US" sz="1000" spc="-1" strike="noStrike">
                <a:solidFill>
                  <a:srgbClr val="cc33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944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  <a:ea typeface="宋体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  <a:ea typeface="宋体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  <a:ea typeface="宋体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11888640" y="5445000"/>
            <a:ext cx="30348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over-6Ed"/>
          <p:cNvPicPr/>
          <p:nvPr/>
        </p:nvPicPr>
        <p:blipFill>
          <a:blip r:embed="rId2"/>
          <a:stretch/>
        </p:blipFill>
        <p:spPr>
          <a:xfrm>
            <a:off x="-4680" y="0"/>
            <a:ext cx="8920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423756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  <a:ea typeface="宋体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  <a:ea typeface="宋体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  <a:ea typeface="宋体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ea typeface="宋体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  <a:ea typeface="宋体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85580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816000" y="5780160"/>
            <a:ext cx="459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8794440" y="621828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EFC7-D042-41A2-B115-F7848E077B20}" type="slidenum">
              <a:rPr b="0" lang="en-US" sz="1400" spc="-1" strike="noStrike">
                <a:solidFill>
                  <a:srgbClr val="57896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3: Introduction to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d more stil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2080" y="901800"/>
            <a:ext cx="766152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eate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8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primary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archar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2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ume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2,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eign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feren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art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eign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feren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art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delete cascade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|set null |restrict |set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update cascad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|set null |restrict |set defaul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0"/>
          <p:cNvGrpSpPr/>
          <p:nvPr/>
        </p:nvGrpSpPr>
        <p:grpSpPr>
          <a:xfrm>
            <a:off x="5027760" y="4873680"/>
            <a:ext cx="4291920" cy="1223640"/>
            <a:chOff x="5027760" y="4873680"/>
            <a:chExt cx="4291920" cy="1223640"/>
          </a:xfrm>
        </p:grpSpPr>
        <p:sp>
          <p:nvSpPr>
            <p:cNvPr id="116" name="Rectangle 11"/>
            <p:cNvSpPr/>
            <p:nvPr/>
          </p:nvSpPr>
          <p:spPr>
            <a:xfrm>
              <a:off x="8177040" y="5259240"/>
              <a:ext cx="114264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. Sci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i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u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5027760" y="4878360"/>
              <a:ext cx="157104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8172000" y="4878360"/>
              <a:ext cx="11221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pt_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4"/>
            <p:cNvSpPr/>
            <p:nvPr/>
          </p:nvSpPr>
          <p:spPr>
            <a:xfrm>
              <a:off x="5027760" y="5259240"/>
              <a:ext cx="157104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1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676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5"/>
            <p:cNvSpPr/>
            <p:nvPr/>
          </p:nvSpPr>
          <p:spPr>
            <a:xfrm>
              <a:off x="6603840" y="4873680"/>
              <a:ext cx="157284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6603840" y="5254560"/>
              <a:ext cx="157284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rinivas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z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"/>
          <p:cNvGrpSpPr/>
          <p:nvPr/>
        </p:nvGrpSpPr>
        <p:grpSpPr>
          <a:xfrm>
            <a:off x="1146240" y="4568760"/>
            <a:ext cx="3276000" cy="1219320"/>
            <a:chOff x="1146240" y="4568760"/>
            <a:chExt cx="3276000" cy="1219320"/>
          </a:xfrm>
        </p:grpSpPr>
        <p:sp>
          <p:nvSpPr>
            <p:cNvPr id="123" name="Rectangle 6"/>
            <p:cNvSpPr/>
            <p:nvPr/>
          </p:nvSpPr>
          <p:spPr>
            <a:xfrm>
              <a:off x="1146240" y="4568760"/>
              <a:ext cx="1676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2822400" y="4568760"/>
              <a:ext cx="15998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urse_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"/>
            <p:cNvSpPr/>
            <p:nvPr/>
          </p:nvSpPr>
          <p:spPr>
            <a:xfrm>
              <a:off x="1146240" y="4950000"/>
              <a:ext cx="167616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1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676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"/>
            <p:cNvSpPr/>
            <p:nvPr/>
          </p:nvSpPr>
          <p:spPr>
            <a:xfrm>
              <a:off x="2822400" y="4950000"/>
              <a:ext cx="159984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S-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IN-2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O-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" name="直接箭头连接符 23"/>
          <p:cNvCxnSpPr/>
          <p:nvPr/>
        </p:nvCxnSpPr>
        <p:spPr>
          <a:xfrm flipH="1" flipV="1">
            <a:off x="1883520" y="5108400"/>
            <a:ext cx="321228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8" name="直接箭头连接符 25"/>
          <p:cNvCxnSpPr/>
          <p:nvPr/>
        </p:nvCxnSpPr>
        <p:spPr>
          <a:xfrm flipH="1" flipV="1">
            <a:off x="1918800" y="5368680"/>
            <a:ext cx="316944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9" name="直接箭头连接符 25"/>
          <p:cNvCxnSpPr/>
          <p:nvPr/>
        </p:nvCxnSpPr>
        <p:spPr>
          <a:xfrm flipH="1" flipV="1">
            <a:off x="1883880" y="5640120"/>
            <a:ext cx="316944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0" name="文本框 1"/>
          <p:cNvSpPr/>
          <p:nvPr/>
        </p:nvSpPr>
        <p:spPr>
          <a:xfrm>
            <a:off x="5087880" y="445464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9"/>
          <p:cNvSpPr/>
          <p:nvPr/>
        </p:nvSpPr>
        <p:spPr>
          <a:xfrm>
            <a:off x="1146240" y="411624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rop and Alter Table Construc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1040" y="1203120"/>
            <a:ext cx="788364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drop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letes the table and its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delete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letes all contents of table, but retain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alter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ter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the name of the attribute to be added to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the domai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tuples in the relation are assign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s the value for the new attribut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lter tabl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tuden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dd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esum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varchar(256)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ter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dr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the name of an attribute of rela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opping of attributes not supported by many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Query Structure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63680" y="1106280"/>
            <a:ext cx="7640640" cy="48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SQL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data-manipulation language (DM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provides the ability to query information, and insert, delete and update t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typical SQL query has the form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9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presents an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9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presents a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9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a predic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result of an SQL query is a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select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3680" y="1106280"/>
            <a:ext cx="8066160" cy="516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ause list the attributes desired in the result of a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rresponds to 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projection oper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f the 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: find the names of all instructor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E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QL names are case insensi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i.e., you may use upper- or lower-case letters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.g.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≡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≡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me people use upper case wherever we use bold fo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select Claus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63320" y="1106640"/>
            <a:ext cx="74343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QL allows duplicates in relations as well as in query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force the elimination of duplicates, insert the keyword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distinct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fter sel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the names of all departments with instructor,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move 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keywor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ecifies that duplicates not be remov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select Claus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6368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asterisk in the select clause denotes “all attribut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lause can contain arithmetic expressions involving the operation, +, –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and /, and operating on constants or attributes of tu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quer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, name, salary/1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ould return a relation that is the same a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lation, except that the value of the attribu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divided by 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where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6368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wh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ause specifies conditions that the result must satis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rresponds to 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selection predic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f the relational algebr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find all instructors in Comp. Sci. dept with salary &gt; 80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p. Sci.'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 8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parison results can be combined using the logical connectiv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, 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parisons can be applied to results of arithmetic expre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here Clause Predic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63680" y="1106640"/>
            <a:ext cx="8089920" cy="50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QL includes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parison op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:  Find the names of all instructors with salary between $90,000 and $100,000 (that is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$90,000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$100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twe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0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uple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ach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’Biolog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from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41280" y="1106640"/>
            <a:ext cx="7970760" cy="50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ause lists the relations involved in th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rresponds to 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Cartesian produ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eration of the relational alge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88"/>
              </a:spcBef>
              <a:buNone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the Cartesian produ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X t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, t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enerates every possible instructor – teaches pair, with all attributes from both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88"/>
              </a:spcBef>
              <a:buNone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rtesian product not very useful directly, but useful combined with where-clause condition (selection operation in relational algeb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1"/>
          <p:cNvGrpSpPr/>
          <p:nvPr/>
        </p:nvGrpSpPr>
        <p:grpSpPr>
          <a:xfrm>
            <a:off x="2867040" y="4516560"/>
            <a:ext cx="6287760" cy="2162880"/>
            <a:chOff x="2867040" y="4516560"/>
            <a:chExt cx="6287760" cy="2162880"/>
          </a:xfrm>
        </p:grpSpPr>
        <p:pic>
          <p:nvPicPr>
            <p:cNvPr id="149" name="Picture 3" descr="allFigures.pdf"/>
            <p:cNvPicPr/>
            <p:nvPr/>
          </p:nvPicPr>
          <p:blipFill>
            <a:blip r:embed="rId1"/>
            <a:srcRect l="3634" t="24235" r="40172" b="45271"/>
            <a:stretch/>
          </p:blipFill>
          <p:spPr>
            <a:xfrm>
              <a:off x="2867040" y="4562640"/>
              <a:ext cx="6278400" cy="196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" descr="allFigures.pdf"/>
            <p:cNvPicPr/>
            <p:nvPr/>
          </p:nvPicPr>
          <p:blipFill>
            <a:blip r:embed="rId2"/>
            <a:srcRect l="3692" t="24081" r="40079" b="45088"/>
            <a:stretch/>
          </p:blipFill>
          <p:spPr>
            <a:xfrm>
              <a:off x="2872440" y="4551480"/>
              <a:ext cx="6282360" cy="199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7"/>
            <p:cNvSpPr/>
            <p:nvPr/>
          </p:nvSpPr>
          <p:spPr>
            <a:xfrm>
              <a:off x="5097240" y="4516560"/>
              <a:ext cx="1784520" cy="26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4286880" y="5101920"/>
              <a:ext cx="3662280" cy="157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4285080" y="5101920"/>
              <a:ext cx="3664080" cy="157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38200" y="987480"/>
            <a:ext cx="799596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all instructors who have taught some course, find their names and the course ID of the courses they tau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, course_i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, teach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.ID = teaches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the course ID, semester, year and title of each course offered by the Comp. Sci.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.course_id, semester, year, titl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, cours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.course_id = course.course_id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‘Comp. Sci.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3:  Introduction to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33520" y="1104840"/>
            <a:ext cx="741384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verview of the SQL Query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ata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sic Quer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itional Basi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ull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ggregat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sted Sub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ification of the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tural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5760" y="1093320"/>
            <a:ext cx="745488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tural join matches tuples with the same values for all common attributes, and retains only one copy of each common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tural jo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3"/>
          <p:cNvPicPr/>
          <p:nvPr/>
        </p:nvPicPr>
        <p:blipFill>
          <a:blip r:embed="rId1"/>
          <a:srcRect l="0" t="0" r="0" b="26216"/>
          <a:stretch/>
        </p:blipFill>
        <p:spPr>
          <a:xfrm>
            <a:off x="1477800" y="3460680"/>
            <a:ext cx="6570720" cy="3016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988920" y="2300400"/>
            <a:ext cx="6340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>
              <a:spcBef>
                <a:spcPts val="876"/>
              </a:spcBef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6280" indent="-1483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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(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ID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,dept_name,salary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6280" indent="-14832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aches(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ID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, course_id,sec_id,semest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6280" indent="-148320">
              <a:spcBef>
                <a:spcPts val="876"/>
              </a:spcBef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tural Joi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76560" y="783720"/>
            <a:ext cx="812160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st the names of instructors along with the course ID of the courses that they tau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, teach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.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aches.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urse_i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tural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257560" y="4308480"/>
            <a:ext cx="631800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spcBef>
                <a:spcPts val="876"/>
              </a:spcBef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aches(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ID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, course_id,sec_id,semest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(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ID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,dept_name,salary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spcBef>
                <a:spcPts val="876"/>
              </a:spcBef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tural Joi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4680" y="1114560"/>
            <a:ext cx="8848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ware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unrelated attributes with same 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ich get equated in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st the names of instructors along with the  titles of courses that they tea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urse(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course_i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,title, </a:t>
            </a:r>
            <a:r>
              <a:rPr b="0" i="1" lang="en-US" sz="1600" spc="-1" strike="noStrike">
                <a:solidFill>
                  <a:srgbClr val="00b050"/>
                </a:solidFill>
                <a:latin typeface="Arial"/>
                <a:ea typeface="宋体"/>
              </a:rPr>
              <a:t>dept_nam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,credits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aches( </a:t>
            </a: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Arial"/>
                <a:ea typeface="宋体"/>
              </a:rPr>
              <a:t>ID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,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course_id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,sec_id,semester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,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structor(</a:t>
            </a: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Arial"/>
                <a:ea typeface="宋体"/>
              </a:rPr>
              <a:t>ID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,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ame, </a:t>
            </a:r>
            <a:r>
              <a:rPr b="0" i="1" lang="en-US" sz="1600" spc="-1" strike="noStrike">
                <a:solidFill>
                  <a:srgbClr val="00b050"/>
                </a:solidFill>
                <a:latin typeface="Arial"/>
                <a:ea typeface="宋体"/>
              </a:rPr>
              <a:t>dept_nam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,salary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correct version (make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urse.</a:t>
            </a:r>
            <a:r>
              <a:rPr b="0" i="1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dept_name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instructor.</a:t>
            </a:r>
            <a:r>
              <a:rPr b="0" i="1" lang="en-US" sz="1800" spc="-1" strike="noStrike">
                <a:solidFill>
                  <a:srgbClr val="00b050"/>
                </a:solidFill>
                <a:latin typeface="Arial"/>
                <a:ea typeface="宋体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tural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ach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tural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rrec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tural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_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other correc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tural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ach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tural Join Another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7680" y="842760"/>
            <a:ext cx="784044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students who takes courses across his/her depar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dent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tural jo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dent.dept_name &lt;&gt; course.dep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878040" y="3794040"/>
            <a:ext cx="631980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spcBef>
                <a:spcPts val="876"/>
              </a:spcBef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dent( </a:t>
            </a: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Arial"/>
                <a:ea typeface="宋体"/>
              </a:rPr>
              <a:t>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name,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宋体"/>
              </a:rPr>
              <a:t>dept_nam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tot_cred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akes ( </a:t>
            </a: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Arial"/>
                <a:ea typeface="宋体"/>
              </a:rPr>
              <a:t>ID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,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course_id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, sec_id, semester,ye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g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(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urse_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title,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宋体"/>
              </a:rPr>
              <a:t>dept_nam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credits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876"/>
              </a:spcBef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Rename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42920" y="1106640"/>
            <a:ext cx="8435880" cy="520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SQL allows renaming relations and attributes us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876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ld-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new-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.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, name, salary/1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nthly_salar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the names of all instructors who have a higher salary tha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some instructor in ‘Comp. Sci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. na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, 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.salary &gt; S.sal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.dept_name = ‘Comp. Sci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88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optional and may be omit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 ≡ instru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eywor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must be omitted in 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ring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004480" y="968040"/>
            <a:ext cx="824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QL includes a string-matching operator for comparisons on character strings.  The operator “like” uses patterns that are described using two special charac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percent (%)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% character matches any sub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underscore (_)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_ character matches any charac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the names of all instructors whose name includes the substring “dar”.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ke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%dar%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tch the string “100 %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ke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0 \%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'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scape 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\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ring Opera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63680" y="110628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atters are case sensit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attern matching 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tro%’ matches any string beginning with “Intr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%Comp%’ matches any string containing “Comp” as a sub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 _ _’ matches any string of exactly three charac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 _ _ %’ matches any string of at least three charac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supports a variety of string operations such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atenation (using “||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verting from upper to lower case (and vice ver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inding string length, extracting substring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rdering the Display of Tu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338200" y="1107720"/>
            <a:ext cx="766116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st in alphabetic order the names of all instructo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e may specify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de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for descending(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order or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a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for ascend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rder, for each attribute; ascending order is the defa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n sort on multiple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rder 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,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limit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63680" y="1106640"/>
            <a:ext cx="6950160" cy="50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lim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lause can be used to constrain the number of rows returned by the select stat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lim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lause takes one or two numeric arguments, which must both be nonnegative integer consta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lim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ffset,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lim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umber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==  lim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,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st names of instructors whose salary is among top 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mi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3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/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mi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0,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uplic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333520" y="1095120"/>
            <a:ext cx="766152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relations with duplicates, SQL can define how many copies of tuples appear in the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Multiset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（多重集）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ersions of some of the relational algebra operators – given multiset rela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f there ar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pies of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atisfies selec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then there ar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pi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n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For each copy of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is a copy of tup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denotes the projection of the single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x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f there ar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pies of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pies of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there ar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x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pies of the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isto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83692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BM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Sequ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language developed as part of System R project at the IBM San Jose Research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named Structured Query Language (SQ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SI and ISO standard SQ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QL-86, SQL-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SQL-9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QL:1999, SQL:2003, SQL:2006, SQL:2008, SQL:2011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SQL:20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ercial systems offer most, if not all, SQL-92 features, plus varying feature sets from later standards and special proprietary featur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Not all examples here may work on your particular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uplicat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338560" y="1104840"/>
            <a:ext cx="69912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: Suppose multiset rela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,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are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= {(1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(2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}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= {(2), (3), (3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 =  {(a), (a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{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2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2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3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3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3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3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QL duplicate semantic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equivalent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lti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version of the expre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88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776760" y="5504040"/>
                <a:ext cx="36399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76120" y="378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31760" y="1108080"/>
            <a:ext cx="766116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1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courses that ran in Fall 2009 or in Spring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003040" y="4414680"/>
            <a:ext cx="6179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ind courses that ran in Fall 2009 but not in Spring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133720" y="1604880"/>
            <a:ext cx="828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m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‘Fall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ar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9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un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m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‘Spring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ar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957320" y="2722680"/>
            <a:ext cx="58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ind courses that ran in Fall 2009 and in Spring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103480" y="3168720"/>
            <a:ext cx="82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m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‘Fall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ar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9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interse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m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‘Spring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ar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101680" y="4843440"/>
            <a:ext cx="835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m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‘Fall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ar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9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exce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m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‘Spring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ar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333520" y="1095120"/>
            <a:ext cx="766152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t operations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un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inters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exc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of the above operations automatically eliminates 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retain all duplicates use the corresponding multiset versions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union all, intersect 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except 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ppose a tuple occur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im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m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n, it occu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+ 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m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nion 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n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,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im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rsect 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x(0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 – 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im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cept 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ull Val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63320" y="1106640"/>
            <a:ext cx="7689960" cy="51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ignifies an unknown value or that a value does not ex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result of any arithmetic expression involving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:  5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returns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predicat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an be used to check for null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: Find all instructors whose salary is nul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338200" y="1093680"/>
            <a:ext cx="701028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se functions operate on the multiset of values of a column of a relation, and return a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222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erage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n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nimum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x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ximum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m of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nt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umber of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338560" y="1107720"/>
            <a:ext cx="7843680" cy="55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the average salary of instructors in the Computer Science depart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av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’Comp. Sci.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the total number of instructors who teach a course in the Spring 2010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ach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’Spring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the number of tuples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*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282760" y="2813040"/>
            <a:ext cx="76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 – Group B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4200" y="1053720"/>
            <a:ext cx="7932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the average salary of instructors in each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oup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e: departments with no instructor will not appear in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876"/>
              </a:spcBef>
              <a:buNone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3"/>
          <p:cNvPicPr/>
          <p:nvPr/>
        </p:nvPicPr>
        <p:blipFill>
          <a:blip r:embed="rId1"/>
          <a:stretch/>
        </p:blipFill>
        <p:spPr>
          <a:xfrm>
            <a:off x="2344680" y="2930400"/>
            <a:ext cx="4056120" cy="3648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"/>
          <p:cNvPicPr/>
          <p:nvPr/>
        </p:nvPicPr>
        <p:blipFill>
          <a:blip r:embed="rId2"/>
          <a:stretch/>
        </p:blipFill>
        <p:spPr>
          <a:xfrm>
            <a:off x="6721560" y="3535200"/>
            <a:ext cx="3752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ttribute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ause outside of aggregate funct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pp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* erroneous query 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oup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48000" y="331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 – Having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338200" y="1193760"/>
            <a:ext cx="7661160" cy="7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the names and average salaries of all departments whose average salary is greater than 4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82680" y="3567240"/>
            <a:ext cx="784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e:  predicate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lause are applied after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formation of groups whereas predicate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clause are applied before form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381480" y="4664160"/>
            <a:ext cx="586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alary &gt;=1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oup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aving  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&gt;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der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311640" y="2062080"/>
            <a:ext cx="586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avg(sal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oup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aving av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&gt; 42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ull Values and Aggreg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63680" y="1106640"/>
            <a:ext cx="78408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tal all sa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bove statemen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ignores nu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sult is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f there is no non-null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aggregate operations excep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nt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gnore tuples with null values on the aggregated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at if collection has only null val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nt returns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other aggregates return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Definition Languag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7920" y="1898640"/>
            <a:ext cx="759636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sche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for each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do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f values associated with each attrib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Integrit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as we will see later, also other information such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set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indi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be maintained for each re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Security and author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formation for each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physical storage struc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f each relation on d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63680" y="110664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SQL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data-definition language (DD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llows the specification of information about relations,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rithmetric expression with Aggregate fun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63680" y="1106640"/>
            <a:ext cx="7840800" cy="56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departments in which there is no duplicate name of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nt(distin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= count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at is the meaning of the following statemen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1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nt(distin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unt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&lt;0.001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sted Sub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6368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QL provides a mechanism for the nesting of subqu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subqu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-from-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expression that is nested within another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common use of subqueries is to perform tests fo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set membersh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set comparis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set cardina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Membership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334960" y="1109160"/>
            <a:ext cx="766116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courses offered in Fall 2009 and in Spring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2760" y="3595680"/>
            <a:ext cx="76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courses offered in Fall 2009 but not in Spring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709720" y="1698480"/>
            <a:ext cx="744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’Fall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2009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’Spring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20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593800" y="4211640"/>
            <a:ext cx="738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’Fall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2009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not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’Spring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20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Membership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63680" y="1106640"/>
            <a:ext cx="7661520" cy="76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4360"/>
                <a:tab algn="l" pos="125100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the total number of (distinct) students who have taken course sections taught by the instructor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684360"/>
                <a:tab algn="l" pos="125100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2692440" y="2332080"/>
            <a:ext cx="7151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me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me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1010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076120" y="9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Comparis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63680" y="1106280"/>
            <a:ext cx="7661520" cy="76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names of instructors with salary greater than that of some (at least one) instructor in the Biology depar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263680" y="3411360"/>
            <a:ext cx="72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me query using 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3052800" y="3951360"/>
            <a:ext cx="6419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&gt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s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’Biolog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094200" y="1957320"/>
            <a:ext cx="663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.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.sal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.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’Biology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47400" y="378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finition of  Some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63680" y="1106640"/>
            <a:ext cx="68011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 &lt;comp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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ch that (F &lt;comp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&lt;comp&gt; can be: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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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3629160" y="1952640"/>
            <a:ext cx="457200" cy="1066320"/>
            <a:chOff x="3629160" y="1952640"/>
            <a:chExt cx="457200" cy="1066320"/>
          </a:xfrm>
        </p:grpSpPr>
        <p:sp>
          <p:nvSpPr>
            <p:cNvPr id="232" name="Rectangle 5"/>
            <p:cNvSpPr/>
            <p:nvPr/>
          </p:nvSpPr>
          <p:spPr>
            <a:xfrm>
              <a:off x="3629160" y="195264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>
              <a:off x="3629160" y="227268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>
              <a:off x="3629160" y="2646000"/>
              <a:ext cx="457200" cy="372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8"/>
          <p:cNvSpPr/>
          <p:nvPr/>
        </p:nvSpPr>
        <p:spPr>
          <a:xfrm>
            <a:off x="2354400" y="2257560"/>
            <a:ext cx="13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5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4162320" y="2257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3629160" y="3171960"/>
            <a:ext cx="4572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3629160" y="3476520"/>
            <a:ext cx="457200" cy="297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3629160" y="3930480"/>
            <a:ext cx="457200" cy="308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4162320" y="3416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629160" y="4235400"/>
            <a:ext cx="457200" cy="308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629160" y="4772160"/>
            <a:ext cx="457200" cy="307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3629160" y="5076720"/>
            <a:ext cx="457200" cy="309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2333520" y="50007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4162320" y="5000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 true (since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5262480" y="248616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read:  5 &lt; some tuple in the rel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2368440" y="340200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5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1"/>
          <p:cNvSpPr/>
          <p:nvPr/>
        </p:nvSpPr>
        <p:spPr>
          <a:xfrm>
            <a:off x="4162320" y="4159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2"/>
          <p:cNvSpPr/>
          <p:nvPr/>
        </p:nvSpPr>
        <p:spPr>
          <a:xfrm>
            <a:off x="2409840" y="41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5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2262240" y="5472000"/>
            <a:ext cx="68007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owever,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 flipH="1">
            <a:off x="4343400" y="5840280"/>
            <a:ext cx="1224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Comparis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338200" y="1108080"/>
            <a:ext cx="766116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183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the names of all instructors whose salary is greater than the salary of all instructors in the Biology depar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360600" y="2065320"/>
            <a:ext cx="5961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&gt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’Biolog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finition of all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347560" y="1122480"/>
            <a:ext cx="663876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 &lt;comp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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F &lt;comp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4143240" y="1752480"/>
            <a:ext cx="457200" cy="1067040"/>
            <a:chOff x="4143240" y="1752480"/>
            <a:chExt cx="457200" cy="1067040"/>
          </a:xfrm>
        </p:grpSpPr>
        <p:sp>
          <p:nvSpPr>
            <p:cNvPr id="258" name="Rectangle 5"/>
            <p:cNvSpPr/>
            <p:nvPr/>
          </p:nvSpPr>
          <p:spPr>
            <a:xfrm>
              <a:off x="4143240" y="175248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43240" y="207252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143240" y="244620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8"/>
          <p:cNvSpPr/>
          <p:nvPr/>
        </p:nvSpPr>
        <p:spPr>
          <a:xfrm>
            <a:off x="3117960" y="2057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5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467676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4143240" y="2971800"/>
            <a:ext cx="4572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4143240" y="3276720"/>
            <a:ext cx="457200" cy="296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4143240" y="3730680"/>
            <a:ext cx="457200" cy="307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676760" y="32162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4143240" y="4035600"/>
            <a:ext cx="457200" cy="307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4143240" y="4572000"/>
            <a:ext cx="457200" cy="307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4143240" y="4876920"/>
            <a:ext cx="457200" cy="309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3228840" y="4800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4687920" y="4786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 true (since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 and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3174840" y="3228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5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676760" y="3959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22884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5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2"/>
          <p:cNvSpPr/>
          <p:nvPr/>
        </p:nvSpPr>
        <p:spPr>
          <a:xfrm>
            <a:off x="2762280" y="5257800"/>
            <a:ext cx="68007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owever, (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3"/>
          <p:cNvSpPr/>
          <p:nvPr/>
        </p:nvSpPr>
        <p:spPr>
          <a:xfrm flipH="1">
            <a:off x="4540320" y="5603760"/>
            <a:ext cx="109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alar Sub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338200" y="1093320"/>
            <a:ext cx="805644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al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标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bquery is one which is used where a single value is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.g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salary * 10 &gt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d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untime error if subquery returns more than one result t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 for Empty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6368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nstruct returns the val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f the argument subquery is nonemp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is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 exis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omain Types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22320" y="1147320"/>
            <a:ext cx="8221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char(n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Fixed length character string, with user-specified leng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varchar(n)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Variable length character strings, with user-specified maximum leng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in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ger (a finite subset of the integers that is machine-depend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smallin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Small integer (a machine-dependent subset of the integer domain typ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numeric(p,d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Fixed point number, with user-specified precis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digits,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digits to the right of decimal poi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umber(3,1)  allows 44.5 to be store exactly,  but neither 444.5 or 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real, double precis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Floating point and double-precision floating point numbers, with machine-dependent pr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float(n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Floating point number, with user-specified precision of at lea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dig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re are covered in Chapter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rrelation Variab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78710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t another way of specifying the query “Find all courses taught in both the Fall 2009 semester and in the Spring 2010 semes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’Fall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2009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ex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’Spring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201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Correlated sub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Correlation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correlation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ot Exis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2600" y="1189080"/>
            <a:ext cx="766116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102708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dents wh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ve taken all courses offered in the Biology depar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330200" y="2065320"/>
            <a:ext cx="6653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d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not exi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’Biology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ak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246680" y="4962600"/>
            <a:ext cx="68220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e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X – Y = Ø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nnot write this query us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l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its vari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7640" y="1202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 for Absence of Duplicate Tu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7280" y="1147320"/>
            <a:ext cx="78915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uni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nstruct tests whether a subquery has any duplicate tuples in its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Evaluates to “true” on an empty 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ind all courses that were offered at most once i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uniq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c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_i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e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200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ubqueries in the From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23760" y="1069560"/>
            <a:ext cx="849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QL allows a subquery expression to be used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the average instructors’ salaries of those departments where the average salary is greater than $42,0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876"/>
              </a:spcBef>
              <a:buNone/>
              <a:tabLst>
                <a:tab algn="l" pos="0"/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g_salar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g_salary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oup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g_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 42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876"/>
              </a:spcBef>
              <a:buNone/>
              <a:tabLst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other way to write abov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g_salar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oup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av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g_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g_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 42000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ubqueries in the From Claus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82598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yet another way to write it: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lat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g_salar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I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ater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g_salary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I2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ateral clause permits later par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lau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fter the lateral key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o access correlation variables from the earlier 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e: lateral is part of the SQL standard, but is not supported on many database systems; some databases such as SQL Server offer alternativ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ith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63680" y="1106280"/>
            <a:ext cx="766152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lause provides a way of defining a temporary view whose definition is available only to the query in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th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ause occu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all departments with the maximum budget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with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max_budge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valu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ud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x_budge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udg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x_budget.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dg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(select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ax(budget) from departmen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lex Queries using With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96400" y="1209600"/>
            <a:ext cx="79218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th clause is very useful for writing complex 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pported by most database systems, with minor syntax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all departments where the total salary is greater than the average of the total salary at all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1257480" y="3130560"/>
            <a:ext cx="7659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th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dept _tota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valu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oup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dept_total_avg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valu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total_av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total.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total_avg.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letion of tuples from a given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ertion of new tuples into a given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pdating values in some tuples in a given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3240" y="331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Dele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63680" y="1106280"/>
            <a:ext cx="77472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lete all instr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lete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lete all instructors from the Finance depart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lete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’Finance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lete all tuples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lation for those instructors associated with a department located in the Watson buil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lete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uild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’Watson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le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099880" y="1079280"/>
            <a:ext cx="766116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lete all instructors whose salary is less than the average salary of instr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2444760" y="2160720"/>
            <a:ext cx="741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lete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av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51120" y="3490920"/>
            <a:ext cx="8816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spcBef>
                <a:spcPts val="876"/>
              </a:spcBef>
              <a:buClr>
                <a:srgbClr val="666699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blem:  as we delete tuples from deposit, the average salary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spcBef>
                <a:spcPts val="876"/>
              </a:spcBef>
              <a:buClr>
                <a:srgbClr val="666699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lution used in SQ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  First, compu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alary and find all tuples to 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  Next, delete all tuples found above (without recompu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retesting the tup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41760" y="163080"/>
            <a:ext cx="726408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uilt-in Data Types in SQL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27000" y="890640"/>
            <a:ext cx="78487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date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Dates, containing a (4 digit) year, month and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‘2005-7-27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time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ime of day, in hours, minutes and sec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‘09:00:30’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‘09:00:30.7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timesta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date plus time of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mesta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‘2005-7-27 09:00:30.7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interval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period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:   interval  ‘1’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btracting a date/time/timestamp value from another gives an interval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rval values can be added to date/time/timestamp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date, time func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urrent_date(), current_tim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ear(x), month(x), day(x), hour(x), minute(x), second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94080" y="17784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In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6368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a new tupl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ert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’CS-437’, ’Database Systems’, ’Comp. Sci.’, 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r equivalent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ert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’CS-437’, ’Database Systems’, ’Comp. Sci.’, 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a new tupl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d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t_cre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t to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ert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d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’3003’, ’Green’, ’Finance’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13080" y="203040"/>
            <a:ext cx="8058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er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63320" y="1106640"/>
            <a:ext cx="811548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all instructors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relation with tot_creds set to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ert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d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, name, dept_name, 0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from 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tatement is evaluated fully before any of its results are inserted into the relati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therwise queries lik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ould cause problems,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able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did not have any primary key defi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05160" y="3780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Upd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6368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crease salaries of instructors whose salary is over $100,000 by 3%, and all others receive a 5% ra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rite tw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d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at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* 1.0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 1000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* 1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= 100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order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n be done better us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atement (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0920" y="-50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se Statement for Conditional Upd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338560" y="1093680"/>
            <a:ext cx="79660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me query as before but with case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w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= 100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* 1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l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* 1.0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s with Scalar Sub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338200" y="1093680"/>
            <a:ext cx="8019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compute and update tot_creds value for al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dent 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t_c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 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ak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tural jo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a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&gt; ’F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a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not 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Sets </a:t>
            </a:r>
            <a:r>
              <a:rPr b="0" i="1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tot_creds</a:t>
            </a:r>
            <a:r>
              <a:rPr b="0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 to null for students who have not taken any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Instead of </a:t>
            </a:r>
            <a:r>
              <a:rPr b="1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sum</a:t>
            </a:r>
            <a:r>
              <a:rPr b="0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credits</a:t>
            </a:r>
            <a:r>
              <a:rPr b="0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), 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2c2d6"/>
                </a:solidFill>
                <a:latin typeface="Arial"/>
                <a:ea typeface="宋体"/>
              </a:rPr>
              <a:t>                  </a:t>
            </a:r>
            <a:r>
              <a:rPr b="1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case </a:t>
            </a:r>
            <a:br>
              <a:rPr sz="2000"/>
            </a:br>
            <a:r>
              <a:rPr b="1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                 when sum</a:t>
            </a:r>
            <a:r>
              <a:rPr b="0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credits</a:t>
            </a:r>
            <a:r>
              <a:rPr b="0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) </a:t>
            </a:r>
            <a:r>
              <a:rPr b="1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is not null then sum</a:t>
            </a:r>
            <a:r>
              <a:rPr b="0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credits</a:t>
            </a:r>
            <a:r>
              <a:rPr b="0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                 </a:t>
            </a:r>
            <a:r>
              <a:rPr b="1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else </a:t>
            </a:r>
            <a:r>
              <a:rPr b="0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c2c2d6"/>
                </a:solidFill>
                <a:latin typeface="Arial"/>
                <a:ea typeface="宋体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reate Table Construc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96920" y="112680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SQL relation is defined using 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create 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eat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integrity-constrain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..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integrity-constrain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the name of the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an attribute name in the schema of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the data type of values in the domain of attribu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eate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5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2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 null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t_nam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2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ume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8,2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ert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‘10211’, ’Smith’, ’Biology’, 660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ert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‘10211’, null, ’Biology’, 660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1880" y="9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egrity Constraints in Create Tab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47560" y="1098360"/>
            <a:ext cx="6638760" cy="12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imary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eign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feren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295360" y="2395440"/>
            <a:ext cx="837252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:  Decl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the primary key 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5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0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 null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ume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8,2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imary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eign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feren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part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128680" y="5229360"/>
            <a:ext cx="817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imary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claration on an attribute automatically ens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d a Few More Relation Defini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9800" y="824040"/>
            <a:ext cx="8350200" cy="57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5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0) not nul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ot_c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ume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3,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imary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eign ke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ferenc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ak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5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8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c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8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m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6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ume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4,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imary ke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ID, course_id,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c_id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emester, year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eign k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ferenc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uden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eign k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_id, sec_id, semester,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ferenc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e: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c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an be dropped from primary key above, to ensure a student cannot be registered for two sections of the same course in the same sem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Sun JL</cp:lastModifiedBy>
  <cp:lastPrinted>2005-01-10T21:51:57Z</cp:lastPrinted>
  <dcterms:modified xsi:type="dcterms:W3CDTF">2020-03-09T16:17:17Z</dcterms:modified>
  <cp:revision>325</cp:revision>
  <dc:subject/>
  <dc:title>Chapter 1:  Introduction</dc:title>
</cp:coreProperties>
</file>