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12193588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997680" cy="928368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656">
                <a:moveTo>
                  <a:pt x="4" y="0"/>
                </a:moveTo>
                <a:arcTo wR="4" hR="4" stAng="16200000" swAng="-5400000"/>
                <a:lnTo>
                  <a:pt x="0" y="28652"/>
                </a:lnTo>
                <a:arcTo wR="4" hR="4" stAng="10800000" swAng="-5400000"/>
                <a:lnTo>
                  <a:pt x="21596" y="2865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997680" cy="928368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656">
                <a:moveTo>
                  <a:pt x="4" y="0"/>
                </a:moveTo>
                <a:arcTo wR="4" hR="4" stAng="16200000" swAng="-5400000"/>
                <a:lnTo>
                  <a:pt x="0" y="28652"/>
                </a:lnTo>
                <a:arcTo wR="4" hR="4" stAng="10800000" swAng="-5400000"/>
                <a:lnTo>
                  <a:pt x="21596" y="2865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997680" cy="928368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656">
                <a:moveTo>
                  <a:pt x="4" y="0"/>
                </a:moveTo>
                <a:arcTo wR="4" hR="4" stAng="16200000" swAng="-5400000"/>
                <a:lnTo>
                  <a:pt x="0" y="28652"/>
                </a:lnTo>
                <a:arcTo wR="4" hR="4" stAng="10800000" swAng="-5400000"/>
                <a:lnTo>
                  <a:pt x="21596" y="2865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404640" y="696600"/>
            <a:ext cx="6183360" cy="34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28920" cy="4172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3965400" y="8819640"/>
            <a:ext cx="3027600" cy="459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Noto Serif CJK S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695EB2FF-191E-468D-9A1D-0BB1DE79E6F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Noto Serif CJK S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B468EEAD-5114-483D-B0D3-B3B0F154B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12B6A804-14F8-45D9-87F9-65C76D4488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78AED6A9-5A9A-4F43-8E12-94C16EF458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EA725CE4-9138-4FC4-A150-28197F31B3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0F516708-4EEC-46EC-B9B3-CC4488B781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83860AA4-50F6-4610-B1CF-1089F0FE0E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F628C8F8-5495-4B2F-B6A3-0F54CFF84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042C3C48-6E1F-45EB-8260-1CF0AF476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3B7D0DB2-3F2D-4D45-AED4-4F25DFB13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0F78830B-1865-4E8E-8947-C753773216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C202996E-ACD5-4DD4-890C-1BDC51FC8D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C1395425-7632-4264-ACFE-3DB4D28438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BD5D0880-3931-4885-AD79-F6B00B9BE8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9F2749B2-8CA4-4FDD-9B11-300A0C6768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89F0AD7D-95BD-44DF-842C-94384592F8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52B4ED9C-2856-4211-A4DE-8CE18A5D70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420829BC-4C28-434C-8DB0-FE48FA901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FECDADEF-94B0-46A2-9FA6-7954E0049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944C4CA6-362E-4A2E-826F-3E6BBF1DDA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3F209A21-CC77-47F2-A5E3-2953D4B100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F1BF1ACE-F3B0-480A-90A4-7E5B19E590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FC450693-0535-4351-B3FE-7F1E3D7F44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F38B3F28-6C64-4F15-BC4A-61BB37035A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C20FDD74-D7EE-46A3-A5F4-C038DF7FDE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0FABCE6B-43B7-4C09-94D6-7CB0CB3B7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23E9192D-CC71-4764-A27E-82B9DF0862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451648A5-6626-49CC-AF25-9B1E1341A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6018227F-9FD7-4F45-A88C-1B54972BA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097A6F2C-AA4A-4AF4-B3A7-271D91893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CA15A9D1-A1EE-4204-8388-3572D9E08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301B7001-D617-4A45-97AA-4F0527C85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EC5B1C49-EFFA-429D-9899-7C10E6ABC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A0278A02-6183-4BAB-A7FB-1961A3C419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7D26C0B7-0250-4465-9CCE-46FCAE6C6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CC146C40-E820-407C-B553-D0518AA1BE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6D59D4EB-2610-4862-B485-84CD1BAF58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288361BE-C470-4689-A5EA-250018333E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71B65D8B-E0BA-4A3C-BB75-D552467042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9C45CFE0-6D05-477C-A937-4EF262C8B3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2BB39828-9DFB-43B9-BB9C-255BD9CBFE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A0E3ECAF-1688-4C31-BC77-FA04C3BBC1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0D5E17AE-AA08-43E9-8CAE-88E41DDA52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71640"/>
                <a:tab algn="l" pos="2809800"/>
                <a:tab algn="l" pos="3747960"/>
                <a:tab algn="l" pos="4686480"/>
                <a:tab algn="l" pos="5624640"/>
                <a:tab algn="l" pos="6562800"/>
                <a:tab algn="l" pos="7500960"/>
                <a:tab algn="l" pos="8439120"/>
                <a:tab algn="l" pos="9377280"/>
                <a:tab algn="l" pos="10315440"/>
                <a:tab algn="l" pos="10329840"/>
                <a:tab algn="l" pos="10779120"/>
                <a:tab algn="l" pos="10780560"/>
                <a:tab algn="l" pos="10782360"/>
              </a:tabLst>
            </a:pPr>
            <a:fld id="{6C2ACD13-BB3E-4F3A-88ED-7B580218D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108140F9-0CBC-4C5F-91D2-4BCA831AC5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9BFEC764-0E6D-4EA2-95C8-88E45D38D9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03C510D2-35C2-40FF-A110-31AA0A99BD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0208B613-59CA-40C4-8436-1632580D06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7AE75123-549B-42D1-8227-7B35E1F87B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3F4C8B04-09FC-4A8C-8BF7-60DF7D1210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B3872951-D4F0-445E-BFDE-100281C078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D5906239-738A-4220-9160-A92225D57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53E6820D-C501-4BC7-983E-528CAC62B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78475E79-6847-4436-9C0E-7D4CE8143F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6D24E44A-BFCD-471A-AE00-3854F45E5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5800"/>
                <a:tab algn="l" pos="2786040"/>
                <a:tab algn="l" pos="3716280"/>
                <a:tab algn="l" pos="4646520"/>
                <a:tab algn="l" pos="5576760"/>
                <a:tab algn="l" pos="6507000"/>
                <a:tab algn="l" pos="7437600"/>
                <a:tab algn="l" pos="8367840"/>
                <a:tab algn="l" pos="9298080"/>
                <a:tab algn="l" pos="10228320"/>
                <a:tab algn="l" pos="10329840"/>
                <a:tab algn="l" pos="10779120"/>
                <a:tab algn="l" pos="10780560"/>
                <a:tab algn="l" pos="10782360"/>
              </a:tabLst>
            </a:pPr>
            <a:fld id="{B38F6DE7-06B5-46B4-ACCC-9BF68B35D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E64F-778A-46D1-8D95-D43DB8B4A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5760" y="1093320"/>
            <a:ext cx="102110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5760" y="3652560"/>
            <a:ext cx="102110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260E-CEAB-4486-B7BE-C3C76101A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5760" y="1093320"/>
            <a:ext cx="49827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18000" y="1093320"/>
            <a:ext cx="49827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5760" y="3652560"/>
            <a:ext cx="49827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18000" y="3652560"/>
            <a:ext cx="49827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4243-F23F-4D91-807B-945FAF691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5760" y="1093320"/>
            <a:ext cx="32878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38520" y="1093320"/>
            <a:ext cx="32878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90920" y="1093320"/>
            <a:ext cx="32878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5760" y="3652560"/>
            <a:ext cx="32878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38520" y="3652560"/>
            <a:ext cx="32878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90920" y="3652560"/>
            <a:ext cx="32878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F26C-173E-455A-B9E6-DAC40C609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DB980-3C75-45FF-A5C9-93B974A54F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5760" y="1093320"/>
            <a:ext cx="102110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98C60-95F6-4848-A25E-C2E857A06B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5760" y="1093320"/>
            <a:ext cx="1021104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58026-4387-436B-80F1-6F9E66E9C8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5760" y="1093320"/>
            <a:ext cx="498276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318000" y="1093320"/>
            <a:ext cx="498276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BE871-5299-4D21-A58C-DD401F40BE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EA74C-C1B7-4B08-8C6B-3FC9C91F5C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23480" y="117360"/>
            <a:ext cx="1076508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E90BB-678A-4543-B9E2-D52FC89BF3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5760" y="1093320"/>
            <a:ext cx="49827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18000" y="1093320"/>
            <a:ext cx="498276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85760" y="3652560"/>
            <a:ext cx="49827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3AEF8-53B6-4656-AE06-C63AE3302C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5760" y="1093320"/>
            <a:ext cx="102110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50E4-E26A-4277-95EC-1DB925CF6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5760" y="1093320"/>
            <a:ext cx="498276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18000" y="1093320"/>
            <a:ext cx="49827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18000" y="3652560"/>
            <a:ext cx="49827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A4296-CBA1-494E-B1F8-A20F3065C9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5760" y="1093320"/>
            <a:ext cx="49827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18000" y="1093320"/>
            <a:ext cx="49827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85760" y="3652560"/>
            <a:ext cx="102110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EB462-1780-44A3-8A7C-D331ACE2FA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5760" y="1093320"/>
            <a:ext cx="102110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85760" y="3652560"/>
            <a:ext cx="102110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F0E13-E8C4-4131-8037-10801EF78B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5760" y="1093320"/>
            <a:ext cx="49827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318000" y="1093320"/>
            <a:ext cx="49827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85760" y="3652560"/>
            <a:ext cx="49827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318000" y="3652560"/>
            <a:ext cx="49827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36841-8322-49DF-AB73-90632BB20A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5760" y="1093320"/>
            <a:ext cx="32878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38520" y="1093320"/>
            <a:ext cx="32878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990920" y="1093320"/>
            <a:ext cx="32878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85760" y="3652560"/>
            <a:ext cx="32878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38520" y="3652560"/>
            <a:ext cx="32878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990920" y="3652560"/>
            <a:ext cx="32878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6CD5C-A406-4677-8B03-15A8DB2EA0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5760" y="1093320"/>
            <a:ext cx="1021104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E5B9-E601-443F-8806-85C8D870E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5760" y="1093320"/>
            <a:ext cx="498276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18000" y="1093320"/>
            <a:ext cx="498276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1A65-D8F3-4319-BBF6-5016C733E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4585-9B9B-4E33-9BF3-4A82D95F0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23480" y="117360"/>
            <a:ext cx="1076508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1AEB-1E1A-4780-A6D0-7999AD0F8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5760" y="1093320"/>
            <a:ext cx="49827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18000" y="1093320"/>
            <a:ext cx="498276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5760" y="3652560"/>
            <a:ext cx="49827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EA5EF-E580-4796-AC3B-476664220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5760" y="1093320"/>
            <a:ext cx="498276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18000" y="1093320"/>
            <a:ext cx="49827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18000" y="3652560"/>
            <a:ext cx="49827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5131-1006-43DA-ADAD-2CB81E35C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5760" y="1093320"/>
            <a:ext cx="49827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18000" y="1093320"/>
            <a:ext cx="49827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5760" y="3652560"/>
            <a:ext cx="102110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5366-C8E4-43B6-B8C5-3EA19A900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85760" y="1093320"/>
            <a:ext cx="1021104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737560" y="6400440"/>
            <a:ext cx="2535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  <a:ea typeface="Noto Serif CJK S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fld id="{BB6BB7F8-1CDB-4EE7-BF62-DCE7D9350309}" type="slidenum">
              <a:rPr b="0" lang="en-US" sz="1400" spc="-1" strike="noStrike">
                <a:solidFill>
                  <a:srgbClr val="666699"/>
                </a:solidFill>
                <a:latin typeface="Times New Roman"/>
                <a:ea typeface="Noto Serif CJK 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41544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787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2.</a:t>
            </a:r>
            <a:fld id="{B625BBFE-DFFE-4BA4-B94F-7DBA260A31AD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944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1888640" y="5445000"/>
            <a:ext cx="30348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-4680" y="0"/>
            <a:ext cx="8920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86440" y="5726160"/>
            <a:ext cx="36842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5580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085760" y="1093320"/>
            <a:ext cx="1021104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23480" y="117360"/>
            <a:ext cx="10765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16360" y="5780160"/>
            <a:ext cx="459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794800" y="6217920"/>
            <a:ext cx="2535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  <a:ea typeface="Noto Serif CJK S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fld id="{A364A162-7337-4B3A-B1FF-86C9898E09AF}" type="slidenum">
              <a:rPr b="0" lang="en-US" sz="1400" spc="-1" strike="noStrike">
                <a:solidFill>
                  <a:srgbClr val="578963"/>
                </a:solidFill>
                <a:latin typeface="Times New Roman"/>
                <a:ea typeface="Noto Serif CJK 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2286000"/>
            <a:ext cx="1036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2: Query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23840" y="117360"/>
            <a:ext cx="7885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Selections Using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5040" y="1077840"/>
            <a:ext cx="78357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Index scan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arch algorithms that use a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ion condition must be on search-key of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2 (primary B+-tree index , equality on key)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trieve a single record that satisfies the corresponding equality condi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s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= (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h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i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+ 1) * (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t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+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t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080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06440" y="3100320"/>
            <a:ext cx="5203800" cy="19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559640" y="4767120"/>
            <a:ext cx="1278000" cy="8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9640" y="310032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9640" y="393372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561492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18240" y="4917960"/>
            <a:ext cx="1440" cy="9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/>
          <p:nvPr/>
        </p:nvCxnSpPr>
        <p:spPr>
          <a:xfrm>
            <a:off x="5717880" y="5819760"/>
            <a:ext cx="1842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"/>
          <p:cNvSpPr/>
          <p:nvPr/>
        </p:nvSpPr>
        <p:spPr>
          <a:xfrm>
            <a:off x="4641840" y="4919760"/>
            <a:ext cx="144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/>
          <p:nvPr/>
        </p:nvCxnSpPr>
        <p:spPr>
          <a:xfrm>
            <a:off x="4641480" y="5451480"/>
            <a:ext cx="2918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9" name=""/>
          <p:cNvSpPr/>
          <p:nvPr/>
        </p:nvSpPr>
        <p:spPr>
          <a:xfrm>
            <a:off x="1387440" y="4906800"/>
            <a:ext cx="1800" cy="139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87440" y="6303960"/>
            <a:ext cx="5715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102440" y="3300480"/>
            <a:ext cx="1800" cy="30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>
            <a:off x="7102440" y="330516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"/>
          <p:cNvSpPr/>
          <p:nvPr/>
        </p:nvSpPr>
        <p:spPr>
          <a:xfrm>
            <a:off x="1751040" y="4906800"/>
            <a:ext cx="1440" cy="11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1040" y="6018120"/>
            <a:ext cx="5149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900840" y="3498480"/>
            <a:ext cx="1440" cy="25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endCxn id="122" idx="1"/>
          </p:cNvCxnSpPr>
          <p:nvPr/>
        </p:nvCxnSpPr>
        <p:spPr>
          <a:xfrm>
            <a:off x="6915240" y="3503160"/>
            <a:ext cx="645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7" name=""/>
          <p:cNvSpPr/>
          <p:nvPr/>
        </p:nvSpPr>
        <p:spPr>
          <a:xfrm>
            <a:off x="2368440" y="524844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08520" y="4919760"/>
            <a:ext cx="1440" cy="328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08520" y="5248440"/>
            <a:ext cx="34225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331040" y="4332240"/>
            <a:ext cx="1800" cy="92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endCxn id="123" idx="1"/>
          </p:cNvCxnSpPr>
          <p:nvPr/>
        </p:nvCxnSpPr>
        <p:spPr>
          <a:xfrm>
            <a:off x="7330680" y="4336560"/>
            <a:ext cx="2293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23840" y="117360"/>
            <a:ext cx="8008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Selections Using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7640" y="1012680"/>
            <a:ext cx="78357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3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primary B+-tree index, equality on nonkey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trieve multiple reco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cords will be on consecutive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t b = number of blocks containing matching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s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=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h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i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*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t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+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t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+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t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+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t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30280" y="3121200"/>
            <a:ext cx="5203800" cy="197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683480" y="312120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83480" y="3954600"/>
            <a:ext cx="1278000" cy="80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83480" y="563580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42080" y="4940280"/>
            <a:ext cx="144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/>
          <p:nvPr/>
        </p:nvCxnSpPr>
        <p:spPr>
          <a:xfrm>
            <a:off x="5841720" y="5839920"/>
            <a:ext cx="1842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" name=""/>
          <p:cNvSpPr/>
          <p:nvPr/>
        </p:nvSpPr>
        <p:spPr>
          <a:xfrm>
            <a:off x="4765680" y="4940280"/>
            <a:ext cx="144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/>
          <p:nvPr/>
        </p:nvCxnSpPr>
        <p:spPr>
          <a:xfrm>
            <a:off x="4765320" y="5471640"/>
            <a:ext cx="29185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2" name=""/>
          <p:cNvSpPr/>
          <p:nvPr/>
        </p:nvSpPr>
        <p:spPr>
          <a:xfrm>
            <a:off x="1511280" y="4927680"/>
            <a:ext cx="1440" cy="139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11280" y="6324480"/>
            <a:ext cx="5715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226280" y="3320640"/>
            <a:ext cx="1440" cy="300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/>
          <p:nvPr/>
        </p:nvCxnSpPr>
        <p:spPr>
          <a:xfrm>
            <a:off x="7226280" y="3325320"/>
            <a:ext cx="4579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"/>
          <p:cNvSpPr/>
          <p:nvPr/>
        </p:nvSpPr>
        <p:spPr>
          <a:xfrm>
            <a:off x="1874880" y="4927680"/>
            <a:ext cx="1440" cy="11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74880" y="6039000"/>
            <a:ext cx="514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024680" y="3519360"/>
            <a:ext cx="1440" cy="252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endCxn id="145" idx="1"/>
          </p:cNvCxnSpPr>
          <p:nvPr/>
        </p:nvCxnSpPr>
        <p:spPr>
          <a:xfrm>
            <a:off x="7039080" y="3524400"/>
            <a:ext cx="64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"/>
          <p:cNvSpPr/>
          <p:nvPr/>
        </p:nvSpPr>
        <p:spPr>
          <a:xfrm>
            <a:off x="2492280" y="526896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32360" y="4940280"/>
            <a:ext cx="1440" cy="328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32360" y="5268960"/>
            <a:ext cx="34225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7454880" y="4352760"/>
            <a:ext cx="1440" cy="92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endCxn id="146" idx="1"/>
          </p:cNvCxnSpPr>
          <p:nvPr/>
        </p:nvCxnSpPr>
        <p:spPr>
          <a:xfrm>
            <a:off x="7454520" y="4357800"/>
            <a:ext cx="2293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"/>
          <p:cNvSpPr/>
          <p:nvPr/>
        </p:nvSpPr>
        <p:spPr>
          <a:xfrm>
            <a:off x="7683480" y="480060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23840" y="117360"/>
            <a:ext cx="8008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Selections Using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9080" y="1130400"/>
            <a:ext cx="7836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4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secondary B+-tree index , equality on key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st = (h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i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+ 1) * (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t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+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t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23840" y="2886120"/>
            <a:ext cx="5203800" cy="1979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277040" y="455292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77040" y="288612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77040" y="371952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77040" y="540072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5640" y="4703760"/>
            <a:ext cx="144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/>
          <p:nvPr/>
        </p:nvCxnSpPr>
        <p:spPr>
          <a:xfrm>
            <a:off x="5435280" y="5241960"/>
            <a:ext cx="1842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5" name=""/>
          <p:cNvSpPr/>
          <p:nvPr/>
        </p:nvSpPr>
        <p:spPr>
          <a:xfrm>
            <a:off x="4359240" y="4705200"/>
            <a:ext cx="180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/>
          <p:nvPr/>
        </p:nvCxnSpPr>
        <p:spPr>
          <a:xfrm>
            <a:off x="4358880" y="5505480"/>
            <a:ext cx="2918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7" name=""/>
          <p:cNvSpPr/>
          <p:nvPr/>
        </p:nvSpPr>
        <p:spPr>
          <a:xfrm>
            <a:off x="1104840" y="4692600"/>
            <a:ext cx="1800" cy="139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04840" y="6089760"/>
            <a:ext cx="5715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819840" y="3300120"/>
            <a:ext cx="1800" cy="27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/>
          <p:nvPr/>
        </p:nvCxnSpPr>
        <p:spPr>
          <a:xfrm>
            <a:off x="6819840" y="330516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1" name=""/>
          <p:cNvSpPr/>
          <p:nvPr/>
        </p:nvSpPr>
        <p:spPr>
          <a:xfrm>
            <a:off x="1468440" y="4692600"/>
            <a:ext cx="1440" cy="11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68440" y="5803920"/>
            <a:ext cx="514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618240" y="3539880"/>
            <a:ext cx="1800" cy="22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/>
          <p:nvPr/>
        </p:nvCxnSpPr>
        <p:spPr>
          <a:xfrm>
            <a:off x="6632640" y="3544920"/>
            <a:ext cx="64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"/>
          <p:cNvSpPr/>
          <p:nvPr/>
        </p:nvSpPr>
        <p:spPr>
          <a:xfrm>
            <a:off x="2085840" y="503244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25920" y="4705200"/>
            <a:ext cx="1440" cy="327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25920" y="5032440"/>
            <a:ext cx="34225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048440" y="3901680"/>
            <a:ext cx="1800" cy="1135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7048080" y="3906360"/>
            <a:ext cx="229320" cy="3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23840" y="117360"/>
            <a:ext cx="772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Selections Using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63640" y="1189080"/>
            <a:ext cx="78357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4’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secondary B+-index on nonkey, equalit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ach of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atching records may be on a different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 pointers may be stored in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block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st =  (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h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i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+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+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n) *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t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+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t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2860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n be very expens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12920" y="3187800"/>
            <a:ext cx="5203800" cy="19796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566120" y="4854600"/>
            <a:ext cx="1278000" cy="80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66120" y="318780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66120" y="402120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66120" y="570240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24360" y="5005440"/>
            <a:ext cx="180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/>
          <p:nvPr/>
        </p:nvCxnSpPr>
        <p:spPr>
          <a:xfrm>
            <a:off x="5724000" y="5543640"/>
            <a:ext cx="1847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"/>
          <p:cNvSpPr/>
          <p:nvPr/>
        </p:nvSpPr>
        <p:spPr>
          <a:xfrm>
            <a:off x="4648320" y="5006880"/>
            <a:ext cx="144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/>
          <p:nvPr/>
        </p:nvCxnSpPr>
        <p:spPr>
          <a:xfrm>
            <a:off x="4647960" y="5807160"/>
            <a:ext cx="2918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1" name=""/>
          <p:cNvSpPr/>
          <p:nvPr/>
        </p:nvSpPr>
        <p:spPr>
          <a:xfrm>
            <a:off x="1393920" y="4994280"/>
            <a:ext cx="1440" cy="139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93920" y="6391440"/>
            <a:ext cx="5715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108920" y="3603240"/>
            <a:ext cx="1440" cy="279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/>
          <p:nvPr/>
        </p:nvCxnSpPr>
        <p:spPr>
          <a:xfrm>
            <a:off x="7108920" y="3607920"/>
            <a:ext cx="4579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"/>
          <p:cNvSpPr/>
          <p:nvPr/>
        </p:nvSpPr>
        <p:spPr>
          <a:xfrm>
            <a:off x="1757520" y="4994280"/>
            <a:ext cx="1440" cy="10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57520" y="6051600"/>
            <a:ext cx="514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6901920" y="3841560"/>
            <a:ext cx="24120" cy="22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/>
          <p:nvPr/>
        </p:nvCxnSpPr>
        <p:spPr>
          <a:xfrm>
            <a:off x="6921360" y="3846600"/>
            <a:ext cx="648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9" name=""/>
          <p:cNvCxnSpPr/>
          <p:nvPr/>
        </p:nvCxnSpPr>
        <p:spPr>
          <a:xfrm>
            <a:off x="6645240" y="4177800"/>
            <a:ext cx="923040" cy="3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0" name=""/>
          <p:cNvCxnSpPr/>
          <p:nvPr/>
        </p:nvCxnSpPr>
        <p:spPr>
          <a:xfrm>
            <a:off x="6779880" y="5006520"/>
            <a:ext cx="786600" cy="3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1" name=""/>
          <p:cNvCxnSpPr/>
          <p:nvPr/>
        </p:nvCxnSpPr>
        <p:spPr>
          <a:xfrm>
            <a:off x="3922200" y="6146280"/>
            <a:ext cx="3623400" cy="3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2" name=""/>
          <p:cNvSpPr/>
          <p:nvPr/>
        </p:nvSpPr>
        <p:spPr>
          <a:xfrm>
            <a:off x="3693960" y="5299200"/>
            <a:ext cx="457200" cy="68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212" idx="0"/>
          </p:cNvCxnSpPr>
          <p:nvPr/>
        </p:nvCxnSpPr>
        <p:spPr>
          <a:xfrm>
            <a:off x="3922200" y="5006880"/>
            <a:ext cx="252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4" name=""/>
          <p:cNvSpPr/>
          <p:nvPr/>
        </p:nvSpPr>
        <p:spPr>
          <a:xfrm>
            <a:off x="6645240" y="4178160"/>
            <a:ext cx="1800" cy="1214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02040" y="5392800"/>
            <a:ext cx="27432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02040" y="5646600"/>
            <a:ext cx="2884680" cy="1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80240" y="5005440"/>
            <a:ext cx="1440" cy="657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08520" y="5888160"/>
            <a:ext cx="1440" cy="2584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23840" y="117360"/>
            <a:ext cx="7337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Selections Involving Compa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12880" y="860400"/>
            <a:ext cx="7402320" cy="60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n implement selections of the for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by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linear file scan or binary sear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r by using indices in the following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5 (primary B+-index, comparison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Relation is sorted on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A 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 V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(r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se index to find first tup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and scan relation sequentially  from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V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just scan relation sequentially till first tuple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o not us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198440" y="3417840"/>
            <a:ext cx="5203800" cy="1979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450200" y="3417840"/>
            <a:ext cx="1278000" cy="8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50200" y="425304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0200" y="5932440"/>
            <a:ext cx="1278000" cy="8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6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08800" y="5237280"/>
            <a:ext cx="144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/>
          <p:nvPr/>
        </p:nvCxnSpPr>
        <p:spPr>
          <a:xfrm>
            <a:off x="5608440" y="6137280"/>
            <a:ext cx="1842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7" name=""/>
          <p:cNvSpPr/>
          <p:nvPr/>
        </p:nvSpPr>
        <p:spPr>
          <a:xfrm>
            <a:off x="4532400" y="5237280"/>
            <a:ext cx="1440" cy="54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"/>
          <p:cNvCxnSpPr/>
          <p:nvPr/>
        </p:nvCxnSpPr>
        <p:spPr>
          <a:xfrm>
            <a:off x="4532040" y="5769000"/>
            <a:ext cx="2918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"/>
          <p:cNvSpPr/>
          <p:nvPr/>
        </p:nvSpPr>
        <p:spPr>
          <a:xfrm>
            <a:off x="1278000" y="5226120"/>
            <a:ext cx="1440" cy="13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6648480"/>
            <a:ext cx="5715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93000" y="3618000"/>
            <a:ext cx="1440" cy="30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/>
          <p:nvPr/>
        </p:nvCxnSpPr>
        <p:spPr>
          <a:xfrm>
            <a:off x="6993000" y="362268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3" name=""/>
          <p:cNvSpPr/>
          <p:nvPr/>
        </p:nvSpPr>
        <p:spPr>
          <a:xfrm>
            <a:off x="1641600" y="5226120"/>
            <a:ext cx="1440" cy="11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41600" y="6337440"/>
            <a:ext cx="514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791400" y="3817800"/>
            <a:ext cx="1440" cy="252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endCxn id="222" idx="1"/>
          </p:cNvCxnSpPr>
          <p:nvPr/>
        </p:nvCxnSpPr>
        <p:spPr>
          <a:xfrm flipV="1">
            <a:off x="6805080" y="3820320"/>
            <a:ext cx="64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7" name=""/>
          <p:cNvSpPr/>
          <p:nvPr/>
        </p:nvSpPr>
        <p:spPr>
          <a:xfrm>
            <a:off x="2260440" y="556560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0520" y="5237280"/>
            <a:ext cx="1440" cy="328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0520" y="5565600"/>
            <a:ext cx="342108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221600" y="4651200"/>
            <a:ext cx="1440" cy="919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"/>
          <p:cNvCxnSpPr>
            <a:endCxn id="223" idx="1"/>
          </p:cNvCxnSpPr>
          <p:nvPr/>
        </p:nvCxnSpPr>
        <p:spPr>
          <a:xfrm>
            <a:off x="7221240" y="4656240"/>
            <a:ext cx="2293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2" name=""/>
          <p:cNvSpPr/>
          <p:nvPr/>
        </p:nvSpPr>
        <p:spPr>
          <a:xfrm>
            <a:off x="7450200" y="509760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Selections Involving Compa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88840" y="885960"/>
            <a:ext cx="7707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6 (secondary B+-tree index, compariso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A 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 V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(r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se index to find first index entr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scan index sequentially  from there, to find pointers to rec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V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ust scan leaf pages of index finding pointers to records, till first entry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either case, retrieve records that are poin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quires an I/O for each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near file scan may be che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174680" y="3379680"/>
            <a:ext cx="5203800" cy="1979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7427880" y="504684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6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27880" y="337968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27880" y="4213080"/>
            <a:ext cx="1278000" cy="8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27880" y="589428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86480" y="5197320"/>
            <a:ext cx="144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"/>
          <p:cNvCxnSpPr/>
          <p:nvPr/>
        </p:nvCxnSpPr>
        <p:spPr>
          <a:xfrm>
            <a:off x="5586120" y="5735160"/>
            <a:ext cx="1842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2" name=""/>
          <p:cNvSpPr/>
          <p:nvPr/>
        </p:nvSpPr>
        <p:spPr>
          <a:xfrm>
            <a:off x="4510080" y="5199120"/>
            <a:ext cx="144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"/>
          <p:cNvCxnSpPr/>
          <p:nvPr/>
        </p:nvCxnSpPr>
        <p:spPr>
          <a:xfrm>
            <a:off x="4509720" y="5998680"/>
            <a:ext cx="29185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"/>
          <p:cNvSpPr/>
          <p:nvPr/>
        </p:nvSpPr>
        <p:spPr>
          <a:xfrm>
            <a:off x="1255680" y="5186520"/>
            <a:ext cx="1800" cy="139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55680" y="6583320"/>
            <a:ext cx="5715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970680" y="3793680"/>
            <a:ext cx="1800" cy="27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"/>
          <p:cNvCxnSpPr/>
          <p:nvPr/>
        </p:nvCxnSpPr>
        <p:spPr>
          <a:xfrm>
            <a:off x="6970680" y="3798360"/>
            <a:ext cx="4579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" name=""/>
          <p:cNvSpPr/>
          <p:nvPr/>
        </p:nvSpPr>
        <p:spPr>
          <a:xfrm>
            <a:off x="1619280" y="5186520"/>
            <a:ext cx="1440" cy="10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19280" y="6243480"/>
            <a:ext cx="5149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6764400" y="4033800"/>
            <a:ext cx="23760" cy="221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"/>
          <p:cNvCxnSpPr/>
          <p:nvPr/>
        </p:nvCxnSpPr>
        <p:spPr>
          <a:xfrm>
            <a:off x="6783480" y="4038120"/>
            <a:ext cx="645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"/>
          <p:cNvCxnSpPr/>
          <p:nvPr/>
        </p:nvCxnSpPr>
        <p:spPr>
          <a:xfrm>
            <a:off x="6506640" y="4368960"/>
            <a:ext cx="9262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3" name=""/>
          <p:cNvCxnSpPr/>
          <p:nvPr/>
        </p:nvCxnSpPr>
        <p:spPr>
          <a:xfrm>
            <a:off x="6641640" y="5199120"/>
            <a:ext cx="786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4" name=""/>
          <p:cNvCxnSpPr/>
          <p:nvPr/>
        </p:nvCxnSpPr>
        <p:spPr>
          <a:xfrm>
            <a:off x="3784320" y="6338880"/>
            <a:ext cx="36234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5" name=""/>
          <p:cNvSpPr/>
          <p:nvPr/>
        </p:nvSpPr>
        <p:spPr>
          <a:xfrm>
            <a:off x="3556080" y="5491080"/>
            <a:ext cx="457200" cy="68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"/>
          <p:cNvCxnSpPr>
            <a:endCxn id="265" idx="0"/>
          </p:cNvCxnSpPr>
          <p:nvPr/>
        </p:nvCxnSpPr>
        <p:spPr>
          <a:xfrm>
            <a:off x="3784680" y="5198760"/>
            <a:ext cx="216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7" name=""/>
          <p:cNvSpPr/>
          <p:nvPr/>
        </p:nvSpPr>
        <p:spPr>
          <a:xfrm>
            <a:off x="6507000" y="4368960"/>
            <a:ext cx="1800" cy="1215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63800" y="5584680"/>
            <a:ext cx="2743200" cy="1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63800" y="5838840"/>
            <a:ext cx="288468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42000" y="5197320"/>
            <a:ext cx="1800" cy="655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70280" y="6080040"/>
            <a:ext cx="1800" cy="258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023840" y="117360"/>
            <a:ext cx="8410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mplementation of Complex S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25560" y="1074600"/>
            <a:ext cx="8396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junction: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7 (conjunctive selection using one index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a combination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algorithms A1 through A6 that results in the least cost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 other conditions on tuple after fetching it into memory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8 (conjunctive selection using composite index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appropriate composite (multiple-key) index if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9 (conjunctive selection by intersection of identifier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indices with record poin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corresponding index for each condition, and take intersection of all the obtained sets of record poin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n fetch records from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some conditions do not have appropriate indices, apply test in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23840" y="117360"/>
            <a:ext cx="808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lgorithms for Complex S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84160" y="1247760"/>
            <a:ext cx="773748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jun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10 (disjunctive selection by union of identifier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ble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nditions have available indic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wise use linear s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corresponding index for each condition, and take union of all the obtained sets of record poin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n fetch records from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gation: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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linear scan on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very few records satisf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and an index is applicable t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d satisfying records using index and fetch from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023840" y="117360"/>
            <a:ext cx="7475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25560" y="1128600"/>
            <a:ext cx="832968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ay build an index on the relation, and then use the index to read the relation in sorted order.  May lead to one disk block access for each tu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lations that fit in memory, techniques like quicksort can be us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lations that d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fit in memor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ternal sort-merg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good cho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000080" y="255600"/>
            <a:ext cx="78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xample: External Sorting Using Sort-M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681200" y="803160"/>
            <a:ext cx="5149800" cy="58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23840" y="117360"/>
            <a:ext cx="7232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2:  Query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60480" y="1111320"/>
            <a:ext cx="656424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teps in Query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of Quer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per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 Op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023840" y="117360"/>
            <a:ext cx="7905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rnal Sort-Me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9080" y="1492200"/>
            <a:ext cx="811692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76200" indent="-376200">
              <a:spcBef>
                <a:spcPts val="876"/>
              </a:spcBef>
              <a:buClr>
                <a:srgbClr val="cc33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sor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runs(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</a:rPr>
              <a:t>归并段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76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0 initial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ly do the following till the end of the relation:</a:t>
            </a:r>
            <a:br>
              <a:rPr sz="2000"/>
            </a:b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     (a)  Read </a:t>
            </a:r>
            <a:r>
              <a:rPr b="0" i="1" lang="en-US" sz="2000" spc="-1" strike="noStrike">
                <a:solidFill>
                  <a:srgbClr val="3366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 blocks of relation into memory</a:t>
            </a:r>
            <a:br>
              <a:rPr sz="2000"/>
            </a:b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     (b)  Sort the in-memory blocks</a:t>
            </a:r>
            <a:br>
              <a:rPr sz="2000"/>
            </a:b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     (c)  Write sorted data to run </a:t>
            </a:r>
            <a:r>
              <a:rPr b="0" i="1" lang="en-US" sz="2000" spc="-1" strike="noStrike">
                <a:solidFill>
                  <a:srgbClr val="3366cc"/>
                </a:solidFill>
                <a:latin typeface="Arial"/>
              </a:rPr>
              <a:t>R</a:t>
            </a:r>
            <a:r>
              <a:rPr b="0" i="1" lang="en-US" sz="2800" spc="-1" strike="noStrike" baseline="-25000">
                <a:solidFill>
                  <a:srgbClr val="3366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; increment </a:t>
            </a:r>
            <a:r>
              <a:rPr b="0" i="1" lang="en-US" sz="2000" spc="-1" strike="noStrike">
                <a:solidFill>
                  <a:srgbClr val="3366cc"/>
                </a:solidFill>
                <a:latin typeface="Arial"/>
              </a:rPr>
              <a:t>i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the final value o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i="1" lang="en-US" sz="2000" spc="-1" strike="noStrike">
                <a:solidFill>
                  <a:srgbClr val="3366cc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76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17640" y="879840"/>
            <a:ext cx="52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ory size (in pag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023840" y="117360"/>
            <a:ext cx="7767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rnal Sort-Merg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90640" y="760320"/>
            <a:ext cx="731052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ge the runs (N-way mer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 N &lt; M,  single merge pass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如果归并段少于可用内存页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block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memory to buffer input runs,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 blo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buffer output. Read the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first block of each ru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o its buff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3384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the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first recor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n sort order) among all buffer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3384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 the record to the output buffer.  If the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output buff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full write it to d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3384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ete the record from its input buffer page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buffer page becomes emp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read the next block (if any) of the run into the buff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t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ll input buffer pages are emp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663040" y="3821040"/>
            <a:ext cx="5335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663040" y="4700520"/>
            <a:ext cx="5335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663040" y="5589720"/>
            <a:ext cx="5335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670960" y="2546280"/>
            <a:ext cx="533520" cy="824040"/>
          </a:xfrm>
          <a:prstGeom prst="rect">
            <a:avLst/>
          </a:prstGeom>
          <a:solidFill>
            <a:srgbClr val="9ed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698040" y="2540160"/>
            <a:ext cx="534960" cy="824040"/>
          </a:xfrm>
          <a:prstGeom prst="rect">
            <a:avLst/>
          </a:prstGeom>
          <a:solidFill>
            <a:srgbClr val="9edbff"/>
          </a:solidFill>
          <a:ln w="9360">
            <a:solidFill>
              <a:srgbClr val="9ed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98040" y="3821040"/>
            <a:ext cx="53496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698040" y="4700520"/>
            <a:ext cx="53496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698040" y="5600880"/>
            <a:ext cx="53496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744200" y="2540160"/>
            <a:ext cx="533520" cy="8240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228160" y="3582720"/>
            <a:ext cx="3851280" cy="1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25000" y="3170160"/>
            <a:ext cx="479160" cy="106560"/>
          </a:xfrm>
          <a:prstGeom prst="rightArrow">
            <a:avLst>
              <a:gd name="adj1" fmla="val 50000"/>
              <a:gd name="adj2" fmla="val 50150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334440" y="3170160"/>
            <a:ext cx="477720" cy="1065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734840" y="3865680"/>
            <a:ext cx="534960" cy="8240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85" idx="0"/>
            <a:endCxn id="288" idx="2"/>
          </p:cNvCxnSpPr>
          <p:nvPr/>
        </p:nvCxnSpPr>
        <p:spPr>
          <a:xfrm flipV="1">
            <a:off x="8929800" y="3369960"/>
            <a:ext cx="8640" cy="45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/>
          <p:nvPr/>
        </p:nvCxnSpPr>
        <p:spPr>
          <a:xfrm flipV="1">
            <a:off x="9966240" y="3357360"/>
            <a:ext cx="8640" cy="444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93" idx="2"/>
            <a:endCxn id="297" idx="0"/>
          </p:cNvCxnSpPr>
          <p:nvPr/>
        </p:nvCxnSpPr>
        <p:spPr>
          <a:xfrm flipH="1">
            <a:off x="11002680" y="3363840"/>
            <a:ext cx="8640" cy="50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8604360" y="6365880"/>
            <a:ext cx="6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690120" y="63928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877240" y="1743120"/>
            <a:ext cx="2443320" cy="797040"/>
          </a:xfrm>
          <a:custGeom>
            <a:avLst/>
            <a:gdLst>
              <a:gd name="textAreaLeft" fmla="*/ 559080 w 2443320"/>
              <a:gd name="textAreaRight" fmla="*/ 1823760 w 2443320"/>
              <a:gd name="textAreaTop" fmla="*/ 106560 h 797040"/>
              <a:gd name="textAreaBottom" fmla="*/ 690480 h 79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85" hR="21600" stAng="10800000" swAng="5400000"/>
                <a:lnTo>
                  <a:pt x="11181" y="0"/>
                </a:lnTo>
                <a:arcTo wR="9885" hR="21600" stAng="-5400000" swAng="3915580"/>
                <a:lnTo>
                  <a:pt x="21387" y="17143"/>
                </a:lnTo>
                <a:lnTo>
                  <a:pt x="20418" y="21600"/>
                </a:lnTo>
                <a:lnTo>
                  <a:pt x="19023" y="17143"/>
                </a:lnTo>
                <a:lnTo>
                  <a:pt x="19557" y="17143"/>
                </a:lnTo>
                <a:arcTo wR="9885" hR="21600" stAng="-1484420" swAng="-3812257"/>
                <a:lnTo>
                  <a:pt x="10533" y="46"/>
                </a:lnTo>
                <a:arcTo wR="9885" hR="21600" stAng="-5503324" swAng="-5296676"/>
                <a:close/>
              </a:path>
              <a:path fill="darkenLess" w="21600" h="21600">
                <a:moveTo>
                  <a:pt x="0" y="21600"/>
                </a:moveTo>
                <a:arcTo wR="9885" hR="21600" stAng="10800000" swAng="5400000"/>
                <a:lnTo>
                  <a:pt x="9885" y="0"/>
                </a:lnTo>
                <a:arcTo wR="9885" hR="21600" stAng="-5400000" swAng="103324"/>
                <a:lnTo>
                  <a:pt x="10533" y="46"/>
                </a:lnTo>
                <a:arcTo wR="9885" hR="21600" stAng="-5503324" swAng="-5296676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909000" y="1959120"/>
            <a:ext cx="1092240" cy="583920"/>
          </a:xfrm>
          <a:custGeom>
            <a:avLst/>
            <a:gdLst>
              <a:gd name="textAreaLeft" fmla="*/ 218160 w 1092240"/>
              <a:gd name="textAreaRight" fmla="*/ 801000 w 1092240"/>
              <a:gd name="textAreaTop" fmla="*/ 78120 h 583920"/>
              <a:gd name="textAreaBottom" fmla="*/ 505800 h 583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34" hR="21600" stAng="10800000" swAng="5400000"/>
                <a:lnTo>
                  <a:pt x="11522" y="0"/>
                </a:lnTo>
                <a:arcTo wR="8634" hR="21600" stAng="-5400000" swAng="3428384"/>
                <a:lnTo>
                  <a:pt x="21326" y="16200"/>
                </a:lnTo>
                <a:lnTo>
                  <a:pt x="18712" y="21600"/>
                </a:lnTo>
                <a:lnTo>
                  <a:pt x="15550" y="16200"/>
                </a:lnTo>
                <a:lnTo>
                  <a:pt x="16994" y="16200"/>
                </a:lnTo>
                <a:arcTo wR="8634" hR="21600" stAng="-1971616" swAng="-3195637"/>
                <a:lnTo>
                  <a:pt x="10078" y="304"/>
                </a:lnTo>
                <a:arcTo wR="8634" hR="21600" stAng="-5632747" swAng="-5167253"/>
                <a:close/>
              </a:path>
              <a:path fill="darkenLess" w="21600" h="21600">
                <a:moveTo>
                  <a:pt x="0" y="21600"/>
                </a:moveTo>
                <a:arcTo wR="8634" hR="21600" stAng="10800000" swAng="5400000"/>
                <a:lnTo>
                  <a:pt x="8634" y="0"/>
                </a:lnTo>
                <a:arcTo wR="8634" hR="21600" stAng="-5400000" swAng="232747"/>
                <a:lnTo>
                  <a:pt x="10078" y="304"/>
                </a:lnTo>
                <a:arcTo wR="8634" hR="21600" stAng="-5632747" swAng="-5167253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345760" y="2638440"/>
            <a:ext cx="84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023840" y="117360"/>
            <a:ext cx="8431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rnal Sort-Merg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84160" y="1255680"/>
            <a:ext cx="779796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several merg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asse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are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each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pas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ntiguous groups of </a:t>
            </a:r>
            <a:r>
              <a:rPr b="1" i="1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M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-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s are merg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ass reduces the number of runs by a factor of </a:t>
            </a:r>
            <a:r>
              <a:rPr b="1" i="1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M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 -1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creates runs longer by the same fact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  If M=11, and there are 90 runs, one pass reduces the number of runs to 9, each 10 times the size of the initial r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ed passes are performed till all runs have been merged into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023840" y="117360"/>
            <a:ext cx="7836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rnal Merge Sor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7800" y="1219320"/>
            <a:ext cx="7661160" cy="49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analysis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66cc"/>
                </a:solidFill>
                <a:latin typeface="Arial"/>
              </a:rPr>
              <a:t>simple vers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number of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ru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: 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r /M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number of merg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pa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quired: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g 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M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–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/M)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 transfers for initial run creation as well as in each pass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final pass, we d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 count write c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2860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ignore final write cost for all operations since the output of an operation may be sent to the parent operation without being written to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us total number of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block transf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ternal sort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g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 M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–1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/ M)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+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392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 2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g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 M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–1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/ M)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+ 1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023840" y="117360"/>
            <a:ext cx="6478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rnal Merge Sor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85760" y="1093680"/>
            <a:ext cx="596592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eks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imple ver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uring run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one seek to read each run and one seek to write each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/ M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2* [the number of run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ing the merge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ks for each merge p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28600">
              <a:lnSpc>
                <a:spcPct val="10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ept the final one which does not require a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are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–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br / M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merger p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number of seek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/ M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+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g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M-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/ M)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8211960" y="2563920"/>
            <a:ext cx="252720" cy="1739880"/>
          </a:xfrm>
          <a:custGeom>
            <a:avLst/>
            <a:gdLst>
              <a:gd name="textAreaLeft" fmla="*/ 161640 w 252720"/>
              <a:gd name="textAreaRight" fmla="*/ 253080 w 252720"/>
              <a:gd name="textAreaTop" fmla="*/ 6480 h 1739880"/>
              <a:gd name="textAreaBottom" fmla="*/ 1733400 h 173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1"/>
                  <a:pt x="10800" y="262"/>
                </a:cubicBezTo>
                <a:lnTo>
                  <a:pt x="10800" y="10538"/>
                </a:lnTo>
                <a:cubicBezTo>
                  <a:pt x="10800" y="10669"/>
                  <a:pt x="5400" y="10800"/>
                  <a:pt x="0" y="10800"/>
                </a:cubicBezTo>
                <a:cubicBezTo>
                  <a:pt x="5400" y="10800"/>
                  <a:pt x="10800" y="10931"/>
                  <a:pt x="10800" y="11062"/>
                </a:cubicBezTo>
                <a:lnTo>
                  <a:pt x="10800" y="21338"/>
                </a:lnTo>
                <a:cubicBezTo>
                  <a:pt x="10800" y="21469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23840" y="117360"/>
            <a:ext cx="7635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rnal Merge Sor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41240" y="1068480"/>
            <a:ext cx="672948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analysis:  (</a:t>
            </a: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advanced ver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block per run leads to too many seeks during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Instead use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b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Arial"/>
                <a:ea typeface="ＭＳ Ｐゴシック"/>
              </a:rPr>
              <a:t>b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 buffer blocks per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39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/writ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locks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merge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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/b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runs in one 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number of merge passes requir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g 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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M/bb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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–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/M)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 transfers for initial run creation as well as in each pass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final pass, we d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 count write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ignore final write cost for all operations since the output of an operation may be sent to the parent operation without being written to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us total number of block transfers for external sorting: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 2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g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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M/bb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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–1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/ M)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+ 1)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523360" y="3473280"/>
            <a:ext cx="53316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523360" y="4710240"/>
            <a:ext cx="53316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523360" y="5599080"/>
            <a:ext cx="53316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531280" y="2554200"/>
            <a:ext cx="534960" cy="824040"/>
          </a:xfrm>
          <a:prstGeom prst="rect">
            <a:avLst/>
          </a:prstGeom>
          <a:solidFill>
            <a:srgbClr val="9ed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559800" y="2549520"/>
            <a:ext cx="533520" cy="824040"/>
          </a:xfrm>
          <a:prstGeom prst="rect">
            <a:avLst/>
          </a:prstGeom>
          <a:solidFill>
            <a:srgbClr val="9edbff"/>
          </a:solidFill>
          <a:ln w="9360">
            <a:solidFill>
              <a:srgbClr val="9ed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559800" y="3490920"/>
            <a:ext cx="5335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559800" y="4710240"/>
            <a:ext cx="5335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559800" y="5610240"/>
            <a:ext cx="5335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604520" y="2549520"/>
            <a:ext cx="533520" cy="8240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172360" y="4049640"/>
            <a:ext cx="479520" cy="106560"/>
          </a:xfrm>
          <a:prstGeom prst="rightArrow">
            <a:avLst>
              <a:gd name="adj1" fmla="val 50000"/>
              <a:gd name="adj2" fmla="val 50188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196560" y="3849840"/>
            <a:ext cx="479160" cy="106200"/>
          </a:xfrm>
          <a:prstGeom prst="rightArrow">
            <a:avLst>
              <a:gd name="adj1" fmla="val 50000"/>
              <a:gd name="adj2" fmla="val 50320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613880" y="3490920"/>
            <a:ext cx="533520" cy="8240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"/>
          <p:cNvCxnSpPr/>
          <p:nvPr/>
        </p:nvCxnSpPr>
        <p:spPr>
          <a:xfrm>
            <a:off x="10872720" y="4324320"/>
            <a:ext cx="8640" cy="388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8464680" y="6375240"/>
            <a:ext cx="66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515520" y="6400800"/>
            <a:ext cx="7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737560" y="1751040"/>
            <a:ext cx="2444760" cy="798480"/>
          </a:xfrm>
          <a:custGeom>
            <a:avLst/>
            <a:gdLst>
              <a:gd name="textAreaLeft" fmla="*/ 559440 w 2444760"/>
              <a:gd name="textAreaRight" fmla="*/ 1824840 w 2444760"/>
              <a:gd name="textAreaTop" fmla="*/ 106920 h 798480"/>
              <a:gd name="textAreaBottom" fmla="*/ 691560 h 798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85" hR="21600" stAng="10800000" swAng="5400000"/>
                <a:lnTo>
                  <a:pt x="11181" y="0"/>
                </a:lnTo>
                <a:arcTo wR="9885" hR="21600" stAng="-5400000" swAng="3915580"/>
                <a:lnTo>
                  <a:pt x="21387" y="17143"/>
                </a:lnTo>
                <a:lnTo>
                  <a:pt x="20418" y="21600"/>
                </a:lnTo>
                <a:lnTo>
                  <a:pt x="19023" y="17143"/>
                </a:lnTo>
                <a:lnTo>
                  <a:pt x="19557" y="17143"/>
                </a:lnTo>
                <a:arcTo wR="9885" hR="21600" stAng="-1484420" swAng="-3812257"/>
                <a:lnTo>
                  <a:pt x="10533" y="46"/>
                </a:lnTo>
                <a:arcTo wR="9885" hR="21600" stAng="-5503324" swAng="-5296676"/>
                <a:close/>
              </a:path>
              <a:path fill="darkenLess" w="21600" h="21600">
                <a:moveTo>
                  <a:pt x="0" y="21600"/>
                </a:moveTo>
                <a:arcTo wR="9885" hR="21600" stAng="10800000" swAng="5400000"/>
                <a:lnTo>
                  <a:pt x="9885" y="0"/>
                </a:lnTo>
                <a:arcTo wR="9885" hR="21600" stAng="-5400000" swAng="103324"/>
                <a:lnTo>
                  <a:pt x="10533" y="46"/>
                </a:lnTo>
                <a:arcTo wR="9885" hR="21600" stAng="-5503324" swAng="-5296676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69320" y="1967040"/>
            <a:ext cx="1094040" cy="583920"/>
          </a:xfrm>
          <a:custGeom>
            <a:avLst/>
            <a:gdLst>
              <a:gd name="textAreaLeft" fmla="*/ 218520 w 1094040"/>
              <a:gd name="textAreaRight" fmla="*/ 802440 w 1094040"/>
              <a:gd name="textAreaTop" fmla="*/ 78120 h 583920"/>
              <a:gd name="textAreaBottom" fmla="*/ 505800 h 583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34" hR="21600" stAng="10800000" swAng="5400000"/>
                <a:lnTo>
                  <a:pt x="11522" y="0"/>
                </a:lnTo>
                <a:arcTo wR="8634" hR="21600" stAng="-5400000" swAng="3428384"/>
                <a:lnTo>
                  <a:pt x="21326" y="16200"/>
                </a:lnTo>
                <a:lnTo>
                  <a:pt x="18712" y="21600"/>
                </a:lnTo>
                <a:lnTo>
                  <a:pt x="15550" y="16200"/>
                </a:lnTo>
                <a:lnTo>
                  <a:pt x="16994" y="16200"/>
                </a:lnTo>
                <a:arcTo wR="8634" hR="21600" stAng="-1971616" swAng="-3195637"/>
                <a:lnTo>
                  <a:pt x="10078" y="304"/>
                </a:lnTo>
                <a:arcTo wR="8634" hR="21600" stAng="-5632747" swAng="-5167253"/>
                <a:close/>
              </a:path>
              <a:path fill="darkenLess" w="21600" h="21600">
                <a:moveTo>
                  <a:pt x="0" y="21600"/>
                </a:moveTo>
                <a:arcTo wR="8634" hR="21600" stAng="10800000" swAng="5400000"/>
                <a:lnTo>
                  <a:pt x="8634" y="0"/>
                </a:lnTo>
                <a:arcTo wR="8634" hR="21600" stAng="-5400000" swAng="232747"/>
                <a:lnTo>
                  <a:pt x="10078" y="304"/>
                </a:lnTo>
                <a:arcTo wR="8634" hR="21600" stAng="-5632747" swAng="-5167253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342520" y="2690640"/>
            <a:ext cx="8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7999560" y="4524480"/>
            <a:ext cx="3851280" cy="1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"/>
          <p:cNvCxnSpPr/>
          <p:nvPr/>
        </p:nvCxnSpPr>
        <p:spPr>
          <a:xfrm flipV="1">
            <a:off x="8811720" y="4314600"/>
            <a:ext cx="11880" cy="444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5" name=""/>
          <p:cNvCxnSpPr/>
          <p:nvPr/>
        </p:nvCxnSpPr>
        <p:spPr>
          <a:xfrm flipV="1">
            <a:off x="9813960" y="4306680"/>
            <a:ext cx="8640" cy="443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10604520" y="4711680"/>
            <a:ext cx="533520" cy="8240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594800" y="5610240"/>
            <a:ext cx="535320" cy="8240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10400" y="2665440"/>
            <a:ext cx="792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023840" y="117360"/>
            <a:ext cx="8404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rnal Merge Sor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85760" y="1093680"/>
            <a:ext cx="709452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ek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advanced ver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uring run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one seek to read each run and one seek to write each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r / M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2* [the number of run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ing the merge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r / b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ks for each merge p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28600">
              <a:lnSpc>
                <a:spcPct val="10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ept the final one which does not require a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are 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g 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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M/ bb 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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–1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br / M)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rger p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number of seeks:</a:t>
            </a:r>
            <a:br>
              <a:rPr sz="20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2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r / M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+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r / b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(2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g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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M/bb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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–1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br / M)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023840" y="117360"/>
            <a:ext cx="655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8576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different algorithms to implement j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Nested-loop 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Block nested-loop 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Indexed nested-loop 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Merge-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Hash-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based on cost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023840" y="117360"/>
            <a:ext cx="7504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sted-Loop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0480" y="1214280"/>
            <a:ext cx="6442200" cy="52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57200"/>
                <a:tab algn="l" pos="84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pute the theta join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ir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if they satisfy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876"/>
              </a:spcBef>
              <a:tabLst>
                <a:tab algn="l" pos="0"/>
                <a:tab algn="l" pos="457200"/>
                <a:tab algn="l" pos="84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condi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y do, ad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•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sul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57200"/>
                <a:tab algn="l" pos="84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outer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re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inner re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jo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57200"/>
                <a:tab algn="l" pos="84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no indices and can be used with any kind of join con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57200"/>
                <a:tab algn="l" pos="84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sive since it examines every pair of tuples in the two rel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4686120" y="141588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 rot="10800000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65960" y="3413160"/>
            <a:ext cx="1063800" cy="7128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265960" y="4222800"/>
            <a:ext cx="1063800" cy="7128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265960" y="5014800"/>
            <a:ext cx="1063800" cy="7128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607680" y="3843360"/>
            <a:ext cx="1062000" cy="712800"/>
          </a:xfrm>
          <a:prstGeom prst="rect">
            <a:avLst/>
          </a:prstGeom>
          <a:solidFill>
            <a:srgbClr val="0090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607680" y="4635360"/>
            <a:ext cx="1062000" cy="712800"/>
          </a:xfrm>
          <a:prstGeom prst="rect">
            <a:avLst/>
          </a:prstGeom>
          <a:solidFill>
            <a:srgbClr val="0090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0056960" y="5740560"/>
            <a:ext cx="106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90e5"/>
                </a:solidFill>
                <a:latin typeface="Arial"/>
                <a:ea typeface="宋体"/>
              </a:rPr>
              <a:t>s: 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7551720" y="2773080"/>
            <a:ext cx="4260960" cy="3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64600" y="1476360"/>
            <a:ext cx="1062000" cy="7128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487080" y="1471680"/>
            <a:ext cx="1062000" cy="712800"/>
          </a:xfrm>
          <a:prstGeom prst="rect">
            <a:avLst/>
          </a:prstGeom>
          <a:solidFill>
            <a:srgbClr val="0090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777080" y="3413160"/>
            <a:ext cx="362160" cy="2192400"/>
          </a:xfrm>
          <a:custGeom>
            <a:avLst/>
            <a:gdLst>
              <a:gd name="textAreaLeft" fmla="*/ 231480 w 362160"/>
              <a:gd name="textAreaRight" fmla="*/ 362160 w 362160"/>
              <a:gd name="textAreaTop" fmla="*/ 9360 h 2192400"/>
              <a:gd name="textAreaBottom" fmla="*/ 2183040 h 219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9"/>
                  <a:pt x="10800" y="297"/>
                </a:cubicBezTo>
                <a:lnTo>
                  <a:pt x="10800" y="10503"/>
                </a:lnTo>
                <a:cubicBezTo>
                  <a:pt x="10800" y="10652"/>
                  <a:pt x="5400" y="10800"/>
                  <a:pt x="0" y="10800"/>
                </a:cubicBezTo>
                <a:cubicBezTo>
                  <a:pt x="5400" y="10800"/>
                  <a:pt x="10800" y="10949"/>
                  <a:pt x="10800" y="11097"/>
                </a:cubicBezTo>
                <a:lnTo>
                  <a:pt x="10800" y="21303"/>
                </a:lnTo>
                <a:cubicBezTo>
                  <a:pt x="10800" y="2145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02680" y="4275000"/>
            <a:ext cx="5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 baseline="-25000">
                <a:solidFill>
                  <a:srgbClr val="00b050"/>
                </a:solidFill>
                <a:latin typeface="Arial"/>
                <a:ea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282400" y="4370400"/>
            <a:ext cx="530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0090e5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 baseline="-25000">
                <a:solidFill>
                  <a:srgbClr val="0090e5"/>
                </a:solidFill>
                <a:latin typeface="Arial"/>
                <a:ea typeface="宋体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993320" y="3843360"/>
            <a:ext cx="214560" cy="145260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452600"/>
              <a:gd name="textAreaBottom" fmla="*/ 1447200 h 14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3"/>
                  <a:pt x="10800" y="266"/>
                </a:cubicBezTo>
                <a:lnTo>
                  <a:pt x="10800" y="10534"/>
                </a:lnTo>
                <a:cubicBezTo>
                  <a:pt x="10800" y="10667"/>
                  <a:pt x="16200" y="10800"/>
                  <a:pt x="21600" y="10800"/>
                </a:cubicBezTo>
                <a:cubicBezTo>
                  <a:pt x="16200" y="10800"/>
                  <a:pt x="10800" y="10933"/>
                  <a:pt x="10800" y="11066"/>
                </a:cubicBezTo>
                <a:lnTo>
                  <a:pt x="10800" y="21334"/>
                </a:lnTo>
                <a:cubicBezTo>
                  <a:pt x="10800" y="21467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"/>
          <p:cNvCxnSpPr>
            <a:stCxn id="349" idx="0"/>
            <a:endCxn id="354" idx="2"/>
          </p:cNvCxnSpPr>
          <p:nvPr/>
        </p:nvCxnSpPr>
        <p:spPr>
          <a:xfrm flipH="1" flipV="1">
            <a:off x="10018080" y="2184120"/>
            <a:ext cx="121320" cy="1659600"/>
          </a:xfrm>
          <a:prstGeom prst="straightConnector1">
            <a:avLst/>
          </a:prstGeom>
          <a:ln w="38160">
            <a:solidFill>
              <a:srgbClr val="0090e5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7864560" y="574056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: 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"/>
          <p:cNvCxnSpPr>
            <a:stCxn id="346" idx="0"/>
            <a:endCxn id="353" idx="2"/>
          </p:cNvCxnSpPr>
          <p:nvPr/>
        </p:nvCxnSpPr>
        <p:spPr>
          <a:xfrm flipV="1">
            <a:off x="8797680" y="2188800"/>
            <a:ext cx="99000" cy="122472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362" name=""/>
          <p:cNvSpPr/>
          <p:nvPr/>
        </p:nvSpPr>
        <p:spPr>
          <a:xfrm>
            <a:off x="8265960" y="3662280"/>
            <a:ext cx="106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94760" y="3913200"/>
            <a:ext cx="106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273880" y="4376880"/>
            <a:ext cx="106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73880" y="4648320"/>
            <a:ext cx="106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273880" y="5157720"/>
            <a:ext cx="106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265960" y="5407200"/>
            <a:ext cx="10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607680" y="5072040"/>
            <a:ext cx="106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607680" y="4816440"/>
            <a:ext cx="10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607680" y="4341960"/>
            <a:ext cx="106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607680" y="4098960"/>
            <a:ext cx="106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499680" y="1719360"/>
            <a:ext cx="10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487080" y="1960560"/>
            <a:ext cx="106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424720" y="1960560"/>
            <a:ext cx="106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424720" y="1731960"/>
            <a:ext cx="106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023840" y="117360"/>
            <a:ext cx="7704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sted-Loop Join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84160" y="1171440"/>
            <a:ext cx="811548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worst case, if there is enough memory only to hold one block of each relation, the estimated cost i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+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transfers, plu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maller relation fits entirely in memory, use that as the inner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st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 transfers and 2 s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worst case memory availability cost estimat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outer 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400 + 100 = 2,000,100 block transf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000 + 100 = 5100 see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s the outer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100 + 400 = 1,000,400 block transfers and 10,400 s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maller relation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its entirely in memory, the cost estimate will be 500 block transf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nested-loops algorithm (next slide) is pref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23840" y="117360"/>
            <a:ext cx="713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Basic Steps in Query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46080" y="1158840"/>
            <a:ext cx="395136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r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the query into its internal form.  This is then translated into </a:t>
            </a:r>
            <a:r>
              <a:rPr b="0" lang="en-US" sz="18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relational algeb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ser checks syntax, verifies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ongst all equivalent </a:t>
            </a:r>
            <a:r>
              <a:rPr b="0" lang="en-US" sz="18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evaluation pla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oose the one with lowest c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query-execution engine takes a query-evaluation plan, executes that plan, and returns the answers to the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417" t="9987" r="831" b="10262"/>
          <a:stretch/>
        </p:blipFill>
        <p:spPr>
          <a:xfrm>
            <a:off x="5318280" y="2482920"/>
            <a:ext cx="6781680" cy="410832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p:transition advTm="2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023840" y="117360"/>
            <a:ext cx="68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lock Nested-Loop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46080" y="892080"/>
            <a:ext cx="6445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399960"/>
                <a:tab algn="l" pos="789120"/>
                <a:tab algn="l" pos="1193760"/>
                <a:tab algn="l" pos="153972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t of nested-loop join in which every block of inner relation is paired with every block of outer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876"/>
              </a:spcBef>
              <a:tabLst>
                <a:tab algn="l" pos="0"/>
                <a:tab algn="l" pos="399960"/>
                <a:tab algn="l" pos="789120"/>
                <a:tab algn="l" pos="1193760"/>
                <a:tab algn="l" pos="153972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lock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uple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ple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i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,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isfy the join condi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y do, add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sul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505720" y="3816360"/>
            <a:ext cx="1063800" cy="7128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505720" y="4626000"/>
            <a:ext cx="1063800" cy="7128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505720" y="5418000"/>
            <a:ext cx="1063800" cy="7128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847440" y="4246560"/>
            <a:ext cx="1062000" cy="712800"/>
          </a:xfrm>
          <a:prstGeom prst="rect">
            <a:avLst/>
          </a:prstGeom>
          <a:solidFill>
            <a:srgbClr val="0090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847440" y="5038560"/>
            <a:ext cx="1062000" cy="712800"/>
          </a:xfrm>
          <a:prstGeom prst="rect">
            <a:avLst/>
          </a:prstGeom>
          <a:solidFill>
            <a:srgbClr val="0090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296360" y="6143760"/>
            <a:ext cx="10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90e5"/>
                </a:solidFill>
                <a:latin typeface="Arial"/>
                <a:ea typeface="宋体"/>
              </a:rPr>
              <a:t>s: 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791480" y="3176280"/>
            <a:ext cx="4260960" cy="3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604360" y="1879560"/>
            <a:ext cx="1062000" cy="7128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726480" y="1874880"/>
            <a:ext cx="1062000" cy="712800"/>
          </a:xfrm>
          <a:prstGeom prst="rect">
            <a:avLst/>
          </a:prstGeom>
          <a:solidFill>
            <a:srgbClr val="0090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16840" y="3816360"/>
            <a:ext cx="362160" cy="2192400"/>
          </a:xfrm>
          <a:custGeom>
            <a:avLst/>
            <a:gdLst>
              <a:gd name="textAreaLeft" fmla="*/ 231480 w 362160"/>
              <a:gd name="textAreaRight" fmla="*/ 362160 w 362160"/>
              <a:gd name="textAreaTop" fmla="*/ 9360 h 2192400"/>
              <a:gd name="textAreaBottom" fmla="*/ 2183040 h 219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9"/>
                  <a:pt x="10800" y="297"/>
                </a:cubicBezTo>
                <a:lnTo>
                  <a:pt x="10800" y="10503"/>
                </a:lnTo>
                <a:cubicBezTo>
                  <a:pt x="10800" y="10652"/>
                  <a:pt x="5400" y="10800"/>
                  <a:pt x="0" y="10800"/>
                </a:cubicBezTo>
                <a:cubicBezTo>
                  <a:pt x="5400" y="10800"/>
                  <a:pt x="10800" y="10949"/>
                  <a:pt x="10800" y="11097"/>
                </a:cubicBezTo>
                <a:lnTo>
                  <a:pt x="10800" y="21303"/>
                </a:lnTo>
                <a:cubicBezTo>
                  <a:pt x="10800" y="2145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642080" y="4678200"/>
            <a:ext cx="54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 baseline="-25000">
                <a:solidFill>
                  <a:srgbClr val="00b050"/>
                </a:solidFill>
                <a:latin typeface="Arial"/>
                <a:ea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522160" y="4773600"/>
            <a:ext cx="530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0090e5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 baseline="-25000">
                <a:solidFill>
                  <a:srgbClr val="0090e5"/>
                </a:solidFill>
                <a:latin typeface="Arial"/>
                <a:ea typeface="宋体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1233080" y="4246560"/>
            <a:ext cx="214560" cy="145260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452600"/>
              <a:gd name="textAreaBottom" fmla="*/ 1447200 h 14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3"/>
                  <a:pt x="10800" y="266"/>
                </a:cubicBezTo>
                <a:lnTo>
                  <a:pt x="10800" y="10534"/>
                </a:lnTo>
                <a:cubicBezTo>
                  <a:pt x="10800" y="10667"/>
                  <a:pt x="16200" y="10800"/>
                  <a:pt x="21600" y="10800"/>
                </a:cubicBezTo>
                <a:cubicBezTo>
                  <a:pt x="16200" y="10800"/>
                  <a:pt x="10800" y="10933"/>
                  <a:pt x="10800" y="11066"/>
                </a:cubicBezTo>
                <a:lnTo>
                  <a:pt x="10800" y="21334"/>
                </a:lnTo>
                <a:cubicBezTo>
                  <a:pt x="10800" y="21467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"/>
          <p:cNvCxnSpPr>
            <a:stCxn id="383" idx="0"/>
            <a:endCxn id="388" idx="2"/>
          </p:cNvCxnSpPr>
          <p:nvPr/>
        </p:nvCxnSpPr>
        <p:spPr>
          <a:xfrm flipH="1" flipV="1">
            <a:off x="10256040" y="2587320"/>
            <a:ext cx="121320" cy="1659600"/>
          </a:xfrm>
          <a:prstGeom prst="straightConnector1">
            <a:avLst/>
          </a:prstGeom>
          <a:ln w="38160">
            <a:solidFill>
              <a:srgbClr val="0090e5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8104320" y="614376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: 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80" idx="0"/>
            <a:endCxn id="387" idx="2"/>
          </p:cNvCxnSpPr>
          <p:nvPr/>
        </p:nvCxnSpPr>
        <p:spPr>
          <a:xfrm flipV="1">
            <a:off x="9037440" y="2592000"/>
            <a:ext cx="99000" cy="122472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396" name=""/>
          <p:cNvSpPr/>
          <p:nvPr/>
        </p:nvSpPr>
        <p:spPr>
          <a:xfrm>
            <a:off x="8505720" y="4065480"/>
            <a:ext cx="106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534520" y="4316400"/>
            <a:ext cx="106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513640" y="4780080"/>
            <a:ext cx="106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513640" y="5051520"/>
            <a:ext cx="106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513640" y="5560920"/>
            <a:ext cx="106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505720" y="5810400"/>
            <a:ext cx="10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847440" y="5475240"/>
            <a:ext cx="10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847440" y="5219640"/>
            <a:ext cx="10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847440" y="4745160"/>
            <a:ext cx="106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847440" y="4502160"/>
            <a:ext cx="106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739440" y="2122560"/>
            <a:ext cx="10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726480" y="2363760"/>
            <a:ext cx="106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664480" y="2363760"/>
            <a:ext cx="106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664480" y="2135160"/>
            <a:ext cx="106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023840" y="117360"/>
            <a:ext cx="708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lock Nested-Loop Join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41320" y="1109520"/>
            <a:ext cx="620388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st case estimate: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+ 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block transfers + 2 *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s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block in the inner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read once for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the outer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cas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b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lock transfers + 2 see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023840" y="117360"/>
            <a:ext cx="7535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lock Nested-Loop Join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78040" y="1182600"/>
            <a:ext cx="581472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ments to block nested loop algorith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isk blocks as blocking unit for outer relations,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memory size in blocks; use remaining two blocks to buffer inner relation an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st =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 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/ (M-2)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b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s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+ b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block transfers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39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                    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+ 2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 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/ (M-2)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If r fits in memory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&lt;=M-2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39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st =  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s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+ b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block transfers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+ 2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equi-join attribute forms a key or inner relation, stop inner loop on first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n inner loop forward and backward alternately, to make use of the blocks remaining in buffer (with LRU replac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34240" y="3970440"/>
            <a:ext cx="1063800" cy="7128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734240" y="4753080"/>
            <a:ext cx="1063800" cy="7128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34240" y="5537160"/>
            <a:ext cx="1063800" cy="7128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926640" y="4400640"/>
            <a:ext cx="1062000" cy="712800"/>
          </a:xfrm>
          <a:prstGeom prst="rect">
            <a:avLst/>
          </a:prstGeom>
          <a:solidFill>
            <a:srgbClr val="0090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926640" y="5175360"/>
            <a:ext cx="1062000" cy="712800"/>
          </a:xfrm>
          <a:prstGeom prst="rect">
            <a:avLst/>
          </a:prstGeom>
          <a:solidFill>
            <a:srgbClr val="0090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64440" y="2641680"/>
            <a:ext cx="5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918720" y="6026040"/>
            <a:ext cx="106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90e5"/>
                </a:solidFill>
                <a:latin typeface="Arial"/>
                <a:ea typeface="宋体"/>
              </a:rPr>
              <a:t>s: 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6905520" y="3570120"/>
            <a:ext cx="5221440" cy="59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94720" y="2478240"/>
            <a:ext cx="1062000" cy="7128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856720" y="2478240"/>
            <a:ext cx="1062000" cy="7128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918720" y="2486160"/>
            <a:ext cx="1062000" cy="712800"/>
          </a:xfrm>
          <a:prstGeom prst="rect">
            <a:avLst/>
          </a:prstGeom>
          <a:solidFill>
            <a:srgbClr val="0090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0995120" y="2486160"/>
            <a:ext cx="106200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92800" y="3970440"/>
            <a:ext cx="362160" cy="2192400"/>
          </a:xfrm>
          <a:custGeom>
            <a:avLst/>
            <a:gdLst>
              <a:gd name="textAreaLeft" fmla="*/ 231480 w 362160"/>
              <a:gd name="textAreaRight" fmla="*/ 362160 w 362160"/>
              <a:gd name="textAreaTop" fmla="*/ 9360 h 2192400"/>
              <a:gd name="textAreaBottom" fmla="*/ 2183040 h 219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9"/>
                  <a:pt x="10800" y="297"/>
                </a:cubicBezTo>
                <a:lnTo>
                  <a:pt x="10800" y="10503"/>
                </a:lnTo>
                <a:cubicBezTo>
                  <a:pt x="10800" y="10652"/>
                  <a:pt x="5400" y="10800"/>
                  <a:pt x="0" y="10800"/>
                </a:cubicBezTo>
                <a:cubicBezTo>
                  <a:pt x="5400" y="10800"/>
                  <a:pt x="10800" y="10949"/>
                  <a:pt x="10800" y="11097"/>
                </a:cubicBezTo>
                <a:lnTo>
                  <a:pt x="10800" y="21303"/>
                </a:lnTo>
                <a:cubicBezTo>
                  <a:pt x="10800" y="2145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767640" y="4824360"/>
            <a:ext cx="531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 baseline="-25000">
                <a:solidFill>
                  <a:srgbClr val="00b050"/>
                </a:solidFill>
                <a:latin typeface="Arial"/>
                <a:ea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1661840" y="4919760"/>
            <a:ext cx="530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90e5"/>
                </a:solidFill>
                <a:latin typeface="Arial"/>
                <a:ea typeface="宋体"/>
              </a:rPr>
              <a:t>b</a:t>
            </a:r>
            <a:r>
              <a:rPr b="0" lang="en-US" sz="2000" spc="-1" strike="noStrike" baseline="-25000">
                <a:solidFill>
                  <a:srgbClr val="0090e5"/>
                </a:solidFill>
                <a:latin typeface="Arial"/>
                <a:ea typeface="宋体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1312640" y="4400640"/>
            <a:ext cx="214200" cy="14526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1452600"/>
              <a:gd name="textAreaBottom" fmla="*/ 1447200 h 14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3"/>
                  <a:pt x="10800" y="266"/>
                </a:cubicBezTo>
                <a:lnTo>
                  <a:pt x="10800" y="10534"/>
                </a:lnTo>
                <a:cubicBezTo>
                  <a:pt x="10800" y="10667"/>
                  <a:pt x="16200" y="10800"/>
                  <a:pt x="21600" y="10800"/>
                </a:cubicBezTo>
                <a:cubicBezTo>
                  <a:pt x="16200" y="10800"/>
                  <a:pt x="10800" y="10933"/>
                  <a:pt x="10800" y="11066"/>
                </a:cubicBezTo>
                <a:lnTo>
                  <a:pt x="10800" y="21334"/>
                </a:lnTo>
                <a:cubicBezTo>
                  <a:pt x="10800" y="21467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"/>
          <p:cNvCxnSpPr>
            <a:stCxn id="417" idx="0"/>
          </p:cNvCxnSpPr>
          <p:nvPr/>
        </p:nvCxnSpPr>
        <p:spPr>
          <a:xfrm flipV="1">
            <a:off x="10456560" y="3203280"/>
            <a:ext cx="6840" cy="1197360"/>
          </a:xfrm>
          <a:prstGeom prst="straightConnector1">
            <a:avLst/>
          </a:prstGeom>
          <a:ln w="38160">
            <a:solidFill>
              <a:srgbClr val="0090e5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8591400" y="1868400"/>
            <a:ext cx="7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宋体"/>
              </a:rPr>
              <a:t>M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0306080" y="186840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90e5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260080" y="1868400"/>
            <a:ext cx="5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34240" y="629748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宋体"/>
              </a:rPr>
              <a:t>r: 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"/>
          <p:cNvCxnSpPr/>
          <p:nvPr/>
        </p:nvCxnSpPr>
        <p:spPr>
          <a:xfrm flipH="1" flipV="1">
            <a:off x="8328960" y="3204720"/>
            <a:ext cx="3960" cy="76608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7734240" y="4246560"/>
            <a:ext cx="10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734240" y="4475160"/>
            <a:ext cx="10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734240" y="4994280"/>
            <a:ext cx="10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734240" y="5240160"/>
            <a:ext cx="106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734240" y="5773680"/>
            <a:ext cx="106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734240" y="6029280"/>
            <a:ext cx="106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926640" y="4659480"/>
            <a:ext cx="106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9925200" y="4910040"/>
            <a:ext cx="10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926640" y="5418000"/>
            <a:ext cx="10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925200" y="5689440"/>
            <a:ext cx="10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939240" y="2717640"/>
            <a:ext cx="10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925200" y="2978280"/>
            <a:ext cx="106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877240" y="2714760"/>
            <a:ext cx="1062000" cy="144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856720" y="2981160"/>
            <a:ext cx="10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792920" y="2716200"/>
            <a:ext cx="106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27840" y="2976480"/>
            <a:ext cx="10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1001240" y="2695320"/>
            <a:ext cx="105588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11001240" y="2973240"/>
            <a:ext cx="10558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889840" y="2728800"/>
            <a:ext cx="106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023840" y="117360"/>
            <a:ext cx="786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exed Nested-Loop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85960" y="1147680"/>
            <a:ext cx="800388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dex lookups can replace file sca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 is an equi-join or natural joi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index is available on the inner rel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join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construct an index just to compute a jo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outer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 the index to look up tupl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satisfy the join condition with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st case:  buffer has space for only one pag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, for each tupl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e perform an index lookup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the join: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T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+ t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the cost of traversing index and fetching all match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uples for one tuple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n be estimated as cost of a single selection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sing the join cond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ndices are available on join attributes of bo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relation with fewer tuples as the outer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023840" y="117360"/>
            <a:ext cx="8258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rge-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44560" y="985680"/>
            <a:ext cx="78548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 both relations on thei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oin attribu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not already sorted on the join attribu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e the sorted relations to joi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 step is similar to the merge stage of the sort-merge algorithm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in difference is handling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uplic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values in join attribute — every pair with same value on join attribute must be m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ailed algorithm in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6789600" y="3529080"/>
            <a:ext cx="3449880" cy="34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28800" y="299880"/>
            <a:ext cx="8405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rge-Join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95320" y="1217520"/>
            <a:ext cx="5243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only for equi-joins and natural j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lock needs to be read only once (assuming all tuples for any given value of the join attributes fit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the cost of merge join is: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+ 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block transfers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59c1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59c1ff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59c1ff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59c1ff"/>
                </a:solidFill>
                <a:latin typeface="Arial"/>
              </a:rPr>
              <a:t>r </a:t>
            </a:r>
            <a:r>
              <a:rPr b="0" i="1" lang="en-US" sz="2000" spc="-1" strike="noStrike">
                <a:solidFill>
                  <a:srgbClr val="59c1ff"/>
                </a:solidFill>
                <a:latin typeface="Arial"/>
              </a:rPr>
              <a:t>/ b</a:t>
            </a:r>
            <a:r>
              <a:rPr b="0" i="1" lang="en-US" sz="2000" spc="-1" strike="noStrike" baseline="-25000">
                <a:solidFill>
                  <a:srgbClr val="59c1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59c1ff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59c1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59c1ff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59c1ff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59c1ff"/>
                </a:solidFill>
                <a:latin typeface="Arial"/>
              </a:rPr>
              <a:t>s </a:t>
            </a:r>
            <a:r>
              <a:rPr b="0" i="1" lang="en-US" sz="2000" spc="-1" strike="noStrike">
                <a:solidFill>
                  <a:srgbClr val="59c1ff"/>
                </a:solidFill>
                <a:latin typeface="Arial"/>
              </a:rPr>
              <a:t>/ b</a:t>
            </a:r>
            <a:r>
              <a:rPr b="0" i="1" lang="en-US" sz="2000" spc="-1" strike="noStrike" baseline="-25000">
                <a:solidFill>
                  <a:srgbClr val="59c1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59c1ff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59c1ff"/>
                </a:solidFill>
                <a:latin typeface="Arial"/>
              </a:rPr>
              <a:t>  s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the cost of sorting if relations are unso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54800" y="1996920"/>
            <a:ext cx="252360" cy="1739880"/>
          </a:xfrm>
          <a:custGeom>
            <a:avLst/>
            <a:gdLst>
              <a:gd name="textAreaLeft" fmla="*/ 161280 w 252360"/>
              <a:gd name="textAreaRight" fmla="*/ 252720 w 252360"/>
              <a:gd name="textAreaTop" fmla="*/ 6480 h 1739880"/>
              <a:gd name="textAreaBottom" fmla="*/ 1733400 h 173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1"/>
                  <a:pt x="10800" y="262"/>
                </a:cubicBezTo>
                <a:lnTo>
                  <a:pt x="10800" y="10538"/>
                </a:lnTo>
                <a:cubicBezTo>
                  <a:pt x="10800" y="10669"/>
                  <a:pt x="5400" y="10800"/>
                  <a:pt x="0" y="10800"/>
                </a:cubicBezTo>
                <a:cubicBezTo>
                  <a:pt x="5400" y="10800"/>
                  <a:pt x="10800" y="10931"/>
                  <a:pt x="10800" y="11062"/>
                </a:cubicBezTo>
                <a:lnTo>
                  <a:pt x="10800" y="21338"/>
                </a:lnTo>
                <a:cubicBezTo>
                  <a:pt x="10800" y="21469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66200" y="2906640"/>
            <a:ext cx="53316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666200" y="4143240"/>
            <a:ext cx="53316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66200" y="5032440"/>
            <a:ext cx="53316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674120" y="1987560"/>
            <a:ext cx="534960" cy="824040"/>
          </a:xfrm>
          <a:prstGeom prst="rect">
            <a:avLst/>
          </a:prstGeom>
          <a:solidFill>
            <a:srgbClr val="9ed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702640" y="1982880"/>
            <a:ext cx="533520" cy="824040"/>
          </a:xfrm>
          <a:prstGeom prst="rect">
            <a:avLst/>
          </a:prstGeom>
          <a:solidFill>
            <a:srgbClr val="9edbff"/>
          </a:solidFill>
          <a:ln w="9360">
            <a:solidFill>
              <a:srgbClr val="9ed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702640" y="2924280"/>
            <a:ext cx="5335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702640" y="4143240"/>
            <a:ext cx="5335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702640" y="5043600"/>
            <a:ext cx="5335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315200" y="3483000"/>
            <a:ext cx="479520" cy="106200"/>
          </a:xfrm>
          <a:prstGeom prst="rightArrow">
            <a:avLst>
              <a:gd name="adj1" fmla="val 50000"/>
              <a:gd name="adj2" fmla="val 50358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339040" y="3517920"/>
            <a:ext cx="479520" cy="106200"/>
          </a:xfrm>
          <a:prstGeom prst="rightArrow">
            <a:avLst>
              <a:gd name="adj1" fmla="val 50000"/>
              <a:gd name="adj2" fmla="val 50358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616880" y="5826240"/>
            <a:ext cx="6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924600" y="3956040"/>
            <a:ext cx="3029040" cy="6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"/>
          <p:cNvCxnSpPr/>
          <p:nvPr/>
        </p:nvCxnSpPr>
        <p:spPr>
          <a:xfrm flipV="1">
            <a:off x="7954560" y="3745800"/>
            <a:ext cx="11880" cy="44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/>
          <p:nvPr/>
        </p:nvCxnSpPr>
        <p:spPr>
          <a:xfrm flipV="1">
            <a:off x="8956800" y="3738240"/>
            <a:ext cx="8640" cy="443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6727680" y="2103480"/>
            <a:ext cx="792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672400" y="5823000"/>
            <a:ext cx="6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928800" y="299880"/>
            <a:ext cx="8405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rge-Join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95320" y="1217520"/>
            <a:ext cx="581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buffer memory size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ges, in order to minimize the cost of merge join, how to assign M blocks to r and s respectivel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stimated cost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+ 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block transfers 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90e5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90e5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90e5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90e5"/>
                </a:solidFill>
                <a:latin typeface="Arial"/>
              </a:rPr>
              <a:t>r </a:t>
            </a:r>
            <a:r>
              <a:rPr b="0" i="1" lang="en-US" sz="2000" spc="-1" strike="noStrike">
                <a:solidFill>
                  <a:srgbClr val="0090e5"/>
                </a:solidFill>
                <a:latin typeface="Arial"/>
              </a:rPr>
              <a:t>/ x</a:t>
            </a:r>
            <a:r>
              <a:rPr b="0" i="1" lang="en-US" sz="2000" spc="-1" strike="noStrike" baseline="-25000">
                <a:solidFill>
                  <a:srgbClr val="0090e5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90e5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90e5"/>
                </a:solidFill>
                <a:latin typeface="Arial"/>
              </a:rPr>
              <a:t> +  </a:t>
            </a:r>
            <a:r>
              <a:rPr b="0" lang="en-US" sz="2000" spc="-1" strike="noStrike">
                <a:solidFill>
                  <a:srgbClr val="0090e5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90e5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90e5"/>
                </a:solidFill>
                <a:latin typeface="Arial"/>
              </a:rPr>
              <a:t>s </a:t>
            </a:r>
            <a:r>
              <a:rPr b="0" i="1" lang="en-US" sz="2000" spc="-1" strike="noStrike">
                <a:solidFill>
                  <a:srgbClr val="0090e5"/>
                </a:solidFill>
                <a:latin typeface="Arial"/>
              </a:rPr>
              <a:t>/ x</a:t>
            </a:r>
            <a:r>
              <a:rPr b="0" i="1" lang="en-US" sz="2000" spc="-1" strike="noStrike" baseline="-25000">
                <a:solidFill>
                  <a:srgbClr val="0090e5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90e5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90e5"/>
                </a:solidFill>
                <a:latin typeface="Arial"/>
              </a:rPr>
              <a:t>  s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(x</a:t>
            </a:r>
            <a:r>
              <a:rPr b="0" lang="en-US" sz="2000" spc="-1" strike="noStrike" baseline="-25000">
                <a:solidFill>
                  <a:srgbClr val="c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+ x</a:t>
            </a:r>
            <a:r>
              <a:rPr b="0" lang="en-US" sz="2000" spc="-1" strike="noStrike" baseline="-25000">
                <a:solidFill>
                  <a:srgbClr val="c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=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 sqrt(b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/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qrt(b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+sqrt(b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 sqrt(b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/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qrt(b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+sqrt(b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335720" y="2690640"/>
            <a:ext cx="252360" cy="1740240"/>
          </a:xfrm>
          <a:custGeom>
            <a:avLst/>
            <a:gdLst>
              <a:gd name="textAreaLeft" fmla="*/ 161280 w 252360"/>
              <a:gd name="textAreaRight" fmla="*/ 252720 w 252360"/>
              <a:gd name="textAreaTop" fmla="*/ 6480 h 1740240"/>
              <a:gd name="textAreaBottom" fmla="*/ 1733760 h 174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1"/>
                  <a:pt x="10800" y="262"/>
                </a:cubicBezTo>
                <a:lnTo>
                  <a:pt x="10800" y="10538"/>
                </a:lnTo>
                <a:cubicBezTo>
                  <a:pt x="10800" y="10669"/>
                  <a:pt x="5400" y="10800"/>
                  <a:pt x="0" y="10800"/>
                </a:cubicBezTo>
                <a:cubicBezTo>
                  <a:pt x="5400" y="10800"/>
                  <a:pt x="10800" y="10931"/>
                  <a:pt x="10800" y="11062"/>
                </a:cubicBezTo>
                <a:lnTo>
                  <a:pt x="10800" y="21338"/>
                </a:lnTo>
                <a:cubicBezTo>
                  <a:pt x="10800" y="21469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47120" y="3600360"/>
            <a:ext cx="53316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647120" y="4836960"/>
            <a:ext cx="53316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647120" y="5726160"/>
            <a:ext cx="53316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655040" y="2681280"/>
            <a:ext cx="534960" cy="824040"/>
          </a:xfrm>
          <a:prstGeom prst="rect">
            <a:avLst/>
          </a:prstGeom>
          <a:solidFill>
            <a:srgbClr val="9ed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683560" y="2711520"/>
            <a:ext cx="533520" cy="824040"/>
          </a:xfrm>
          <a:prstGeom prst="rect">
            <a:avLst/>
          </a:prstGeom>
          <a:solidFill>
            <a:srgbClr val="9edbff"/>
          </a:solidFill>
          <a:ln w="9360">
            <a:solidFill>
              <a:srgbClr val="9ed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683560" y="3618000"/>
            <a:ext cx="5335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683560" y="4836960"/>
            <a:ext cx="5335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683560" y="5737320"/>
            <a:ext cx="5335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296120" y="4176720"/>
            <a:ext cx="479520" cy="106200"/>
          </a:xfrm>
          <a:prstGeom prst="rightArrow">
            <a:avLst>
              <a:gd name="adj1" fmla="val 50000"/>
              <a:gd name="adj2" fmla="val 50358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9960" y="4211640"/>
            <a:ext cx="479520" cy="106200"/>
          </a:xfrm>
          <a:prstGeom prst="rightArrow">
            <a:avLst>
              <a:gd name="adj1" fmla="val 50000"/>
              <a:gd name="adj2" fmla="val 50358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597800" y="6519960"/>
            <a:ext cx="6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907320" y="4648320"/>
            <a:ext cx="3028680" cy="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"/>
          <p:cNvCxnSpPr/>
          <p:nvPr/>
        </p:nvCxnSpPr>
        <p:spPr>
          <a:xfrm flipV="1">
            <a:off x="7935480" y="4439520"/>
            <a:ext cx="11880" cy="44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5" name=""/>
          <p:cNvCxnSpPr/>
          <p:nvPr/>
        </p:nvCxnSpPr>
        <p:spPr>
          <a:xfrm flipV="1">
            <a:off x="8937720" y="4431960"/>
            <a:ext cx="8640" cy="443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>
            <a:off x="6708600" y="2797200"/>
            <a:ext cx="792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653320" y="6516720"/>
            <a:ext cx="6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683560" y="1803240"/>
            <a:ext cx="533520" cy="824040"/>
          </a:xfrm>
          <a:prstGeom prst="rect">
            <a:avLst/>
          </a:prstGeom>
          <a:solidFill>
            <a:srgbClr val="9edbff"/>
          </a:solidFill>
          <a:ln w="9360">
            <a:solidFill>
              <a:srgbClr val="9ed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9301320" y="1805040"/>
            <a:ext cx="131760" cy="2639880"/>
          </a:xfrm>
          <a:custGeom>
            <a:avLst/>
            <a:gdLst>
              <a:gd name="textAreaLeft" fmla="*/ 0 w 131760"/>
              <a:gd name="textAreaRight" fmla="*/ 47520 w 131760"/>
              <a:gd name="textAreaTop" fmla="*/ 9720 h 2639880"/>
              <a:gd name="textAreaBottom" fmla="*/ 2630160 h 263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2"/>
                  <a:pt x="10800" y="263"/>
                </a:cubicBezTo>
                <a:lnTo>
                  <a:pt x="10800" y="10705"/>
                </a:lnTo>
                <a:cubicBezTo>
                  <a:pt x="10800" y="10837"/>
                  <a:pt x="16200" y="10968"/>
                  <a:pt x="21600" y="10968"/>
                </a:cubicBezTo>
                <a:cubicBezTo>
                  <a:pt x="16200" y="10968"/>
                  <a:pt x="10800" y="11100"/>
                  <a:pt x="10800" y="11231"/>
                </a:cubicBezTo>
                <a:lnTo>
                  <a:pt x="10800" y="21337"/>
                </a:lnTo>
                <a:cubicBezTo>
                  <a:pt x="10800" y="21469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9545760" y="2832120"/>
            <a:ext cx="915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895320" y="142920"/>
            <a:ext cx="840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rge-Join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95320" y="1217520"/>
            <a:ext cx="67676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hybrid merge-jo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e relation is sor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other has a secondary B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tree inde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oin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Merge the sorted relation with the leaf entries of the B</a:t>
            </a:r>
            <a:r>
              <a:rPr b="0" lang="en-US" sz="2000" spc="-1" strike="noStrike" baseline="30000">
                <a:solidFill>
                  <a:srgbClr val="3366cc"/>
                </a:solidFill>
                <a:latin typeface="Arial"/>
                <a:ea typeface="ＭＳ Ｐゴシック"/>
              </a:rPr>
              <a:t>+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-tree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Sort the result on the addresses of the unsorted relation</a:t>
            </a:r>
            <a:r>
              <a:rPr b="0" lang="ja-JP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’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s tu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Scan the unsorted relation in physical address order and merge with previous result, to replace addresses by the actual tu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quential scan more efficient than random loo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023840" y="117360"/>
            <a:ext cx="772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sh-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85960" y="1015920"/>
            <a:ext cx="64818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ble fo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qui-jo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atural jo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ash function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sed to partition tuples of both relations with common JoinAtt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p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oinAtt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to {0, 1, ..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. . .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n denote partitions of r tu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t in parti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39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= h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JoinAttrs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, 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. ., 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notes partition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u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put in parti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w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39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= h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JoinAttrs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value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the hash function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chosen such that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each </a:t>
            </a:r>
            <a:r>
              <a:rPr b="1" i="1" lang="en-US" sz="2000" spc="-1" strike="noStrike">
                <a:solidFill>
                  <a:srgbClr val="ff7547"/>
                </a:solidFill>
                <a:latin typeface="Arial"/>
                <a:ea typeface="ＭＳ Ｐゴシック"/>
              </a:rPr>
              <a:t>s</a:t>
            </a:r>
            <a:r>
              <a:rPr b="1" i="1" lang="en-US" sz="2000" spc="-1" strike="noStrike" baseline="-25000">
                <a:solidFill>
                  <a:srgbClr val="ff7547"/>
                </a:solidFill>
                <a:latin typeface="Arial"/>
                <a:ea typeface="ＭＳ Ｐゴシック"/>
              </a:rPr>
              <a:t>i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 should fit in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ook,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enoted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i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enoted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enoted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7634160" y="2378160"/>
            <a:ext cx="406584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1023840" y="117360"/>
            <a:ext cx="738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sh-Join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84160" y="1258920"/>
            <a:ext cx="718524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r 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tuples in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Arial"/>
              </a:rPr>
              <a:t>i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need only to be compared with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tuples in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not be compared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uples in any other partition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uple and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uple that satisfy the join condition will have the same value for the join attrib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at value is hashed to some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uple has to b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upl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39960" y="1152360"/>
            <a:ext cx="840564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ame, tit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38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stru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 jo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ach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 jo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38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t_name=‘Music’ and year = 2009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1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ame, 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dept_name= “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usic”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= 2009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    (teaches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4119120" y="286704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 rot="10800000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2811240" y="287820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 rot="10800000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11200" y="3267000"/>
            <a:ext cx="6716880" cy="3330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42920" y="428760"/>
            <a:ext cx="74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Basic Steps in Query Processing</a:t>
            </a:r>
            <a:br>
              <a:rPr sz="32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ample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023840" y="117360"/>
            <a:ext cx="798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sh-Joi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2080" y="1571760"/>
            <a:ext cx="74358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Partition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hashing fun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When partitioning a relation, one block of memory is reserved as the output buffer for each part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Arial"/>
              <a:buAutoNum type="arabicPeriod" startAt="2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Partition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4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a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to memory and buil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n in-memory hash inde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it using the join attribute.  This hash index uses a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different hash fun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 the earlier o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4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 the tupl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rom the disk one by one.  For each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cate each matching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sing the in-memory hash index.  Output the concatenation of their attrib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084320" y="1062000"/>
            <a:ext cx="55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ash-joi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computed as fol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90440" y="6033960"/>
            <a:ext cx="79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called th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build in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robe input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023840" y="117360"/>
            <a:ext cx="7580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sh-Join algorithm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92080" y="1171440"/>
            <a:ext cx="75376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The value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and the hash function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is chosen such that each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c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should fit in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ically n is chosen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* f  where f i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fudge fac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ypically around 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The probe relation partitions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r</a:t>
            </a:r>
            <a:r>
              <a:rPr b="0" i="1" lang="en-US" sz="2800" spc="-1" strike="noStrike" baseline="-25000">
                <a:solidFill>
                  <a:srgbClr val="c00000"/>
                </a:solidFill>
                <a:latin typeface="Arial"/>
                <a:ea typeface="ＭＳ Ｐゴシック"/>
              </a:rPr>
              <a:t>i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 need not fit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Recursive partitioning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if number of partit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eater than number of pag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ead of partition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ys, us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M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partitions for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rther partitio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partitions using a different hash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same partitioning method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rely required: e.g., with block size of 4 KB, recursive partitioning not needed for relations of &lt; 1GB with memory size of 2MB, or relations of &lt; 36 GB with memory of 12 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023840" y="117360"/>
            <a:ext cx="7580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ursive partitio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92080" y="1171440"/>
            <a:ext cx="906480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Recursive partitioning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if number of partit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eater than number of pag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ead of partitioning n ways, use  M – 1 partitions for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rther partition the M – 1 partitions using a different hash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same partitioning method o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relation does not need recursive partitioning if M &gt;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+ 1, or equivalentl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 &gt; (b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/M) +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which simplifies (approximately)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 &gt; √b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, consider a memory size of 12M bytes, divided into 4K bytes blocks; it would contain a total of 3K (3072) blocks. We can use a memory of this size to partition relations of size up to 3K ∗ 3K blocks, which is 36G by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ilarly, a relation of size 1 gigabyte requires just over √256K blocks, or 2 megabytes, to avoid recursive partitio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023840" y="117360"/>
            <a:ext cx="7388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st of Hash-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3240" y="1190520"/>
            <a:ext cx="868536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ecursive partitioning is not required: cost of hash join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3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h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transfers 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14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 transfers : The partitioning of the two relations r and s calls for a complete reading of both relations, and a subsequent writing back of them. This operation requires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2(b</a:t>
            </a:r>
            <a:r>
              <a:rPr b="0" lang="en-US" sz="1800" spc="-1" strike="noStrike" baseline="-25000">
                <a:solidFill>
                  <a:srgbClr val="00b0f0"/>
                </a:solidFill>
                <a:latin typeface="Arial"/>
                <a:ea typeface="ＭＳ Ｐゴシック"/>
              </a:rPr>
              <a:t>r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 + b</a:t>
            </a:r>
            <a:r>
              <a:rPr b="0" lang="en-US" sz="1800" spc="-1" strike="noStrike" baseline="-25000">
                <a:solidFill>
                  <a:srgbClr val="00b0f0"/>
                </a:solidFill>
                <a:latin typeface="Arial"/>
                <a:ea typeface="ＭＳ Ｐゴシック"/>
              </a:rPr>
              <a:t>s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) block transf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The build and probe phases read each of the partitions once, calling for further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b</a:t>
            </a:r>
            <a:r>
              <a:rPr b="0" lang="en-US" sz="1800" spc="-1" strike="noStrike" baseline="-25000">
                <a:solidFill>
                  <a:srgbClr val="00b0f0"/>
                </a:solidFill>
                <a:latin typeface="Arial"/>
                <a:ea typeface="ＭＳ Ｐゴシック"/>
              </a:rPr>
              <a:t>r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 +b</a:t>
            </a:r>
            <a:r>
              <a:rPr b="0" lang="en-US" sz="1800" spc="-1" strike="noStrike" baseline="-25000">
                <a:solidFill>
                  <a:srgbClr val="00b0f0"/>
                </a:solidFill>
                <a:latin typeface="Arial"/>
                <a:ea typeface="ＭＳ Ｐゴシック"/>
              </a:rPr>
              <a:t>s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 block transf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The number of blocks occupied by partitions could be slightly more than br +bs, as a result of partially filled blocks. Accessing such partially filled blocks can add an overhead of at most 2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ach of the relations, since each of the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artitions could have a partially filled block that has to be written and read back. Thus, a hash join is estimated to require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3(b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+ b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) + 4n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h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h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 transfer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14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ks: Assuming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locks are allocated for the input buffer and each output buffer, partitioning requires a total of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2(_x0007_b</a:t>
            </a:r>
            <a:r>
              <a:rPr b="0" lang="en-US" sz="1800" spc="-1" strike="noStrike" baseline="-25000">
                <a:solidFill>
                  <a:srgbClr val="00b0f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/b</a:t>
            </a:r>
            <a:r>
              <a:rPr b="0" lang="en-US" sz="1800" spc="-1" strike="noStrike" baseline="-25000">
                <a:solidFill>
                  <a:srgbClr val="00b0f0"/>
                </a:solidFill>
                <a:latin typeface="Arial"/>
                <a:ea typeface="ＭＳ Ｐゴシック"/>
              </a:rPr>
              <a:t>b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 +_x0007_b</a:t>
            </a:r>
            <a:r>
              <a:rPr b="0" lang="en-US" sz="1800" spc="-1" strike="noStrike" baseline="-25000">
                <a:solidFill>
                  <a:srgbClr val="00b0f0"/>
                </a:solidFill>
                <a:latin typeface="Arial"/>
                <a:ea typeface="ＭＳ Ｐゴシック"/>
              </a:rPr>
              <a:t>s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/b</a:t>
            </a:r>
            <a:r>
              <a:rPr b="0" lang="en-US" sz="1800" spc="-1" strike="noStrike" baseline="-25000">
                <a:solidFill>
                  <a:srgbClr val="00b0f0"/>
                </a:solidFill>
                <a:latin typeface="Arial"/>
                <a:ea typeface="ＭＳ Ｐゴシック"/>
              </a:rPr>
              <a:t>b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 ) see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The build and probe phases require only one seek for each of the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artitions of each relation, since each partition can be read sequentially. The hash join thus requir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(b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/b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+b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/b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) + 2n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023840" y="117360"/>
            <a:ext cx="767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st of Hash-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12960" y="1270080"/>
            <a:ext cx="778644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ecursive partitioning requir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14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 passes required for partition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ild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less than M blocks per partition is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g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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M/bb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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–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s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/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)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14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to choose the smaller relation as the build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14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cost estimate i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+ 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)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g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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M/bb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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–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s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/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)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+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+ 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lock transfers +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  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/ 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s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/ 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)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g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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M/bb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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–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s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/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)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s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entire build input can be kept in main memory no partitioning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14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st estimate goes down to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+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023840" y="117360"/>
            <a:ext cx="784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85960" y="1322280"/>
            <a:ext cx="789912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Duplicate elimin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implemented via hashing or so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sorting duplicates will come adjacent to each other, and all but one set of duplicates can be delet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ptimiza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plicates can be deleted during run generation as well as at intermediate merge steps in external sort-me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shing is similar – duplicates will come into the same buc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roj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 projection on each tu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llowed by duplicate elimin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023840" y="117360"/>
            <a:ext cx="8145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Operations : Ag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11160" y="1093680"/>
            <a:ext cx="8072640" cy="51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Aggre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implemented in a manner similar to duplicate elim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rting or hashing can be used to bring tuples in the same group together, and then the aggregate functions can be applied on each group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ptimization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ne tuples in the same group during run generation and intermediate merges, by computing partial aggregat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count, min, max, sum: keep aggregate values on tuples found so far in the grou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28600">
              <a:lnSpc>
                <a:spcPct val="10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ombining partial aggregate for count, add up the aggre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vg, keep sum and count, and divide sum by count at th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023840" y="117360"/>
            <a:ext cx="862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Operations : Se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15840" y="1270080"/>
            <a:ext cx="810108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Set oper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  can either use variant of merge-join after sorting, or variant of hash-jo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Set operations using hash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tion both relations using the same hash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each parti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s follow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3384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ing a different hashing function, build an in-memory hash index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3384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s fo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33984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81360" indent="-33840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tupl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 the hash index if they are not already in i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81360" indent="-33840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end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dd the tuples in the hash index to the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023840" y="117360"/>
            <a:ext cx="838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Operations : Se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85960" y="1295280"/>
            <a:ext cx="755172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Set operations using hash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before parti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before, process each parti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s fo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338400">
              <a:lnSpc>
                <a:spcPct val="100000"/>
              </a:lnSpc>
              <a:spcBef>
                <a:spcPts val="1049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ild a hash index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3384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s fo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339840">
              <a:lnSpc>
                <a:spcPct val="100000"/>
              </a:lnSpc>
              <a:spcBef>
                <a:spcPts val="876"/>
              </a:spcBef>
              <a:buClr>
                <a:srgbClr val="ff99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81360" indent="-33840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put tupl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the result if they are already there in the hash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339840">
              <a:lnSpc>
                <a:spcPct val="100000"/>
              </a:lnSpc>
              <a:spcBef>
                <a:spcPts val="876"/>
              </a:spcBef>
              <a:buClr>
                <a:srgbClr val="ff99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81360" indent="-33840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ach tupl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it is there in the hash index, delete it from the inde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81360" indent="-33840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end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dd remaining tuples in the hash index to the resul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023840" y="117360"/>
            <a:ext cx="829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Operations : Outer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61920" y="1195560"/>
            <a:ext cx="7934400" cy="49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Outer jo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puted either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join followed by addition of null-padded non-participating tu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modifying the join algorith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ing merge join to compu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       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       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non participating tuples are thos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   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y merge-join to compu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ing merging, for every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t do not match any tupl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p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added with nu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ght outer-join and full outer-join can be computed similar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4653000" y="3346560"/>
                <a:ext cx="15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 rot="5400000">
            <a:off x="8086320" y="328140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 rot="10800000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355840" y="3268800"/>
            <a:ext cx="408960" cy="204480"/>
            <a:chOff x="2355840" y="3268800"/>
            <a:chExt cx="408960" cy="204480"/>
          </a:xfrm>
        </p:grpSpPr>
        <p:sp>
          <p:nvSpPr>
            <p:cNvPr id="533" name=""/>
            <p:cNvSpPr/>
            <p:nvPr/>
          </p:nvSpPr>
          <p:spPr>
            <a:xfrm flipV="1" rot="16200000">
              <a:off x="2561040" y="3269520"/>
              <a:ext cx="204480" cy="20268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2358000" y="3274920"/>
              <a:ext cx="20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2355840" y="3470040"/>
              <a:ext cx="20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465880" y="3654000"/>
            <a:ext cx="408600" cy="204840"/>
            <a:chOff x="5465880" y="3654000"/>
            <a:chExt cx="408600" cy="204840"/>
          </a:xfrm>
        </p:grpSpPr>
        <p:sp>
          <p:nvSpPr>
            <p:cNvPr id="537" name=""/>
            <p:cNvSpPr/>
            <p:nvPr/>
          </p:nvSpPr>
          <p:spPr>
            <a:xfrm flipV="1" rot="16200000">
              <a:off x="5672160" y="3656160"/>
              <a:ext cx="204840" cy="19980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5470200" y="36590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5465880" y="38545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5362560" y="2877840"/>
            <a:ext cx="408960" cy="204840"/>
            <a:chOff x="5362560" y="2877840"/>
            <a:chExt cx="408960" cy="204840"/>
          </a:xfrm>
        </p:grpSpPr>
        <p:sp>
          <p:nvSpPr>
            <p:cNvPr id="541" name=""/>
            <p:cNvSpPr/>
            <p:nvPr/>
          </p:nvSpPr>
          <p:spPr>
            <a:xfrm flipV="1" rot="16200000">
              <a:off x="5567760" y="2878560"/>
              <a:ext cx="204840" cy="20268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5364720" y="2884680"/>
              <a:ext cx="20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5362560" y="3079800"/>
              <a:ext cx="20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23840" y="117360"/>
            <a:ext cx="8050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Basic Steps in Query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7920" y="1147680"/>
            <a:ext cx="82551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valuation pl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fines exactly what algorithm is used for each operation, and how the execution of the operations is coordin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52680" y="2076480"/>
            <a:ext cx="6105600" cy="37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023840" y="117360"/>
            <a:ext cx="8172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Operations : Outer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68320" y="1274760"/>
            <a:ext cx="791388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ing hash join to compu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       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probe relation, output non-match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uples padded with nu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build relation, when probing keep track of whic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tuples match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uples.  At end o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outpu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match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uples padded with nu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19920" y="3282840"/>
                <a:ext cx="15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547" name=""/>
          <p:cNvGrpSpPr/>
          <p:nvPr/>
        </p:nvGrpSpPr>
        <p:grpSpPr>
          <a:xfrm>
            <a:off x="5110200" y="1387080"/>
            <a:ext cx="408960" cy="204840"/>
            <a:chOff x="5110200" y="1387080"/>
            <a:chExt cx="408960" cy="204840"/>
          </a:xfrm>
        </p:grpSpPr>
        <p:sp>
          <p:nvSpPr>
            <p:cNvPr id="548" name=""/>
            <p:cNvSpPr/>
            <p:nvPr/>
          </p:nvSpPr>
          <p:spPr>
            <a:xfrm flipV="1" rot="16200000">
              <a:off x="5316840" y="1389240"/>
              <a:ext cx="204840" cy="19980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5114880" y="13921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5110200" y="158760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1023840" y="117360"/>
            <a:ext cx="8029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valuation of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085760" y="1093680"/>
            <a:ext cx="775332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far: we have seen algorithms for individual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s for evaluating an entire expression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Materialization(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物化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 generate results of an expression whose inputs are relations or are already computed,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material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store) it on disk.  Repe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Pipelining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（流水线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 pass on tuples to parent operations even as an operation is being exec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tudy above alternatives in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23840" y="117360"/>
            <a:ext cx="77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te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023840" y="1038240"/>
            <a:ext cx="7975800" cy="26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Materialized evalu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one operation at a time, starting at the lowest-level.  Use intermediate results materialized into temporary relations to evaluate next-level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in figure below, compute and store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ompute the store its join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inally compute the projection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2549520" y="2567160"/>
                <a:ext cx="3386160" cy="48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uildin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Watson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partmen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3006720" y="3716280"/>
            <a:ext cx="3827520" cy="283536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520560" y="4448160"/>
            <a:ext cx="186696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sult saved to 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20560" y="5362560"/>
            <a:ext cx="186696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sult saved to 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"/>
          <p:cNvCxnSpPr/>
          <p:nvPr/>
        </p:nvCxnSpPr>
        <p:spPr>
          <a:xfrm flipH="1">
            <a:off x="2467800" y="5584320"/>
            <a:ext cx="794520" cy="396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  <a:tailEnd len="med" type="arrow" w="med"/>
          </a:ln>
        </p:spPr>
      </p:cxnSp>
      <p:cxnSp>
        <p:nvCxnSpPr>
          <p:cNvPr id="560" name=""/>
          <p:cNvCxnSpPr/>
          <p:nvPr/>
        </p:nvCxnSpPr>
        <p:spPr>
          <a:xfrm flipH="1">
            <a:off x="2468160" y="4615920"/>
            <a:ext cx="2247120" cy="396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  <a:tailEnd len="med" type="arrow" w="med"/>
          </a:ln>
        </p:spPr>
      </p:cxn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1023840" y="117360"/>
            <a:ext cx="8070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terialization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085760" y="1093680"/>
            <a:ext cx="778032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ized evaluation is always appli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writing results to disk and reading them back can be quite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r cost formulas for operations ignore cost of writing results to disk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all cost  =  Sum of costs of individual operations +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cost of writing intermediate results to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Double buffe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use two output buffers for each operation, when one is full write it to disk while the other is getting f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overlap of disk writes with computation and reduces execu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023840" y="117360"/>
            <a:ext cx="772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ipel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12960" y="1208160"/>
            <a:ext cx="808992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ipelined evaluation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evaluate several operations simultaneously, passing the results of one operation on to th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in previous expression tree, d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store result of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ead, pass tuples directly to the join..  Similarly, d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 store result of join, pass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tup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irectly to proj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cheaper than materialization: no need to store a temporary relation to d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ing may not always be possible – e.g., sort, hash-jo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ipelining to be effective, use evaluation algorithms that generate output tuples even as tuples are received for inputs to the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es can be executed in two ways: 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demand driv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roducer driven</a:t>
            </a: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681280" y="2295360"/>
                <a:ext cx="3386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uildin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Watson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partmen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023840" y="117360"/>
            <a:ext cx="8040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ipelining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39880" y="1217520"/>
            <a:ext cx="822492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demand driv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laz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repeatedly requests next tuple  from top leve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operation requests  next tuple from children operations as required, in order to output its next tu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between calls, operation has to maintain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stat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o it knows what to return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roducer-driv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ea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ipel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ors produce tuples eagerly and pass them up to their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ffer maintained between operators, child puts tuples in buffer, parent removes tuples from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uffer is full, child waits till there is space in the buffer, and then generates more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schedules operations that have space in output buffer and can process more input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name: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u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ls of pipel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023840" y="117360"/>
            <a:ext cx="8460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ipelining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914400" y="1224000"/>
            <a:ext cx="825516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demand-driven pipel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operation is implemented as an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mplementing the followin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2860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 file scan: initialize file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66880" indent="-22860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: pointer to beginning of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2860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merge join: sort relati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66880" indent="-22860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: pointers to beginning of sorted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x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2860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 for file scan: Output next tuple, and advance and store file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2860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 for merge join:  continue with merge from earlier state til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xt output tuple is found.  Save pointers as iterator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914400" y="2286000"/>
            <a:ext cx="1036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23840" y="117360"/>
            <a:ext cx="7967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asures of Query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5040" y="1149480"/>
            <a:ext cx="789768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is generally measured as total elapsed time for answering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y factors contribute to tim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k accesses, CP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or even networ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disk access is the predominant cost, and is also relatively easy to estimate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by taking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umber of seeks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average-seek-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umber of blocks read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average-block-read-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umber of blocks writt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average-block-write-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st to write a block is greater than cost to read a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28600">
              <a:lnSpc>
                <a:spcPct val="10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is read back after being written to ensure that the write was 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23840" y="117360"/>
            <a:ext cx="843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asures of Query Cos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39960" y="1235160"/>
            <a:ext cx="10026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implicity we just use th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number of block transfer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from disk and th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number of see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the cost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t</a:t>
            </a:r>
            <a:r>
              <a:rPr b="0" i="1" lang="en-US" sz="2000" spc="-1" strike="noStrike" baseline="-25000">
                <a:solidFill>
                  <a:srgbClr val="3366cc"/>
                </a:solidFill>
                <a:latin typeface="Arial"/>
                <a:ea typeface="ＭＳ Ｐゴシック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time to transfer one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t</a:t>
            </a:r>
            <a:r>
              <a:rPr b="0" i="1" lang="en-US" sz="2000" spc="-1" strike="noStrike" baseline="-25000">
                <a:solidFill>
                  <a:srgbClr val="3366cc"/>
                </a:solidFill>
                <a:latin typeface="Arial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time for one s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st for b block transfers plus S seeks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 * t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T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+ S * t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end on where data is stored; with 4 KB bloc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 end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magnetic di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4 msec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0.1 msec,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/ 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≈ 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S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20-90 microsec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2-10 microsec for 4KB 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/ 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≈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ignore CPU cos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simpl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l systems do take CPU cost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ignore cost to writing outpu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isk in our cost formul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23840" y="117360"/>
            <a:ext cx="7967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asures of Query Cos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98560" y="1165320"/>
            <a:ext cx="78915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algorithms can reduce disk IO by using extra buffer 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ount of real memory available to buffer depends on other concurrent queries and OS processes, known only during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often use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worst case estim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assuming only the minimum amount of memory needed for the operation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data may be buffer resident already, avoiding disk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ard to take into account for cost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23840" y="117360"/>
            <a:ext cx="7953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ion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49320" y="1117440"/>
            <a:ext cx="821520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File s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1 (linear search)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each file block and test all records to see whether they satisfy the selection con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orst cost =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* t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T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+ t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otes number of blocks containing records from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selection is on a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key attrib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can stop on finding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verage cost = (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/2)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T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+ t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ear search can be applied regardles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ion condition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dering of records in the file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ailability of i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binary search generally does not make sense since data is not stored consecu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ept when there is an index availa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binary search requires more seeks than index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8:58:38Z</dcterms:created>
  <dc:creator>Silberschatz, Korth and Sudarshan</dc:creator>
  <dc:description/>
  <dc:language>en-US</dc:language>
  <cp:lastModifiedBy/>
  <cp:lastPrinted>1999-06-28T19:27:31Z</cp:lastPrinted>
  <dcterms:modified xsi:type="dcterms:W3CDTF">2021-05-19T00:52:20Z</dcterms:modified>
  <cp:revision>684</cp:revision>
  <dc:subject/>
  <dc:title>Chapter 12: Query Processing</dc:title>
</cp:coreProperties>
</file>