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12193588" cy="6858000"/>
  <p:notesSz cx="6761163" cy="9942513"/>
  <p:custShowLst>
    <p:custShow name="Custom Show 1" id="0">
      <p:sldLst>
        <p:sld r:id="rId11"/>
        <p:sld r:id="rId1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66240" y="746280"/>
            <a:ext cx="6627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BEBC23-5BD1-49DF-8B45-99BFE245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9780A6-DC0C-4E32-9491-BCAA8683BE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1B5572-5EBE-4772-8BF6-67F43706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A27FD4-D914-4985-861C-0C555FA50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AA16C3-1F00-4833-BA92-1EB86B3B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A85CE0-B55F-40D7-98FE-C52C3771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ED8760-6771-4D46-8AE2-DC810F7C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BDF10A-6C4F-4539-AEC5-EA5793A2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8186A9-10D1-4282-A2D8-137A720D3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AE8E48-0071-42C9-BD18-B588785F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45DA16-2F9B-46CE-AB88-27CEA01B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A4F92E-C895-452F-8429-C9B9E1F1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220941-5C3E-40FD-AC2F-F7D55AEC8D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7119FD-C753-4262-B05E-70630086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7C14FD-39DC-480F-8354-5FA04BF7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CEE6C6-F47A-4441-90F0-45E4240F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5B7404-B005-4C7B-B238-9F8C489D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E7BB2B-5162-4546-B3C8-8197A069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CFE510-DE87-4AE0-BCF0-81181414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A51562-281C-4B11-8626-799370E6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4B486A-C0A1-4955-8661-96D23F85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7050BB-CD28-4137-9629-E6591F78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88DC9F-2593-406A-A5F6-F07AF1D3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36BAD9-8B89-435E-9959-11CCF2AAD7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763C9E-C3B6-4F10-87AD-F1446D2F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6A2BF4-AC9F-4A6B-B81E-2D2AFEAF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79F3FB-EE77-4D38-9ED7-6366EFD9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CCD0DA-F232-45CF-B50D-E3A55966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B7E763-CA87-49D2-84D7-8138D93D39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68400" y="746280"/>
            <a:ext cx="6627600" cy="3728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7CB05C-94E7-4B89-9525-F421DD3E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5F3315-FE7E-40E7-B9BC-8258BCA5AC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FF29D7-DD0C-4CE6-BCBF-15CF4AE1C3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B03DF7-E6B3-4478-AED0-6E5C9104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EBE883-AA99-4937-BD50-F288FDD9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D07B59-71A2-49E0-B253-535933C450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777-8617-47BA-9B88-18075ABEB4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59CAB0-3159-40DC-9861-B70B6A2E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582-7D93-4653-8B62-9296714131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3672D9-C001-4CE8-A119-15A12618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8A4A-2432-446C-8AD8-2C67AE11C4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D32BC2-5144-471F-9070-C9014EBB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95AF9D-A6EC-47EF-A3C5-BD8948F7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B8CB88-562A-4E4E-8D79-52CF51DF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30C0E5-BF0D-4501-8B87-ECCB9E12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6BB004-8EBD-4FE8-B04F-0F211C9B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CA772D-3D1F-4D9B-8BC4-92AF7D3B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D3A-2F90-49C6-A1B5-8D3BA4735E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7AAC67-E12B-4484-AD96-7AFF38CB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D6AD1B-BD76-4BC4-9672-0EB78BDF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59415B-C0E7-42E7-8664-5C5AEA35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35FDBA-ABD9-4533-869E-1D53E357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6600" y="744480"/>
            <a:ext cx="6627960" cy="3729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9640" y="4722480"/>
            <a:ext cx="4961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6E0BBB-F9FE-44E5-944F-0E1CFDAC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10236C-B93C-4755-97EF-AA257C3E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32200" y="9445680"/>
            <a:ext cx="2928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CEDF90-BE6D-4EC5-A831-D3FBE860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66600" y="746280"/>
            <a:ext cx="6627960" cy="3728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B26D-B22E-4A7E-BCDD-D15DA45BA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8DE1-5D48-4A75-A01D-E313E0166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EFE8-0900-4930-9E2E-E5425E289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6173-B16B-475C-A2D5-FECD5E4775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8C79-85AD-4389-BAA8-71C1C8CD6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C7E9-A95E-4D75-B09C-1FFE0BBDE4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6A94-51F1-4F07-BDA4-7628E2460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1F1C-387A-4C24-93C4-A1CD4C127E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B7A0-0214-4224-89B6-F4DDDD2E1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0123-7533-4E8E-A16E-C2E1F0283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E8D0-5162-4503-8844-B6461E6DF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96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93800" y="10936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854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396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93800" y="3655080"/>
            <a:ext cx="32893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2E93-6001-47A5-B237-AA5CDFD06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3840" y="117360"/>
            <a:ext cx="10769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19800" y="36550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19800" y="1093680"/>
            <a:ext cx="49849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3655080"/>
            <a:ext cx="10215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94161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582372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867A4AC7-AE87-409E-B76C-D658228ECC99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944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11888640" y="5445000"/>
            <a:ext cx="30348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4680" y="0"/>
            <a:ext cx="892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42375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85580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816000" y="5780160"/>
            <a:ext cx="459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8794440" y="62182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9FC-FE3C-42D1-8C41-53A4B81AA3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arallon_Islands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9760" y="1077480"/>
            <a:ext cx="807732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boo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 System Concepts (6th E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ructor : SUN Jianling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孙建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fes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Yi-Fu Gong Shang Building 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逸夫工商管理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u Quan Campus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玉泉校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sunjl@zju.edu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 87952700, 137058185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c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: sobek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TA 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毛启衡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ster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maoqiheng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188681119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c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: HN08215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base Example- University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47325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example -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students, instructors, and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tudents for courses, and generate class r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gra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grade point averages (GPA) and generate 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1"/>
          <p:cNvPicPr/>
          <p:nvPr/>
        </p:nvPicPr>
        <p:blipFill>
          <a:blip r:embed="rId1"/>
          <a:stretch/>
        </p:blipFill>
        <p:spPr>
          <a:xfrm>
            <a:off x="5710320" y="1644480"/>
            <a:ext cx="4170240" cy="498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03400" y="1077480"/>
            <a:ext cx="75801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arly days, database applications were built directly on top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le syste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hich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redundanc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冗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consistenc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不一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 formats, duplication of information in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isolation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孤立，数据孤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ing dat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存取数据困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a new program to carry out each new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03400" y="1073160"/>
            <a:ext cx="75801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g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ble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完整性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 become “buried” in program code rather than being stated explicitly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显式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account balance &gt;=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add new constraints or change existing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5116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1063440"/>
            <a:ext cx="8080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ble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原子性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may leave database in an inconsistent state with partial updates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fer of funds from one account to another should either complete or not happen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2894040" y="3670200"/>
            <a:ext cx="1258920" cy="49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"/>
          <p:cNvSpPr/>
          <p:nvPr/>
        </p:nvSpPr>
        <p:spPr>
          <a:xfrm>
            <a:off x="6146640" y="3670200"/>
            <a:ext cx="1258920" cy="49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直接箭头连接符 5"/>
          <p:cNvCxnSpPr/>
          <p:nvPr/>
        </p:nvCxnSpPr>
        <p:spPr>
          <a:xfrm>
            <a:off x="4152600" y="3916080"/>
            <a:ext cx="1980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矩形 7"/>
          <p:cNvSpPr/>
          <p:nvPr/>
        </p:nvSpPr>
        <p:spPr>
          <a:xfrm>
            <a:off x="4921200" y="3500280"/>
            <a:ext cx="77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2882880" y="4340160"/>
            <a:ext cx="1495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lance -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6157800" y="4307040"/>
            <a:ext cx="14511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lance +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5116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03040" y="1100160"/>
            <a:ext cx="8080200" cy="18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mal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并发访问异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 needed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trolled concurrent accesses can lead to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wo people reading a balance (say 100) and updating it by saving money (say 50 each)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"/>
          <p:cNvSpPr/>
          <p:nvPr/>
        </p:nvSpPr>
        <p:spPr>
          <a:xfrm>
            <a:off x="4660920" y="5048280"/>
            <a:ext cx="1258920" cy="49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4118040" y="3416400"/>
            <a:ext cx="77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6041880" y="3403440"/>
            <a:ext cx="7797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3121200" y="3776760"/>
            <a:ext cx="7794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ad : balance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5384880" y="3776760"/>
            <a:ext cx="20937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ad: balance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3121200" y="4160880"/>
            <a:ext cx="7794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rite : balance +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5384880" y="4148280"/>
            <a:ext cx="77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rite : balance +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箭头连接符 2"/>
          <p:cNvCxnSpPr/>
          <p:nvPr/>
        </p:nvCxnSpPr>
        <p:spPr>
          <a:xfrm>
            <a:off x="4346280" y="4519080"/>
            <a:ext cx="646920" cy="49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5" name="直接箭头连接符 19"/>
          <p:cNvCxnSpPr/>
          <p:nvPr/>
        </p:nvCxnSpPr>
        <p:spPr>
          <a:xfrm flipH="1">
            <a:off x="5529960" y="4519080"/>
            <a:ext cx="794520" cy="49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116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1077840"/>
            <a:ext cx="80802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u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安全性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provide user access to some, but not all,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led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权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审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tabase systems offer solutions to all the abov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racteristics of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ersistence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持久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 in accessing data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访问便利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完整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for multiple user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多用户并发控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recove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故障恢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 cont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安全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158200" y="145944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-level abstraction of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2419200" y="2125800"/>
            <a:ext cx="7402680" cy="43336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7656480" y="411336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view/logical ma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7"/>
          <p:cNvCxnSpPr/>
          <p:nvPr/>
        </p:nvCxnSpPr>
        <p:spPr>
          <a:xfrm flipH="1">
            <a:off x="6444360" y="4312800"/>
            <a:ext cx="12121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45" name="TextBox 12"/>
          <p:cNvSpPr/>
          <p:nvPr/>
        </p:nvSpPr>
        <p:spPr>
          <a:xfrm>
            <a:off x="7656480" y="5238720"/>
            <a:ext cx="25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logical/physical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3695760" y="4667400"/>
            <a:ext cx="16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3562200" y="5891040"/>
            <a:ext cx="17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phys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1125360" y="327492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view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7"/>
          <p:cNvCxnSpPr/>
          <p:nvPr/>
        </p:nvCxnSpPr>
        <p:spPr>
          <a:xfrm flipH="1">
            <a:off x="6444360" y="5428800"/>
            <a:ext cx="12121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ma and Instanc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03040" y="1093320"/>
            <a:ext cx="810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m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模式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gical structure of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database consists of information about a set of customers and accounts and the relationship betwee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of a variable in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cal schema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物理模式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gical schema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逻辑模式）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design at the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nce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实例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ctual content of the database at a particular point in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 Independenc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03040" y="1077840"/>
            <a:ext cx="81090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cal Data Independence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物理数据独立性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ility to modify the physical schema without changing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the interfaces between the various levels and components should be well defined so that changes in some parts do not seriously influence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gical Data Independence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逻辑数据独立性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the ability to modify the logical schema without changing the user view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71240" y="1093320"/>
            <a:ext cx="752652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Grading Polic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课程成绩评定细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erci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作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i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测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讨论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Lab &amp; Project </a:t>
            </a:r>
            <a:r>
              <a:rPr b="0" lang="zh-CN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（实验和大程）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3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Ex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考试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5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(Open two-page not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ndwriting, with student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amp; nam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数据模型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79240" y="1091880"/>
            <a:ext cx="7435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ollection of tools for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数据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relationships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semantics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语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constraints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约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elation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关系模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tity-Relationship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实体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data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bject-based data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bject-oriented  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面向对象数据模型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bject-relation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对象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关系模型模型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mistructured data model  (XML)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半结构化数据模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ther older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model  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网状模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erarchical model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层次模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92120" y="1081080"/>
            <a:ext cx="76611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 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7934400" y="2352600"/>
            <a:ext cx="684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8456760" y="2065320"/>
            <a:ext cx="21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 /</a:t>
            </a:r>
            <a:r>
              <a:rPr b="0" lang="en-US" sz="1600" spc="-1" strike="noStrike">
                <a:solidFill>
                  <a:srgbClr val="59c1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列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属性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7049880" y="2352600"/>
            <a:ext cx="150948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7" descr="1"/>
          <p:cNvPicPr/>
          <p:nvPr/>
        </p:nvPicPr>
        <p:blipFill>
          <a:blip r:embed="rId1"/>
          <a:srcRect l="0" t="0" r="0" b="43331"/>
          <a:stretch/>
        </p:blipFill>
        <p:spPr>
          <a:xfrm>
            <a:off x="2597040" y="2735280"/>
            <a:ext cx="5526360" cy="374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8"/>
          <p:cNvSpPr/>
          <p:nvPr/>
        </p:nvSpPr>
        <p:spPr>
          <a:xfrm>
            <a:off x="8704800" y="3087720"/>
            <a:ext cx="150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s /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u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行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元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9"/>
          <p:cNvSpPr/>
          <p:nvPr/>
        </p:nvSpPr>
        <p:spPr>
          <a:xfrm flipH="1">
            <a:off x="8148600" y="3397320"/>
            <a:ext cx="527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0"/>
          <p:cNvSpPr/>
          <p:nvPr/>
        </p:nvSpPr>
        <p:spPr>
          <a:xfrm flipH="1">
            <a:off x="8148240" y="3473280"/>
            <a:ext cx="539640" cy="21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Edgar F. Codd"/>
          <p:cNvPicPr/>
          <p:nvPr/>
        </p:nvPicPr>
        <p:blipFill>
          <a:blip r:embed="rId2"/>
          <a:stretch/>
        </p:blipFill>
        <p:spPr>
          <a:xfrm>
            <a:off x="9626760" y="4203720"/>
            <a:ext cx="904680" cy="855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9132840" y="52671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0099"/>
                </a:solidFill>
                <a:latin typeface="Arial"/>
              </a:rPr>
              <a:t>Ted Codd</a:t>
            </a:r>
            <a:br>
              <a:rPr sz="1600"/>
            </a:br>
            <a:r>
              <a:rPr b="0" lang="en-IN" sz="1600" spc="-1" strike="noStrike">
                <a:solidFill>
                  <a:srgbClr val="000099"/>
                </a:solidFill>
                <a:latin typeface="Arial"/>
              </a:rPr>
              <a:t>Turing Award 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finition Language (DD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 Language (D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6120" y="377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数据定义语言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38200" y="1103400"/>
            <a:ext cx="76611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L compiler generates a set of table templates stored in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dictionary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数据字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ictionary contain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tadat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元数据，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.e., data about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完整性约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 (ID uniquely identifies instructors)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主健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aint in SQL)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参照完整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dept_name value in any instructor tuple must appear in department 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权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92480" y="4060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（数据操作语言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5760" y="1093680"/>
            <a:ext cx="86234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also known 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al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过程式）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pecifies what data is required and how to get thos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larative (nonprocedural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， 陈述式，非过程式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without specifying how to get th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widely used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76120" y="80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Query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22120" y="1125000"/>
            <a:ext cx="84042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idely used non-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Find the name of the instructor with ID 2222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2222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 Find the ID and building of instructors in the Physics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dept_name = department.dept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.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Physics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s 3, 4 an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ccess from Application Progra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92120" y="1190520"/>
            <a:ext cx="7584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n-procedural query languages such as SQL are not as powerful as a universal Turing machine.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QL does not support actions such as input from users, output to displays, or communication over the network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ch computations and actions must be written in a 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host</a:t>
            </a:r>
            <a:r>
              <a:rPr b="0" lang="en-US" sz="17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langu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uch as C/C++, Java or Pyth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I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lication program interface</a:t>
            </a:r>
            <a:r>
              <a:rPr b="1" lang="zh-CN" sz="1800" spc="-1" strike="noStrike">
                <a:solidFill>
                  <a:srgbClr val="0090e5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90e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DBC/JD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数据库设计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03040" y="1077840"/>
            <a:ext cx="10542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Relationship Model </a:t>
            </a:r>
            <a:r>
              <a:rPr b="1" i="1" lang="zh-CN" sz="18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实体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联系模型</a:t>
            </a:r>
            <a:r>
              <a:rPr b="1" i="1" lang="zh-CN" sz="1800" spc="-1" strike="noStrike">
                <a:solidFill>
                  <a:srgbClr val="0066cc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n enterprise as a collection of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y-relationship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Theory</a:t>
            </a:r>
            <a:r>
              <a:rPr b="1" i="1" lang="zh-CN" sz="18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规范化理论</a:t>
            </a:r>
            <a:r>
              <a:rPr b="1" i="1" lang="zh-CN" sz="1800" spc="-1" strike="noStrike">
                <a:solidFill>
                  <a:srgbClr val="0066cc"/>
                </a:solidFill>
                <a:latin typeface="Arial"/>
              </a:rPr>
              <a:t>）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what designs are bad, and test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/>
          <a:stretch/>
        </p:blipFill>
        <p:spPr>
          <a:xfrm>
            <a:off x="2994120" y="2217600"/>
            <a:ext cx="5767200" cy="1074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"/>
          <p:cNvPicPr/>
          <p:nvPr/>
        </p:nvPicPr>
        <p:blipFill>
          <a:blip r:embed="rId2"/>
          <a:stretch/>
        </p:blipFill>
        <p:spPr>
          <a:xfrm>
            <a:off x="2960640" y="4003560"/>
            <a:ext cx="5011920" cy="26812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"/>
          <p:cNvSpPr/>
          <p:nvPr/>
        </p:nvSpPr>
        <p:spPr>
          <a:xfrm>
            <a:off x="8035560" y="4749840"/>
            <a:ext cx="35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ny problem with this desig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Engine(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数据库引擎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03400" y="1077840"/>
            <a:ext cx="4518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system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atabase engin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artitioned into modules that deal with each of the responsibilities of the overall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al components of a database system can be divided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ag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ery process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 manag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1"/>
          <a:stretch/>
        </p:blipFill>
        <p:spPr>
          <a:xfrm>
            <a:off x="6159600" y="1033560"/>
            <a:ext cx="4049640" cy="582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92120" y="1046160"/>
            <a:ext cx="7638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module that provides the interface between the low-level data stored in the database and the application programs and queries submitted to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rage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esponsible to the following tas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the OS file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toring, retrieving and updat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age manager component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horization and integr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s 10 and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71240" y="1100160"/>
            <a:ext cx="75265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rse UR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s://courses.zju.edu.cn/course/26958/content#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学在浙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chat: 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夏数据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r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92120" y="1082520"/>
            <a:ext cx="76834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age manager implements several data structures as part of the physical system implem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a fi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store the databas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a diction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 stores metadata about the structure of the database, in particular the schema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 can provide fast access to data items.  A database index provides pointers to those data items that hold a particular valu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tist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Process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92480" y="1143000"/>
            <a:ext cx="76024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ry processor component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DL  interpr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 interprets DDL statements and records the definitions in the data dictio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ML compi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ranslates DML statements in a query language into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aluation pl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ing of low-level instructions that the query evaluation engine underst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ML compiler perform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ry optim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at is, it picks the lowest cost evaluation plan from among the various altern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ery evaluation eng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xecutes low-level instructions generated by the DML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s 12 and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Query Process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92120" y="1093680"/>
            <a:ext cx="73278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3438360" y="2368440"/>
            <a:ext cx="5718240" cy="3435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Manageme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92120" y="1130040"/>
            <a:ext cx="75675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llection of operations that performs a single logical function in a databas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cover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the database remains in a consistent (correct) state despi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stem fail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power failures and operating system crashes)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action fail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oncurrency-control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interaction among the concurrent transactions, to ensure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is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database.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pters 14, 15 and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8280" y="77400"/>
            <a:ext cx="10769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740120" y="1901880"/>
            <a:ext cx="241632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宋体"/>
              </a:rPr>
              <a:t>Databas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800600" y="2711520"/>
            <a:ext cx="2389320" cy="42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303880" y="3497400"/>
            <a:ext cx="1330200" cy="47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499000" y="4336920"/>
            <a:ext cx="884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5951520" y="2343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5951520" y="3125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5951520" y="3976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5951520" y="4768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95520" y="4390920"/>
            <a:ext cx="177336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imes New Roman"/>
                <a:ea typeface="宋体"/>
              </a:rPr>
              <a:t>Unix/Linu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imes New Roman"/>
                <a:ea typeface="宋体"/>
              </a:rPr>
              <a:t>Window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imes New Roman"/>
                <a:ea typeface="宋体"/>
              </a:rPr>
              <a:t>Mac O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H="1">
            <a:off x="6672240" y="37116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848120" y="1120680"/>
            <a:ext cx="2212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Naïv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H="1" flipV="1">
            <a:off x="7175520" y="21268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7218360" y="24876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495520" y="3078000"/>
            <a:ext cx="19940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Oracle, DB2,  SQL Server, MySQL, PostgreSQL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3973680" y="3710160"/>
            <a:ext cx="1330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3935520" y="4599000"/>
            <a:ext cx="1549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2495520" y="2386080"/>
            <a:ext cx="19940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DBC, JDB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Hiberne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4008600" y="29192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904160" y="3494160"/>
            <a:ext cx="193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D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7904160" y="2127240"/>
            <a:ext cx="1795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Application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5951520" y="155268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5303880" y="5129280"/>
            <a:ext cx="1330200" cy="5745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495520" y="1609560"/>
            <a:ext cx="1994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宋体"/>
              </a:rPr>
              <a:t>Banking, Air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宋体"/>
              </a:rPr>
              <a:t>Sales, Health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4405320" y="2122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7939080" y="4624560"/>
            <a:ext cx="193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Data Analy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直接箭头连接符 2"/>
          <p:cNvCxnSpPr/>
          <p:nvPr/>
        </p:nvCxnSpPr>
        <p:spPr>
          <a:xfrm flipH="1" flipV="1">
            <a:off x="6722640" y="3901680"/>
            <a:ext cx="107064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253120" y="5243400"/>
            <a:ext cx="17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1"/>
          <p:cNvPicPr/>
          <p:nvPr/>
        </p:nvPicPr>
        <p:blipFill>
          <a:blip r:embed="rId1"/>
          <a:stretch/>
        </p:blipFill>
        <p:spPr>
          <a:xfrm>
            <a:off x="2406600" y="1019160"/>
            <a:ext cx="783612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Us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differentiated by the way they expect to interact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pplication program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interact with system through DML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Naïve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invoke one of the permanent application programs that have been written 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amples, people accessing database over the web, bank tellers, cler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Database Administra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Coordinates all the activities of the database system; the database administrator has a good understanding of the enterprise’s information resources and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Administrator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BA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03040" y="1077840"/>
            <a:ext cx="6861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base administrator's duti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hem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orage structure and access metho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hema and physical organization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anting user authority to access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ecifying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ting as liaison with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ing performance and responding to changes 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50s and early 196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processing us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gnetic ta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pes provide onl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nched cards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874880" y="2867040"/>
            <a:ext cx="4076640" cy="26146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" descr=""/>
          <p:cNvPicPr/>
          <p:nvPr/>
        </p:nvPicPr>
        <p:blipFill>
          <a:blip r:embed="rId2"/>
          <a:stretch/>
        </p:blipFill>
        <p:spPr>
          <a:xfrm>
            <a:off x="6507000" y="293832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03400" y="1069560"/>
            <a:ext cx="88675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60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rd dis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ow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irect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and hierarchical data models are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egrated DataStore), 1961, 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 W. Bach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B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nformation Management System), 19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916280" y="3611520"/>
            <a:ext cx="2952720" cy="219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5537160" y="3662280"/>
            <a:ext cx="313380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3080" y="225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atabase System in C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58960" y="1457280"/>
          <a:ext cx="7185240" cy="4444920"/>
        </p:xfrm>
        <a:graphic>
          <a:graphicData uri="http://schemas.openxmlformats.org/drawingml/2006/table">
            <a:tbl>
              <a:tblPr/>
              <a:tblGrid>
                <a:gridCol w="7185240"/>
              </a:tblGrid>
              <a:tr h="92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I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D&amp;C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timedi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-commerenc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 Analysi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oftware Engin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bedded Syste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+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Jav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ata Structur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gorith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lie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Database Syste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etwork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erating Syste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uter Organizatio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mputer Architectur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ssembl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ircui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gital circ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03040" y="442800"/>
            <a:ext cx="10769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ring Award:Charles W. Bachman(1924-2017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55560" y="1418760"/>
            <a:ext cx="6724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egrated DataStore), 1961, GE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通用电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ther of databases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973 ACM Turing A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for his outstanding contribution to databas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DB0-AE97-491F-942E-AEE7D1EC6F06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1" descr=""/>
          <p:cNvPicPr/>
          <p:nvPr/>
        </p:nvPicPr>
        <p:blipFill>
          <a:blip r:embed="rId1"/>
          <a:stretch/>
        </p:blipFill>
        <p:spPr>
          <a:xfrm>
            <a:off x="5913360" y="2835360"/>
            <a:ext cx="170352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5400" y="10936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7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usines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L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Online Transaction Proce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dgar F. Cod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es the relational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BM Research begin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ystem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rototype(1974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Jim Gr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a key p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C Berkeley begin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g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rototype(1974, lead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ichael Stonebr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03040" y="442800"/>
            <a:ext cx="10769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ring Award: Edgar F. Codd (1923-2003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25320" y="1522440"/>
            <a:ext cx="756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 Relational Model of Data for Large Shared Data Ban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CACM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981 ACM Turing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2004, SIGMOD renamed its highest prize to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IGMOD Edgar F. Codd Innovations A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8C5-C89D-4AE8-AAE9-424896DAF533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1" descr=""/>
          <p:cNvPicPr/>
          <p:nvPr/>
        </p:nvPicPr>
        <p:blipFill>
          <a:blip r:embed="rId1"/>
          <a:stretch/>
        </p:blipFill>
        <p:spPr>
          <a:xfrm>
            <a:off x="8508960" y="3227400"/>
            <a:ext cx="1898640" cy="2693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03400" y="1052280"/>
            <a:ext cx="86868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DBMS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earch relational prototypes evolve into commerci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acle(19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BM DB2(19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for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8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ybase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ostg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PostgresSQL,19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arall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istribu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bject-orie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bject-rel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d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ngineer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03040" y="442800"/>
            <a:ext cx="10769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ring Award: Jim Gray(1944-2007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6440" y="1512360"/>
            <a:ext cx="5599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ystem 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/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ransaction Processing: Concepts and Techni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998 ACM Turing Aw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his seminal contribution to database and transaction processing research and technical leadership in system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IGMOD Jim Gray Doctoral Dissertation A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appearance 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January 28, 2007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sea in his sloop Tenacious, during a short solo   sailing  trip  to the Farallon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ea typeface="宋体"/>
                <a:hlinkClick r:id="rId1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lands  near  San Francisco to scatter his mother's a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743-94C9-4318-A6D8-6D500DBB77D1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1" descr=""/>
          <p:cNvPicPr/>
          <p:nvPr/>
        </p:nvPicPr>
        <p:blipFill>
          <a:blip r:embed="rId2"/>
          <a:stretch/>
        </p:blipFill>
        <p:spPr>
          <a:xfrm>
            <a:off x="6881760" y="1512720"/>
            <a:ext cx="2160720" cy="2592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"/>
          <p:cNvPicPr/>
          <p:nvPr/>
        </p:nvPicPr>
        <p:blipFill>
          <a:blip r:embed="rId3"/>
          <a:stretch/>
        </p:blipFill>
        <p:spPr>
          <a:xfrm>
            <a:off x="8996400" y="3763800"/>
            <a:ext cx="21765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03400" y="105264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9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usiness intelligence(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rge decision support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ata-m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rge multi-teraby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ata 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Online Analytical Proce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ergence of Web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b changes ever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kloads – performance, concurrency,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2"/>
          <p:cNvSpPr/>
          <p:nvPr/>
        </p:nvSpPr>
        <p:spPr>
          <a:xfrm>
            <a:off x="9698040" y="144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03400" y="105264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eb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XQue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utomated databas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o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03400" y="1052280"/>
            <a:ext cx="86868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No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SQL(Not Only SQL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provides a mechanism for storage and retrieval of data that use looser consistency models than traditional relational databases in order to achieve horizontal scaling and higher avail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base systems are useful when working with a huge quantity of data (especiall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n the data's nature does not require a relational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NoSQL DBM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ongoDB, Cassandra, H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03400" y="105264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ew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lou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lock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utonomous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AI powered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03400" y="11127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0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New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lass of modern RDBMSs that seek to provide the same scalable performance of NoSQL systems for OLTP workloads while still maintaining the ACID guarantees of a traditional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QL: An Alternative to NoSQL and Old SQL for New OLTP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NewSQL DBM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VoltDB,  NuoDB, Clustrix, JustOne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: Introduc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7760" y="44280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ring Award: Michael Stonebraker (1943~ 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77400" y="1338120"/>
            <a:ext cx="72262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788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14 ACM Turing Award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is fundamental contributions to the concepts and practices underlying modern databas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788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nebr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nted many of the concepts that are used in almost all modern database 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788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nebr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ought Relational Database Systems from concept to commercial  success, set the research agenda for the multibillion-dollar database field for dec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788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practical application of his innovative database management technologies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umerous business start-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e has continually demonstrated the role of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research university in driving economic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788"/>
              </a:spcBef>
              <a:buClr>
                <a:srgbClr val="9bbb59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E967-2DFD-4CAE-8878-62A832D5A8D1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"/>
          <p:cNvPicPr/>
          <p:nvPr/>
        </p:nvPicPr>
        <p:blipFill>
          <a:blip r:embed="rId1"/>
          <a:stretch/>
        </p:blipFill>
        <p:spPr>
          <a:xfrm>
            <a:off x="8413920" y="3341520"/>
            <a:ext cx="2444760" cy="257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03040" y="1052640"/>
            <a:ext cx="8497800" cy="61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0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Clou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oud data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database that typically runs on a cloud computing platform, access to it is provided as a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nd priv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61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cessing Over Encryp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az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DS/DynamoDB/Simple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so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ure SQL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oud SQL/Big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iy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a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61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03400" y="1052640"/>
            <a:ext cx="822960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0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宋体"/>
              </a:rPr>
              <a:t>Block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ckchain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distributed database that maintains a continuously-growing ordered list of data bloc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rdened against tampering and rev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-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851120" y="2336760"/>
            <a:ext cx="6734160" cy="314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09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92480" y="1093680"/>
            <a:ext cx="7851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Users and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000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6881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llection of interrelated data about a enterprise, which is managed by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B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Management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goal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o provide a way to store and retriev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ation that is both convenient and eﬃci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of data involves bo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ﬁning struct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orage of information and providing mechanisms for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i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bas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ensure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information stored, despite system crashes or attempts at unauthorized ac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ata are to be shared among several users, the system must provid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currency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to avoid possible anomalous res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9040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pplic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38560" y="1093680"/>
            <a:ext cx="76881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atabase Applications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</a:rPr>
              <a:t>（数据库应用，数据库应用系统）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s, loans,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urse,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retail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rder tracking, customize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can be very large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840" y="117360"/>
            <a:ext cx="10769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base Example-Bank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000080"/>
            <a:ext cx="10215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example -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/Withdraw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/ Repay lo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20093" t="788" r="20093" b="1314"/>
          <a:stretch/>
        </p:blipFill>
        <p:spPr>
          <a:xfrm>
            <a:off x="5278320" y="1536840"/>
            <a:ext cx="4141800" cy="5081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jl</cp:lastModifiedBy>
  <cp:lastPrinted>2020-09-09T14:10:33Z</cp:lastPrinted>
  <dcterms:modified xsi:type="dcterms:W3CDTF">2021-02-26T08:55:27Z</dcterms:modified>
  <cp:revision>482</cp:revision>
  <dc:subject/>
  <dc:title>Chapter 1:  Introduction</dc:title>
</cp:coreProperties>
</file>