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12193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15D3-36C5-4E4D-A669-BB5F93E49D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E80B-280B-4CA2-BE84-5BBB3244D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8789-C9AB-46BF-B577-00370E4A03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BFCA-DBB5-484E-BDE0-95CBF153A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57AB-4BDD-4EFF-9537-14674A2EC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5454-FFB1-4544-8B9B-937A99A5E5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9771-0DC0-4C63-8B94-66B9B72EC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54CF-44E8-437B-80D3-6DF2CA57E9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9DCA-EA01-4B2F-AE29-35824C2145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1A9C-99DF-4DCF-B5B0-A01C3A65A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F2EB-F05F-4CF3-9830-5416156C8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5C06-3115-4072-AA78-0E15BBBB5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57880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5.</a:t>
            </a:r>
            <a:fld id="{B81D18F7-36D9-4DC2-ABF8-D297958D59D3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42375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81600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8794440" y="62182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AF7B-D2D5-4E8F-9591-4132F134DB6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Chapter 15 : Concurrency Control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452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4640" y="1019160"/>
            <a:ext cx="76341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ic two-phase locking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基本两阶段封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to ensure recoverability of freedom from cascading roll-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ict two-phase locking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严格两阶段封锁）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ust hold all its exclusive locks till it commits/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sures recoverability and avoids cascading roll-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orous two-phase locking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强两阶段封锁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transaction must hol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till commit/ab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can be serialized in the order in which they co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databases implement rigorous two-phase locking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refer to it as simply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540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88920" y="1149120"/>
            <a:ext cx="77248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wo-phase locking is not a necessary condition for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conflict serializable schedules that cannot be obtained if two-phase locking is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the absence of extra information (e.g., ordering of  access to data), two-phase locking is needed for conflict serializabilit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01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44320" y="1114200"/>
            <a:ext cx="652644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following  is a schedule  of the transactions T1,T2,T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spcBef>
                <a:spcPts val="788"/>
              </a:spcBef>
              <a:buClr>
                <a:srgbClr val="cc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aw the precedence graph of th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spcBef>
                <a:spcPts val="788"/>
              </a:spcBef>
              <a:buClr>
                <a:srgbClr val="cc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 schedule  conflict serializab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spcBef>
                <a:spcPts val="788"/>
              </a:spcBef>
              <a:buClr>
                <a:srgbClr val="cc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the schedule be generated by the 2PL protoc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30720" y="1647720"/>
          <a:ext cx="2815920" cy="1841400"/>
        </p:xfrm>
        <a:graphic>
          <a:graphicData uri="http://schemas.openxmlformats.org/drawingml/2006/table">
            <a:tbl>
              <a:tblPr/>
              <a:tblGrid>
                <a:gridCol w="937800"/>
                <a:gridCol w="939960"/>
                <a:gridCol w="938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文本框 1"/>
          <p:cNvSpPr/>
          <p:nvPr/>
        </p:nvSpPr>
        <p:spPr>
          <a:xfrm>
            <a:off x="5778360" y="5861160"/>
            <a:ext cx="7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4456080" y="52243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5778360" y="5224320"/>
            <a:ext cx="7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接箭头连接符 3"/>
          <p:cNvCxnSpPr/>
          <p:nvPr/>
        </p:nvCxnSpPr>
        <p:spPr>
          <a:xfrm>
            <a:off x="4954680" y="539388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7" name="直接箭头连接符 7"/>
          <p:cNvCxnSpPr>
            <a:stCxn id="153" idx="1"/>
          </p:cNvCxnSpPr>
          <p:nvPr/>
        </p:nvCxnSpPr>
        <p:spPr>
          <a:xfrm flipH="1" flipV="1">
            <a:off x="4884480" y="556380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8771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(continue…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107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following  is the schedule with lock and unlock op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just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36840" y="1474920"/>
          <a:ext cx="3394080" cy="462420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52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ck-X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宋体"/>
                        </a:rPr>
                        <a:t>unlock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宋体"/>
                        </a:rPr>
                        <a:t>lock-X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nlock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ck-X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unlock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lock-X(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nlock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6935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Lock Conver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5640" y="1106640"/>
            <a:ext cx="55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wo-phase locking with lock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–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First Phase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S or lock-X on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S to a lock-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upgra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–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Secon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S or 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X to a lock-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down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This protocol assures serializabilit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(Please prove it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6832440" y="2122560"/>
            <a:ext cx="1067040" cy="1020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5"/>
          <p:cNvSpPr/>
          <p:nvPr/>
        </p:nvSpPr>
        <p:spPr>
          <a:xfrm>
            <a:off x="10536120" y="2152800"/>
            <a:ext cx="1067040" cy="1020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直接箭头连接符 9"/>
          <p:cNvCxnSpPr>
            <a:stCxn id="163" idx="6"/>
            <a:endCxn id="164" idx="2"/>
          </p:cNvCxnSpPr>
          <p:nvPr/>
        </p:nvCxnSpPr>
        <p:spPr>
          <a:xfrm>
            <a:off x="7899480" y="2633760"/>
            <a:ext cx="2637360" cy="306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6" name="矩形 11"/>
          <p:cNvSpPr/>
          <p:nvPr/>
        </p:nvSpPr>
        <p:spPr>
          <a:xfrm>
            <a:off x="8070840" y="1770120"/>
            <a:ext cx="22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 &lt; 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8524800" y="4027320"/>
            <a:ext cx="1036800" cy="4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直接箭头连接符 8"/>
          <p:cNvCxnSpPr>
            <a:stCxn id="163" idx="4"/>
            <a:endCxn id="164" idx="2"/>
          </p:cNvCxnSpPr>
          <p:nvPr/>
        </p:nvCxnSpPr>
        <p:spPr>
          <a:xfrm>
            <a:off x="7365600" y="3143160"/>
            <a:ext cx="117396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69" name="直接箭头连接符 9"/>
          <p:cNvCxnSpPr>
            <a:stCxn id="163" idx="4"/>
            <a:endCxn id="164" idx="2"/>
          </p:cNvCxnSpPr>
          <p:nvPr/>
        </p:nvCxnSpPr>
        <p:spPr>
          <a:xfrm>
            <a:off x="7594200" y="3112920"/>
            <a:ext cx="120564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70" name="直接箭头连接符 10"/>
          <p:cNvCxnSpPr>
            <a:stCxn id="164" idx="3"/>
            <a:endCxn id="167" idx="0"/>
          </p:cNvCxnSpPr>
          <p:nvPr/>
        </p:nvCxnSpPr>
        <p:spPr>
          <a:xfrm flipH="1">
            <a:off x="9041760" y="3024360"/>
            <a:ext cx="1649880" cy="1003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71" name="直接箭头连接符 11"/>
          <p:cNvCxnSpPr>
            <a:stCxn id="164" idx="3"/>
            <a:endCxn id="167" idx="0"/>
          </p:cNvCxnSpPr>
          <p:nvPr/>
        </p:nvCxnSpPr>
        <p:spPr>
          <a:xfrm flipH="1">
            <a:off x="9346680" y="3189240"/>
            <a:ext cx="1418400" cy="82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sp>
        <p:nvSpPr>
          <p:cNvPr id="172" name="TextBox 26"/>
          <p:cNvSpPr/>
          <p:nvPr/>
        </p:nvSpPr>
        <p:spPr>
          <a:xfrm>
            <a:off x="6289560" y="3616200"/>
            <a:ext cx="19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ck(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ck-upgrade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8897760" y="2690640"/>
            <a:ext cx="197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(3) lock(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lock-upgrade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7658280" y="295128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(2) un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9"/>
          <p:cNvSpPr/>
          <p:nvPr/>
        </p:nvSpPr>
        <p:spPr>
          <a:xfrm>
            <a:off x="9736200" y="3656160"/>
            <a:ext cx="23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(4) un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lock-downgrade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箭头连接符 16"/>
          <p:cNvCxnSpPr>
            <a:stCxn id="164" idx="3"/>
            <a:endCxn id="167" idx="0"/>
          </p:cNvCxnSpPr>
          <p:nvPr/>
        </p:nvCxnSpPr>
        <p:spPr>
          <a:xfrm flipV="1">
            <a:off x="6448320" y="4707720"/>
            <a:ext cx="5034960" cy="183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77" name="文本框 18"/>
          <p:cNvSpPr/>
          <p:nvPr/>
        </p:nvSpPr>
        <p:spPr>
          <a:xfrm>
            <a:off x="11638080" y="611820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37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Automatic Acquisition of 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80920" y="1114560"/>
            <a:ext cx="784872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the standard read/write instruction, without explicit locking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829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Automatic Acquisition of 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28440" y="122508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trans. has any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cks are released after commit or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6894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Implementation of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36360" y="125244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k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as a separate process to which transactions send lock and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replies to a lock request by sending a lock grant messages (or a message asking the transaction to roll back, in case of  a dead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ing transaction waits until its request is answ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maintains a data-structur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k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rd granted locks and pend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table is usually implemented as an in-memory hash table indexed on the name of the data item being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542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Lock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28920" y="1141560"/>
            <a:ext cx="41907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records  granted locks and waiting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also records the type of lock granted or requ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quest is added to the end of the queue of requests for the data item, and granted if it is compatible with all earlier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ock requests result in the request being deleted, and later requests are checked to see if they can now be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nsaction aborts, all waiting or granted requests of the transaction are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manager may keep a list of locks held by each transaction, to implement this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1"/>
          <a:stretch/>
        </p:blipFill>
        <p:spPr>
          <a:xfrm>
            <a:off x="923760" y="912960"/>
            <a:ext cx="40752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4548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9980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locked if there is a set of transactions such that every transaction in the set is waiting for another transaction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wo-phase locking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ensure freedom from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wr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      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with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1"/>
          <a:stretch/>
        </p:blipFill>
        <p:spPr>
          <a:xfrm>
            <a:off x="3073320" y="3618000"/>
            <a:ext cx="41976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3552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Chapter 15: 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8440" y="1190160"/>
            <a:ext cx="784836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adlock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vers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MS PGothic"/>
              </a:rPr>
              <a:t>Timestamp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MS PGothic"/>
              </a:rPr>
              <a:t>Validation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MS PGothic"/>
              </a:rPr>
              <a:t>Insert and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MS PGothic"/>
              </a:rPr>
              <a:t>Concurrency in Ind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900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4680" y="1211040"/>
            <a:ext cx="766116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eadlo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ensure that the system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into a deadlock state. Some prevention strate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each transacti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cks all its data i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it begins execution (predecla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pose partial orde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ll data items and require that a transaction can lock data items only in the order specified by the partial order (graph-based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imeout-Based Sche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transaction waits for a lock only for a specified amount of tim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, the wait times out and the transaction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deadlocks are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but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ossible. Also difficult to determine good value of the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imeout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836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Deadlock Det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7742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be described as a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ait-f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, which consists of a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vertices (all the transactions in th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dges; each element is an ordered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is a directed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mplying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a data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data item currently being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wait-for graph. This edge is removed only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 longer holding a data item nee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deadlock state if and only if the wait-for graph has a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cyc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ust invoke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a deadlock-detection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ically to look for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1"/>
          <a:stretch/>
        </p:blipFill>
        <p:spPr>
          <a:xfrm>
            <a:off x="2736720" y="4913280"/>
            <a:ext cx="2146320" cy="1581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2"/>
          <a:stretch/>
        </p:blipFill>
        <p:spPr>
          <a:xfrm>
            <a:off x="5667480" y="4913280"/>
            <a:ext cx="2219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9948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Deadlock Recov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4898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eadlock is  detect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ransaction will have to rolled back (mad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cti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reak deadlock.  Select that transaction as victim that will incur minimum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 -- determine how far to roll back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otal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rt the transaction and then restar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to roll back transaction only as far as necessary to break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ppens if same transaction is always chosen as victim. Include the number of rollbacks in the cost factor to avoid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1852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895320" y="861840"/>
            <a:ext cx="784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ing figure shows an example of a lock table. There are 6 transactions(T1-T6) and 6 data items(I1, I11, I5, I15, I9, I19, I29). Granted locks are filled (black) rectangles, while waiting requests are empty rect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cc3300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ich transaction are involved in deadlo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cc3300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 break the deadlock, which transaction should be rolled ba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cc3300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kind data structure can be helpful for a transaction to efficiently release all locks its holds when it commi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676520" y="-1764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"/>
          <p:cNvGrpSpPr/>
          <p:nvPr/>
        </p:nvGrpSpPr>
        <p:grpSpPr>
          <a:xfrm>
            <a:off x="1459080" y="3265560"/>
            <a:ext cx="6670440" cy="3297240"/>
            <a:chOff x="1459080" y="3265560"/>
            <a:chExt cx="6670440" cy="3297240"/>
          </a:xfrm>
        </p:grpSpPr>
        <p:sp>
          <p:nvSpPr>
            <p:cNvPr id="202" name="AutoShape 69"/>
            <p:cNvSpPr/>
            <p:nvPr/>
          </p:nvSpPr>
          <p:spPr>
            <a:xfrm>
              <a:off x="1459080" y="3265560"/>
              <a:ext cx="667044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8"/>
            <p:cNvSpPr/>
            <p:nvPr/>
          </p:nvSpPr>
          <p:spPr>
            <a:xfrm>
              <a:off x="1929240" y="3371760"/>
              <a:ext cx="434880" cy="297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7"/>
            <p:cNvSpPr/>
            <p:nvPr/>
          </p:nvSpPr>
          <p:spPr>
            <a:xfrm>
              <a:off x="1929240" y="364608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6"/>
            <p:cNvSpPr/>
            <p:nvPr/>
          </p:nvSpPr>
          <p:spPr>
            <a:xfrm>
              <a:off x="1929240" y="393228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5"/>
            <p:cNvSpPr/>
            <p:nvPr/>
          </p:nvSpPr>
          <p:spPr>
            <a:xfrm>
              <a:off x="1941480" y="421884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4"/>
            <p:cNvSpPr/>
            <p:nvPr/>
          </p:nvSpPr>
          <p:spPr>
            <a:xfrm>
              <a:off x="1941480" y="449496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3"/>
            <p:cNvSpPr/>
            <p:nvPr/>
          </p:nvSpPr>
          <p:spPr>
            <a:xfrm>
              <a:off x="1941480" y="476064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2"/>
            <p:cNvSpPr/>
            <p:nvPr/>
          </p:nvSpPr>
          <p:spPr>
            <a:xfrm>
              <a:off x="1941480" y="504684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1"/>
            <p:cNvSpPr/>
            <p:nvPr/>
          </p:nvSpPr>
          <p:spPr>
            <a:xfrm>
              <a:off x="1941480" y="532332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0"/>
            <p:cNvSpPr/>
            <p:nvPr/>
          </p:nvSpPr>
          <p:spPr>
            <a:xfrm>
              <a:off x="1941480" y="558900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9"/>
            <p:cNvSpPr/>
            <p:nvPr/>
          </p:nvSpPr>
          <p:spPr>
            <a:xfrm>
              <a:off x="1929240" y="584496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8"/>
            <p:cNvSpPr/>
            <p:nvPr/>
          </p:nvSpPr>
          <p:spPr>
            <a:xfrm>
              <a:off x="1929240" y="610056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7"/>
            <p:cNvSpPr/>
            <p:nvPr/>
          </p:nvSpPr>
          <p:spPr>
            <a:xfrm>
              <a:off x="2944440" y="3797280"/>
              <a:ext cx="289800" cy="212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6"/>
            <p:cNvSpPr/>
            <p:nvPr/>
          </p:nvSpPr>
          <p:spPr>
            <a:xfrm>
              <a:off x="3669480" y="3797280"/>
              <a:ext cx="289800" cy="2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55"/>
            <p:cNvSpPr/>
            <p:nvPr/>
          </p:nvSpPr>
          <p:spPr>
            <a:xfrm>
              <a:off x="5554800" y="3797280"/>
              <a:ext cx="289800" cy="212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4"/>
            <p:cNvSpPr/>
            <p:nvPr/>
          </p:nvSpPr>
          <p:spPr>
            <a:xfrm>
              <a:off x="6279840" y="3817800"/>
              <a:ext cx="289800" cy="2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2944440" y="4956840"/>
              <a:ext cx="289800" cy="212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2"/>
            <p:cNvSpPr/>
            <p:nvPr/>
          </p:nvSpPr>
          <p:spPr>
            <a:xfrm>
              <a:off x="3669480" y="4946760"/>
              <a:ext cx="289800" cy="2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1"/>
            <p:cNvSpPr/>
            <p:nvPr/>
          </p:nvSpPr>
          <p:spPr>
            <a:xfrm>
              <a:off x="2871720" y="6006600"/>
              <a:ext cx="289800" cy="212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0"/>
            <p:cNvSpPr/>
            <p:nvPr/>
          </p:nvSpPr>
          <p:spPr>
            <a:xfrm>
              <a:off x="4382640" y="6006600"/>
              <a:ext cx="289800" cy="212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5119920" y="6000120"/>
              <a:ext cx="289800" cy="2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8"/>
            <p:cNvSpPr/>
            <p:nvPr/>
          </p:nvSpPr>
          <p:spPr>
            <a:xfrm>
              <a:off x="2908080" y="405072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7"/>
            <p:cNvSpPr/>
            <p:nvPr/>
          </p:nvSpPr>
          <p:spPr>
            <a:xfrm>
              <a:off x="3609000" y="404892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6219360" y="4055040"/>
              <a:ext cx="4348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5"/>
            <p:cNvSpPr/>
            <p:nvPr/>
          </p:nvSpPr>
          <p:spPr>
            <a:xfrm>
              <a:off x="5494320" y="4065120"/>
              <a:ext cx="4348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4"/>
            <p:cNvSpPr/>
            <p:nvPr/>
          </p:nvSpPr>
          <p:spPr>
            <a:xfrm>
              <a:off x="2883960" y="51944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597120" y="518400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2"/>
            <p:cNvSpPr/>
            <p:nvPr/>
          </p:nvSpPr>
          <p:spPr>
            <a:xfrm>
              <a:off x="2799360" y="62438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1"/>
            <p:cNvSpPr/>
            <p:nvPr/>
          </p:nvSpPr>
          <p:spPr>
            <a:xfrm>
              <a:off x="4394520" y="62438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4974840" y="62438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9"/>
            <p:cNvSpPr/>
            <p:nvPr/>
          </p:nvSpPr>
          <p:spPr>
            <a:xfrm>
              <a:off x="6570000" y="6016680"/>
              <a:ext cx="289800" cy="212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8"/>
            <p:cNvSpPr/>
            <p:nvPr/>
          </p:nvSpPr>
          <p:spPr>
            <a:xfrm>
              <a:off x="6497280" y="62438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7"/>
            <p:cNvSpPr/>
            <p:nvPr/>
          </p:nvSpPr>
          <p:spPr>
            <a:xfrm>
              <a:off x="3573000" y="6031080"/>
              <a:ext cx="289800" cy="2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6"/>
            <p:cNvSpPr/>
            <p:nvPr/>
          </p:nvSpPr>
          <p:spPr>
            <a:xfrm>
              <a:off x="3439800" y="626436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5"/>
            <p:cNvSpPr/>
            <p:nvPr/>
          </p:nvSpPr>
          <p:spPr>
            <a:xfrm>
              <a:off x="5337360" y="339228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4"/>
            <p:cNvSpPr/>
            <p:nvPr/>
          </p:nvSpPr>
          <p:spPr>
            <a:xfrm>
              <a:off x="4188960" y="560556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6340320" y="560556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2"/>
            <p:cNvSpPr/>
            <p:nvPr/>
          </p:nvSpPr>
          <p:spPr>
            <a:xfrm>
              <a:off x="2654640" y="560556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1"/>
            <p:cNvSpPr/>
            <p:nvPr/>
          </p:nvSpPr>
          <p:spPr>
            <a:xfrm>
              <a:off x="2738880" y="454176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0"/>
            <p:cNvSpPr/>
            <p:nvPr/>
          </p:nvSpPr>
          <p:spPr>
            <a:xfrm>
              <a:off x="2751120" y="339228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9"/>
            <p:cNvSpPr/>
            <p:nvPr/>
          </p:nvSpPr>
          <p:spPr>
            <a:xfrm>
              <a:off x="2158920" y="3519000"/>
              <a:ext cx="5936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8"/>
            <p:cNvSpPr/>
            <p:nvPr/>
          </p:nvSpPr>
          <p:spPr>
            <a:xfrm>
              <a:off x="2147040" y="4648320"/>
              <a:ext cx="59364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2074320" y="5732280"/>
              <a:ext cx="5936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6"/>
            <p:cNvSpPr/>
            <p:nvPr/>
          </p:nvSpPr>
          <p:spPr>
            <a:xfrm>
              <a:off x="3234600" y="390348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5844600" y="390348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3234600" y="505944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3"/>
            <p:cNvSpPr/>
            <p:nvPr/>
          </p:nvSpPr>
          <p:spPr>
            <a:xfrm>
              <a:off x="3137760" y="613728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2"/>
            <p:cNvSpPr/>
            <p:nvPr/>
          </p:nvSpPr>
          <p:spPr>
            <a:xfrm>
              <a:off x="4684680" y="6137280"/>
              <a:ext cx="4348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>
              <a:off x="3089520" y="366012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5699880" y="365004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3089520" y="480564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>
              <a:off x="3016800" y="586944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7"/>
            <p:cNvSpPr/>
            <p:nvPr/>
          </p:nvSpPr>
          <p:spPr>
            <a:xfrm>
              <a:off x="4539600" y="585900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6714720" y="585900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>
              <a:off x="3500280" y="3539520"/>
              <a:ext cx="18406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>
              <a:off x="3379680" y="5711760"/>
              <a:ext cx="82620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4938480" y="5742360"/>
              <a:ext cx="139752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3488400" y="4648320"/>
              <a:ext cx="184068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5361120" y="4521600"/>
              <a:ext cx="725040" cy="2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"/>
            <p:cNvSpPr/>
            <p:nvPr/>
          </p:nvSpPr>
          <p:spPr>
            <a:xfrm>
              <a:off x="5724000" y="4809960"/>
              <a:ext cx="720" cy="14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578920" y="4967280"/>
              <a:ext cx="289800" cy="212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5905080" y="507348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6340320" y="4967280"/>
              <a:ext cx="289800" cy="21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6654600" y="5073480"/>
              <a:ext cx="43488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>
              <a:off x="7077240" y="4967280"/>
              <a:ext cx="289800" cy="21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"/>
            <p:cNvSpPr/>
            <p:nvPr/>
          </p:nvSpPr>
          <p:spPr>
            <a:xfrm>
              <a:off x="5409720" y="52862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"/>
            <p:cNvSpPr/>
            <p:nvPr/>
          </p:nvSpPr>
          <p:spPr>
            <a:xfrm>
              <a:off x="6279840" y="52862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"/>
            <p:cNvSpPr/>
            <p:nvPr/>
          </p:nvSpPr>
          <p:spPr>
            <a:xfrm>
              <a:off x="7004880" y="5255640"/>
              <a:ext cx="434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275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Graph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79963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-based protocols are an alternative to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tial ordering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f all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ny transaction accessing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ccess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acc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that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now be viewed as a directed acyclic graph,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4105440" y="3114720"/>
            <a:ext cx="3713040" cy="3375000"/>
          </a:xfrm>
          <a:prstGeom prst="rect">
            <a:avLst/>
          </a:prstGeom>
          <a:ln w="0">
            <a:noFill/>
          </a:ln>
        </p:spPr>
      </p:pic>
      <p:cxnSp>
        <p:nvCxnSpPr>
          <p:cNvPr id="273" name="直接箭头连接符 2"/>
          <p:cNvCxnSpPr/>
          <p:nvPr/>
        </p:nvCxnSpPr>
        <p:spPr>
          <a:xfrm flipH="1">
            <a:off x="7136640" y="4046040"/>
            <a:ext cx="273960" cy="2264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4" name="直接箭头连接符 6"/>
          <p:cNvCxnSpPr/>
          <p:nvPr/>
        </p:nvCxnSpPr>
        <p:spPr>
          <a:xfrm flipH="1">
            <a:off x="6462720" y="4576680"/>
            <a:ext cx="273240" cy="226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5" name="直接箭头连接符 9"/>
          <p:cNvCxnSpPr/>
          <p:nvPr/>
        </p:nvCxnSpPr>
        <p:spPr>
          <a:xfrm>
            <a:off x="4482720" y="5603400"/>
            <a:ext cx="793080" cy="5612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6" name="直接箭头连接符 12"/>
          <p:cNvCxnSpPr/>
          <p:nvPr/>
        </p:nvCxnSpPr>
        <p:spPr>
          <a:xfrm flipH="1">
            <a:off x="7110000" y="4132080"/>
            <a:ext cx="511920" cy="12243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7" name="直接箭头连接符 17"/>
          <p:cNvCxnSpPr/>
          <p:nvPr/>
        </p:nvCxnSpPr>
        <p:spPr>
          <a:xfrm flipH="1">
            <a:off x="5819040" y="5149440"/>
            <a:ext cx="399240" cy="108180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56800" y="11268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re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77440" y="1564920"/>
            <a:ext cx="772812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ly exclusive loc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rst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on any data item. Subsequently, a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may b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lo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ny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 item that has been locked and un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nnot subsequently be re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5648400" y="3189240"/>
            <a:ext cx="3713040" cy="3375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1"/>
          <p:cNvSpPr/>
          <p:nvPr/>
        </p:nvSpPr>
        <p:spPr>
          <a:xfrm>
            <a:off x="1132920" y="1079640"/>
            <a:ext cx="57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ee-protocol is a simple kind of graph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6519960" y="6168960"/>
            <a:ext cx="3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2"/>
          <p:cNvSpPr/>
          <p:nvPr/>
        </p:nvSpPr>
        <p:spPr>
          <a:xfrm>
            <a:off x="5959440" y="4707000"/>
            <a:ext cx="3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3"/>
          <p:cNvSpPr/>
          <p:nvPr/>
        </p:nvSpPr>
        <p:spPr>
          <a:xfrm>
            <a:off x="6580080" y="5326200"/>
            <a:ext cx="3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4"/>
          <p:cNvSpPr/>
          <p:nvPr/>
        </p:nvSpPr>
        <p:spPr>
          <a:xfrm>
            <a:off x="5342040" y="5286240"/>
            <a:ext cx="3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37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Graph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66520" y="1079280"/>
            <a:ext cx="7848360" cy="54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tree protocol ensures conflict serializability as well as freedom from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occ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rli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ree-locking protocol than in the two-phase lock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waiting times, and increase in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adlock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ollback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do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guarantee recover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ascade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ntroduce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mit dependenc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recove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may have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ck more data i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locking overhead, and additional wai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decrease in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s not possible under two-phase locking are possible under tree protocol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251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ple Granularity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MS PGothic"/>
              </a:rPr>
              <a:t>多粒度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9048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 data items to be of various sizes and defin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erarchy of data granula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the small granularities are nested within larg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epresented graphically as a tree (but don't confuse with tree-locking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locks a node in the t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all the node's descendents in the sam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nularity of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in tree where locking is do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e granular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细粒度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er in tree): high concurrency, high locking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arse granular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粗粒度）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er in tree): low locking overhead, low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195480" y="614160"/>
            <a:ext cx="10769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Example of Granularity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36440" y="158076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s, starting from the coarsest (top) leve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1"/>
          <a:stretch/>
        </p:blipFill>
        <p:spPr>
          <a:xfrm>
            <a:off x="814320" y="1047600"/>
            <a:ext cx="7875720" cy="36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51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Intention Lock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9647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S and X lock modes, there are three additional lock modes with multiple granula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ntention-share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(I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explicit locking at a lower level of the tree but only with shared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ntention-exclusive (IX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explicit locking at a lower level with exclusive or shared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hared and intention-exclusive (SIX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tree rooted by that node is locked explicitly in shared mode and explicit locking is being done at a lower level with exclusive-mod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 locks allow a higher level node to be locked in S or X mode without having to check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endent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0560" y="119016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mechanism to control concurrent access to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can be locked in two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exclusive (X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be both read as well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. X-lock is 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hared (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only be read. S-lock 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requests are made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currency-control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ransaction can proceed only after request is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82560" y="453960"/>
            <a:ext cx="59342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PGothic"/>
              </a:rPr>
              <a:t>Compatibility Matrix with Intention Lock Mod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09520" y="1375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atibility matrix for all lock mode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02" descr=""/>
          <p:cNvPicPr/>
          <p:nvPr/>
        </p:nvPicPr>
        <p:blipFill>
          <a:blip r:embed="rId1"/>
          <a:stretch/>
        </p:blipFill>
        <p:spPr>
          <a:xfrm>
            <a:off x="873000" y="2219400"/>
            <a:ext cx="81392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313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ple Granularity Locking Schem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5480" y="1182600"/>
            <a:ext cx="801396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llowi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compatibility matrix must b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e tree must be locked first, and may be locked in an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S or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X or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X, SIX, or I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X or SI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only if it has not previously unlocked any node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wo-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none of the childre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locks are acquired in root-to-leaf order, whereas they are released in leaf-to-roo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Lock granularity esca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case there are too many locks at a particular level, switch to higher granularity S or X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9060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An Example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MS PGothic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of Multiple Granularity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tretch/>
        </p:blipFill>
        <p:spPr>
          <a:xfrm>
            <a:off x="2409840" y="1760400"/>
            <a:ext cx="7875720" cy="3611880"/>
          </a:xfrm>
          <a:prstGeom prst="rect">
            <a:avLst/>
          </a:prstGeom>
          <a:ln w="0">
            <a:noFill/>
          </a:ln>
        </p:spPr>
      </p:pic>
      <p:sp>
        <p:nvSpPr>
          <p:cNvPr id="302" name="文本框 1"/>
          <p:cNvSpPr/>
          <p:nvPr/>
        </p:nvSpPr>
        <p:spPr>
          <a:xfrm>
            <a:off x="6694560" y="4986360"/>
            <a:ext cx="5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5"/>
          <p:cNvSpPr/>
          <p:nvPr/>
        </p:nvSpPr>
        <p:spPr>
          <a:xfrm>
            <a:off x="7332840" y="17906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10"/>
          <p:cNvSpPr/>
          <p:nvPr/>
        </p:nvSpPr>
        <p:spPr>
          <a:xfrm>
            <a:off x="5977080" y="383868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1"/>
          <p:cNvSpPr/>
          <p:nvPr/>
        </p:nvSpPr>
        <p:spPr>
          <a:xfrm>
            <a:off x="5977080" y="26906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4"/>
          <p:cNvSpPr/>
          <p:nvPr/>
        </p:nvSpPr>
        <p:spPr>
          <a:xfrm>
            <a:off x="2965320" y="3849840"/>
            <a:ext cx="5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S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4179960" y="496728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"/>
          <p:cNvSpPr/>
          <p:nvPr/>
        </p:nvSpPr>
        <p:spPr>
          <a:xfrm>
            <a:off x="2308320" y="5708520"/>
            <a:ext cx="6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3127320" y="57434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9"/>
          <p:cNvSpPr/>
          <p:nvPr/>
        </p:nvSpPr>
        <p:spPr>
          <a:xfrm>
            <a:off x="4451400" y="5743440"/>
            <a:ext cx="7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0"/>
          <p:cNvSpPr/>
          <p:nvPr/>
        </p:nvSpPr>
        <p:spPr>
          <a:xfrm>
            <a:off x="6980400" y="574344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直接箭头连接符 17"/>
          <p:cNvCxnSpPr/>
          <p:nvPr/>
        </p:nvCxnSpPr>
        <p:spPr>
          <a:xfrm flipV="1">
            <a:off x="2637000" y="5362200"/>
            <a:ext cx="3600" cy="37224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13" name="直接箭头连接符 23"/>
          <p:cNvCxnSpPr/>
          <p:nvPr/>
        </p:nvCxnSpPr>
        <p:spPr>
          <a:xfrm flipV="1">
            <a:off x="3452400" y="5371560"/>
            <a:ext cx="3960" cy="37188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14" name="直接箭头连接符 24"/>
          <p:cNvCxnSpPr/>
          <p:nvPr/>
        </p:nvCxnSpPr>
        <p:spPr>
          <a:xfrm flipV="1">
            <a:off x="4751280" y="5389200"/>
            <a:ext cx="5760" cy="37224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15" name="直接箭头连接符 25"/>
          <p:cNvCxnSpPr/>
          <p:nvPr/>
        </p:nvCxnSpPr>
        <p:spPr>
          <a:xfrm flipV="1">
            <a:off x="7297200" y="5379840"/>
            <a:ext cx="3960" cy="37368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Concurrency Control Schem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10079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 keep old versions of data item to increase concur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reation of a new vers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stamps to label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issued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ect an appropriate v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timestamp of the transaction, and return the value of the selected ver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d only transactions never have to 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appropriate version is returned immediately for every read operati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4208400" y="3929040"/>
            <a:ext cx="3362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&lt;Q1, 1&gt; ,  &lt;Q2, 2&gt; ,  &lt;Q3,  3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wo-Phase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23840" y="1163160"/>
            <a:ext cx="1017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s betwee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ad-only trans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pda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TRANSACTIOIN READ ON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TRANSACTION READ WR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Update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read and writ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all locks up to the end of the transaction. That is , follo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igorous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ersion of a data item has a single timestamp whose value is obtained from a co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incremented during commit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ad-only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 a timestamp by reading the current value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they start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ead-only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read(Q), the value returned is the contents of the version whose timestamp is the largest timestamp less than or equal to TS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wo-Phase Loc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23480" y="1206360"/>
            <a:ext cx="96109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hen a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update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ants to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a data i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 loc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t, and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ads the latest v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hen a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update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ants to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X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; it the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eates a new vers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item and sets this version's timestamp to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he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update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completes,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commit 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sets timestamp on the versions it has created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s-counter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lock all locks it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"/>
          <p:cNvSpPr/>
          <p:nvPr/>
        </p:nvSpPr>
        <p:spPr>
          <a:xfrm>
            <a:off x="6421320" y="1955880"/>
            <a:ext cx="3362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&lt;Q1, 1&gt; ,  &lt;Q2, 2&gt; ,  &lt;Q3,  3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4"/>
          <p:cNvSpPr/>
          <p:nvPr/>
        </p:nvSpPr>
        <p:spPr>
          <a:xfrm>
            <a:off x="4951440" y="1955880"/>
            <a:ext cx="10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1) S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5"/>
          <p:cNvSpPr/>
          <p:nvPr/>
        </p:nvSpPr>
        <p:spPr>
          <a:xfrm>
            <a:off x="4951440" y="237960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2) Read  the latest ver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接箭头连接符 7"/>
          <p:cNvCxnSpPr/>
          <p:nvPr/>
        </p:nvCxnSpPr>
        <p:spPr>
          <a:xfrm>
            <a:off x="6021000" y="2125440"/>
            <a:ext cx="400680" cy="108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27" name="直接箭头连接符 9"/>
          <p:cNvCxnSpPr/>
          <p:nvPr/>
        </p:nvCxnSpPr>
        <p:spPr>
          <a:xfrm flipV="1">
            <a:off x="7526160" y="2223360"/>
            <a:ext cx="1393200" cy="3387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328" name="文本框 17"/>
          <p:cNvSpPr/>
          <p:nvPr/>
        </p:nvSpPr>
        <p:spPr>
          <a:xfrm>
            <a:off x="6450120" y="3568680"/>
            <a:ext cx="4340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&lt;Q1, 1&gt; ,  &lt;Q2, 2&gt; ,  &lt;Q3,  3&gt;, &lt;Q4 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8"/>
          <p:cNvSpPr/>
          <p:nvPr/>
        </p:nvSpPr>
        <p:spPr>
          <a:xfrm>
            <a:off x="4979880" y="356868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1) X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9"/>
          <p:cNvSpPr/>
          <p:nvPr/>
        </p:nvSpPr>
        <p:spPr>
          <a:xfrm>
            <a:off x="4979880" y="39924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2) Create a new version (ts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箭头连接符 20"/>
          <p:cNvCxnSpPr/>
          <p:nvPr/>
        </p:nvCxnSpPr>
        <p:spPr>
          <a:xfrm>
            <a:off x="6048360" y="3738240"/>
            <a:ext cx="402480" cy="108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32" name="直接箭头连接符 21"/>
          <p:cNvCxnSpPr/>
          <p:nvPr/>
        </p:nvCxnSpPr>
        <p:spPr>
          <a:xfrm flipV="1">
            <a:off x="8173800" y="3836160"/>
            <a:ext cx="1716840" cy="3279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333" name="文本框 26"/>
          <p:cNvSpPr/>
          <p:nvPr/>
        </p:nvSpPr>
        <p:spPr>
          <a:xfrm>
            <a:off x="6450120" y="5405400"/>
            <a:ext cx="4340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&lt;Q1, 1&gt; ,  &lt;Q2, 2&gt; ,  &lt;Q3, 3&gt;, &lt;Q4 , 4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8"/>
          <p:cNvSpPr/>
          <p:nvPr/>
        </p:nvSpPr>
        <p:spPr>
          <a:xfrm>
            <a:off x="4979880" y="5816520"/>
            <a:ext cx="37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1) Sets timestamp of created ver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直接箭头连接符 30"/>
          <p:cNvCxnSpPr/>
          <p:nvPr/>
        </p:nvCxnSpPr>
        <p:spPr>
          <a:xfrm flipV="1">
            <a:off x="8637120" y="5663520"/>
            <a:ext cx="1569240" cy="3229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336" name="文本框 35"/>
          <p:cNvSpPr/>
          <p:nvPr/>
        </p:nvSpPr>
        <p:spPr>
          <a:xfrm>
            <a:off x="4979880" y="6151680"/>
            <a:ext cx="37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2) Increments ts-counter +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7935840" y="6211800"/>
            <a:ext cx="573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7"/>
          <p:cNvSpPr/>
          <p:nvPr/>
        </p:nvSpPr>
        <p:spPr>
          <a:xfrm>
            <a:off x="8934480" y="6226200"/>
            <a:ext cx="573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直接箭头连接符 38"/>
          <p:cNvCxnSpPr/>
          <p:nvPr/>
        </p:nvCxnSpPr>
        <p:spPr>
          <a:xfrm>
            <a:off x="8537400" y="6401880"/>
            <a:ext cx="401040" cy="108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wo-Phase Loc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23840" y="1149480"/>
            <a:ext cx="834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hen a read-only transactio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i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 issues a read(Q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e value returned is the contents of the version whose timestamp is the largest timestamp less than or equal to TS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nly serializable schedules are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"/>
          <p:cNvSpPr/>
          <p:nvPr/>
        </p:nvSpPr>
        <p:spPr>
          <a:xfrm>
            <a:off x="4124160" y="4222800"/>
            <a:ext cx="433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&lt;D1, 1&gt; ,                   &lt;D3,  3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6473880" y="323676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0"/>
          <p:cNvSpPr/>
          <p:nvPr/>
        </p:nvSpPr>
        <p:spPr>
          <a:xfrm>
            <a:off x="7478640" y="323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1"/>
          <p:cNvSpPr/>
          <p:nvPr/>
        </p:nvSpPr>
        <p:spPr>
          <a:xfrm>
            <a:off x="4124160" y="2251080"/>
            <a:ext cx="433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&lt;Q1, 1&gt; ,  &lt;Q2, 2&gt; ,  &lt;Q3,  3&gt;  , &lt;Q4, 4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直接箭头连接符 15"/>
          <p:cNvCxnSpPr/>
          <p:nvPr/>
        </p:nvCxnSpPr>
        <p:spPr>
          <a:xfrm flipV="1">
            <a:off x="6678360" y="2518560"/>
            <a:ext cx="1080" cy="6483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47" name="直接箭头连接符 19"/>
          <p:cNvCxnSpPr/>
          <p:nvPr/>
        </p:nvCxnSpPr>
        <p:spPr>
          <a:xfrm flipV="1">
            <a:off x="7710120" y="2532960"/>
            <a:ext cx="1080" cy="6469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48" name="直接箭头连接符 18"/>
          <p:cNvCxnSpPr/>
          <p:nvPr/>
        </p:nvCxnSpPr>
        <p:spPr>
          <a:xfrm>
            <a:off x="6678360" y="3574800"/>
            <a:ext cx="1080" cy="73260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49" name="直接箭头连接符 23"/>
          <p:cNvCxnSpPr>
            <a:stCxn id="344" idx="2"/>
          </p:cNvCxnSpPr>
          <p:nvPr/>
        </p:nvCxnSpPr>
        <p:spPr>
          <a:xfrm flipH="1">
            <a:off x="6803640" y="3574800"/>
            <a:ext cx="907200" cy="73260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VCC: Implementatio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85400" y="1093320"/>
            <a:ext cx="10215720" cy="27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multiple versions increases storag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pace in each tuple for storing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olete versions should be garbage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he youngest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mong all versions whose timestamp is less than or equal to the timestamp of the oldest read-only transaction in the system, all other versions older than the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"/>
          <p:cNvSpPr/>
          <p:nvPr/>
        </p:nvSpPr>
        <p:spPr>
          <a:xfrm>
            <a:off x="4373640" y="5791320"/>
            <a:ext cx="4340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D1, 1&gt; ,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3,  3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"/>
          <p:cNvSpPr/>
          <p:nvPr/>
        </p:nvSpPr>
        <p:spPr>
          <a:xfrm>
            <a:off x="7729560" y="480528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6"/>
          <p:cNvSpPr/>
          <p:nvPr/>
        </p:nvSpPr>
        <p:spPr>
          <a:xfrm>
            <a:off x="4373640" y="3819600"/>
            <a:ext cx="4340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&lt;Q1, 1&gt; ,  &lt;Q2, 2&gt; ,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&lt;Q3,  3&gt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lt;Q4, 4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直接箭头连接符 8"/>
          <p:cNvCxnSpPr/>
          <p:nvPr/>
        </p:nvCxnSpPr>
        <p:spPr>
          <a:xfrm flipV="1">
            <a:off x="7961040" y="4101840"/>
            <a:ext cx="1080" cy="6465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56" name="直接箭头连接符 10"/>
          <p:cNvCxnSpPr>
            <a:stCxn id="353" idx="2"/>
          </p:cNvCxnSpPr>
          <p:nvPr/>
        </p:nvCxnSpPr>
        <p:spPr>
          <a:xfrm flipH="1">
            <a:off x="7054560" y="5143680"/>
            <a:ext cx="907200" cy="73224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357" name="文本框 11"/>
          <p:cNvSpPr/>
          <p:nvPr/>
        </p:nvSpPr>
        <p:spPr>
          <a:xfrm>
            <a:off x="8404200" y="48052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直接箭头连接符 12"/>
          <p:cNvCxnSpPr>
            <a:stCxn id="357" idx="0"/>
          </p:cNvCxnSpPr>
          <p:nvPr/>
        </p:nvCxnSpPr>
        <p:spPr>
          <a:xfrm flipH="1" flipV="1">
            <a:off x="8213040" y="4070160"/>
            <a:ext cx="423000" cy="7351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</p:cxnSp>
      <p:cxnSp>
        <p:nvCxnSpPr>
          <p:cNvPr id="359" name="直接箭头连接符 14"/>
          <p:cNvCxnSpPr>
            <a:stCxn id="357" idx="0"/>
          </p:cNvCxnSpPr>
          <p:nvPr/>
        </p:nvCxnSpPr>
        <p:spPr>
          <a:xfrm flipH="1">
            <a:off x="7440120" y="5116680"/>
            <a:ext cx="1091520" cy="7862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</p:cxnSp>
      <p:sp>
        <p:nvSpPr>
          <p:cNvPr id="360" name="直接连接符 19"/>
          <p:cNvSpPr/>
          <p:nvPr/>
        </p:nvSpPr>
        <p:spPr>
          <a:xfrm flipV="1">
            <a:off x="4700520" y="4267080"/>
            <a:ext cx="2627280" cy="12960"/>
          </a:xfrm>
          <a:prstGeom prst="line">
            <a:avLst/>
          </a:prstGeom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23"/>
          <p:cNvSpPr/>
          <p:nvPr/>
        </p:nvSpPr>
        <p:spPr>
          <a:xfrm flipV="1">
            <a:off x="4754520" y="5681160"/>
            <a:ext cx="700200" cy="3240"/>
          </a:xfrm>
          <a:prstGeom prst="line">
            <a:avLst/>
          </a:prstGeom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4"/>
          <p:cNvSpPr/>
          <p:nvPr/>
        </p:nvSpPr>
        <p:spPr>
          <a:xfrm>
            <a:off x="4689360" y="4756320"/>
            <a:ext cx="11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直接箭头连接符 26"/>
          <p:cNvCxnSpPr>
            <a:stCxn id="357" idx="0"/>
          </p:cNvCxnSpPr>
          <p:nvPr/>
        </p:nvCxnSpPr>
        <p:spPr>
          <a:xfrm flipH="1" flipV="1">
            <a:off x="5126760" y="4425480"/>
            <a:ext cx="1080" cy="331200"/>
          </a:xfrm>
          <a:prstGeom prst="straightConnector1">
            <a:avLst/>
          </a:prstGeom>
          <a:ln w="38160">
            <a:solidFill>
              <a:srgbClr val="000099"/>
            </a:solidFill>
            <a:round/>
            <a:tailEnd len="med" type="triangle" w="med"/>
          </a:ln>
        </p:spPr>
      </p:cxnSp>
      <p:cxnSp>
        <p:nvCxnSpPr>
          <p:cNvPr id="364" name="直接箭头连接符 28"/>
          <p:cNvCxnSpPr>
            <a:stCxn id="357" idx="0"/>
          </p:cNvCxnSpPr>
          <p:nvPr/>
        </p:nvCxnSpPr>
        <p:spPr>
          <a:xfrm>
            <a:off x="5127120" y="5116320"/>
            <a:ext cx="1080" cy="392760"/>
          </a:xfrm>
          <a:prstGeom prst="straightConnector1">
            <a:avLst/>
          </a:prstGeom>
          <a:ln w="28440">
            <a:solidFill>
              <a:srgbClr val="000099"/>
            </a:solidFill>
            <a:round/>
            <a:tailEnd len="med" type="triangle" w="med"/>
          </a:ln>
        </p:spPr>
      </p:cxn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022120" y="28666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349000" y="1079640"/>
            <a:ext cx="836316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is issued a timestamp when it enters the system. If an old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new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manages concurrent execution such that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estamps determine the serializability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assure such behavior, the protocol maintains for each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imestamp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702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66520" y="114948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compatibil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granted a lock on an item if the requested lock is compatible with locks already held on the item by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of transactions can hol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ared loc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any transaction hold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item no other transaction may hold any lock on the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k cannot be granted, the requesting transaction is made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ll all incompatible locks held by other transactions have been released.  The lock is th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"/>
          <p:cNvPicPr/>
          <p:nvPr/>
        </p:nvPicPr>
        <p:blipFill>
          <a:blip r:embed="rId1"/>
          <a:stretch/>
        </p:blipFill>
        <p:spPr>
          <a:xfrm>
            <a:off x="4211640" y="1465200"/>
            <a:ext cx="23684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76120" y="3139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49360" y="1079640"/>
            <a:ext cx="7661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protocol ensures that any conflic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are executed in timestamp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ad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hat was already over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338200" y="1093320"/>
            <a:ext cx="766116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ducing was needed previously, and the system assumed that that value would never be produ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76120" y="139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Example Use of th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451240" y="1085760"/>
            <a:ext cx="67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A partial schedule for several data items for transactions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timestamps 1, 2, 3, 4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3313080" y="2095560"/>
            <a:ext cx="4981680" cy="3717720"/>
          </a:xfrm>
          <a:prstGeom prst="rect">
            <a:avLst/>
          </a:prstGeom>
          <a:ln w="0">
            <a:noFill/>
          </a:ln>
        </p:spPr>
      </p:pic>
      <p:cxnSp>
        <p:nvCxnSpPr>
          <p:cNvPr id="375" name="直接箭头连接符 2"/>
          <p:cNvCxnSpPr/>
          <p:nvPr/>
        </p:nvCxnSpPr>
        <p:spPr>
          <a:xfrm flipH="1" flipV="1">
            <a:off x="4947480" y="2878200"/>
            <a:ext cx="384840" cy="295560"/>
          </a:xfrm>
          <a:prstGeom prst="straightConnector1">
            <a:avLst/>
          </a:prstGeom>
          <a:ln w="936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76" name="直接箭头连接符 7"/>
          <p:cNvCxnSpPr/>
          <p:nvPr/>
        </p:nvCxnSpPr>
        <p:spPr>
          <a:xfrm flipH="1" flipV="1">
            <a:off x="6114960" y="3524040"/>
            <a:ext cx="1207080" cy="227520"/>
          </a:xfrm>
          <a:prstGeom prst="straightConnector1">
            <a:avLst/>
          </a:prstGeom>
          <a:ln w="9360">
            <a:solidFill>
              <a:srgbClr val="00b050"/>
            </a:solidFill>
            <a:round/>
            <a:tailEnd len="med" type="triangle" w="med"/>
          </a:ln>
        </p:spPr>
      </p:cxnSp>
      <p:sp>
        <p:nvSpPr>
          <p:cNvPr id="377" name="文本框 8"/>
          <p:cNvSpPr/>
          <p:nvPr/>
        </p:nvSpPr>
        <p:spPr>
          <a:xfrm>
            <a:off x="6662880" y="3354480"/>
            <a:ext cx="3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Arial"/>
                <a:ea typeface="MS PGothic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直接箭头连接符 9"/>
          <p:cNvCxnSpPr/>
          <p:nvPr/>
        </p:nvCxnSpPr>
        <p:spPr>
          <a:xfrm flipV="1">
            <a:off x="5089680" y="3547440"/>
            <a:ext cx="289440" cy="4071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379" name="文本框 13"/>
          <p:cNvSpPr/>
          <p:nvPr/>
        </p:nvSpPr>
        <p:spPr>
          <a:xfrm>
            <a:off x="5046840" y="2766960"/>
            <a:ext cx="1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Arial"/>
                <a:ea typeface="MS PGothic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乘号 12"/>
          <p:cNvSpPr/>
          <p:nvPr/>
        </p:nvSpPr>
        <p:spPr>
          <a:xfrm>
            <a:off x="5046840" y="3603600"/>
            <a:ext cx="187200" cy="147600"/>
          </a:xfrm>
          <a:custGeom>
            <a:avLst/>
            <a:gdLst/>
            <a:ahLst/>
            <a:rect l="l" t="t" r="r" b="b"/>
            <a:pathLst>
              <a:path w="187325" h="147637">
                <a:moveTo>
                  <a:pt x="34243" y="49094"/>
                </a:moveTo>
                <a:lnTo>
                  <a:pt x="55737" y="21822"/>
                </a:lnTo>
                <a:lnTo>
                  <a:pt x="93662" y="51712"/>
                </a:lnTo>
                <a:lnTo>
                  <a:pt x="131587" y="21822"/>
                </a:lnTo>
                <a:lnTo>
                  <a:pt x="153081" y="49094"/>
                </a:lnTo>
                <a:lnTo>
                  <a:pt x="121711" y="73818"/>
                </a:lnTo>
                <a:lnTo>
                  <a:pt x="153081" y="98542"/>
                </a:lnTo>
                <a:lnTo>
                  <a:pt x="131587" y="125814"/>
                </a:lnTo>
                <a:lnTo>
                  <a:pt x="93662" y="95925"/>
                </a:lnTo>
                <a:lnTo>
                  <a:pt x="55737" y="125814"/>
                </a:lnTo>
                <a:lnTo>
                  <a:pt x="34243" y="98542"/>
                </a:lnTo>
                <a:lnTo>
                  <a:pt x="65613" y="7381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乘号 17"/>
          <p:cNvSpPr/>
          <p:nvPr/>
        </p:nvSpPr>
        <p:spPr>
          <a:xfrm>
            <a:off x="6094440" y="4695840"/>
            <a:ext cx="189000" cy="147600"/>
          </a:xfrm>
          <a:custGeom>
            <a:avLst/>
            <a:gdLst/>
            <a:ahLst/>
            <a:rect l="l" t="t" r="r" b="b"/>
            <a:pathLst>
              <a:path w="188912" h="147637">
                <a:moveTo>
                  <a:pt x="34680" y="49138"/>
                </a:moveTo>
                <a:lnTo>
                  <a:pt x="56063" y="21778"/>
                </a:lnTo>
                <a:lnTo>
                  <a:pt x="94456" y="51783"/>
                </a:lnTo>
                <a:lnTo>
                  <a:pt x="132849" y="21778"/>
                </a:lnTo>
                <a:lnTo>
                  <a:pt x="154231" y="49138"/>
                </a:lnTo>
                <a:lnTo>
                  <a:pt x="122652" y="73818"/>
                </a:lnTo>
                <a:lnTo>
                  <a:pt x="154231" y="98498"/>
                </a:lnTo>
                <a:lnTo>
                  <a:pt x="132849" y="125858"/>
                </a:lnTo>
                <a:lnTo>
                  <a:pt x="94456" y="95854"/>
                </a:lnTo>
                <a:lnTo>
                  <a:pt x="56063" y="125858"/>
                </a:lnTo>
                <a:lnTo>
                  <a:pt x="34680" y="98498"/>
                </a:lnTo>
                <a:lnTo>
                  <a:pt x="66260" y="7381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直接箭头连接符 18"/>
          <p:cNvCxnSpPr/>
          <p:nvPr/>
        </p:nvCxnSpPr>
        <p:spPr>
          <a:xfrm flipV="1">
            <a:off x="6114960" y="4819320"/>
            <a:ext cx="334080" cy="10224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PGothic"/>
              </a:rPr>
              <a:t>Correctness of Timestamp-Ordering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349000" y="1079640"/>
            <a:ext cx="741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estamp-orde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guarantees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erializ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all the arcs in the precedence graph are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re will be no cycles in the precedenc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protocol ensures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reedom from dead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no transaction ever wai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schedule may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ot be cascade-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ay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ot even b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3656160" y="1979640"/>
            <a:ext cx="494496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Recoverability and Cascade Freedo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8134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timestamp-order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s,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ad a data item written by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bort;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been allowed to commit earlier, the schedule is not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, any transaction that has read a data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lead to cascading rollback --- that is, a chain of ro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structured such that its writes are all performed at the end of it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rites of a transaction form an atomic action; no transaction may execute while a transaction is being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aborts is restarted with a new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Limited form of locking: wait for data to be committed before read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 Use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ommit dependenc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homas</a:t>
            </a:r>
            <a:r>
              <a:rPr b="1" lang="ja-JP" sz="3200" spc="-1" strike="noStrike">
                <a:solidFill>
                  <a:srgbClr val="cc3300"/>
                </a:solidFill>
                <a:latin typeface="Arial"/>
                <a:ea typeface="MS PGothic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 Write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 of the timestamp-ordering protocol in which obsole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may be ignored under certain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70c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ttempts to write data item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, if TS(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70c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70c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is attempting to write an obsolete value of {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}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ather than rolling back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70c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s the timestamp ordering protocol would have done, this {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} operation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is protocol is the same as the timestamp order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' Write Rule allows greater potential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some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iew-serializable sche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re not conflict-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88720" y="26269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Validation-Based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Validation-Based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349360" y="1079640"/>
            <a:ext cx="7988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one in three ph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ad and execu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only t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Valida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a ``validation test'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if local variables can be written without violating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rite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alidated, the updates are applied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; otherwis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e phases of concurrently executing transactions can be    interleaved, but each transaction must go through the three phases in tha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simplicity that the validation and write phase occur together, atomically and ser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only one transaction executes validation/write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mistic concurrency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ransaction executes fully in the hope that all will go well dur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Validation-Based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338200" y="1093680"/>
            <a:ext cx="766116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3 timest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i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ed its valid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 its writ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order is determined by timestamp given at validation time,  to increase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TS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given the value of 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is useful and gives greater degree of concurrency if probability of conflicts is 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serializability order is not pre-decid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few transactions will have t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Validation Test for Transaction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Arial"/>
                <a:ea typeface="MS PGothic"/>
              </a:rPr>
              <a:t>j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338200" y="1093680"/>
            <a:ext cx="7661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ither one of the following condition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data items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intersect with the set of data items rea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validation succeed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committed.  Otherwise, validation fail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ither the first condition is satisfied, and there is no overlapped execution, or the second condition is satisfi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hey occur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finished its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read  any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013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21960" y="988560"/>
            <a:ext cx="81154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transaction performing 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s above is not sufficient to guarantee serializability —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updated in-between the r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isplayed sum would b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king protoco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et of rules followed by all transactions while requesting and releasing 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protocol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force serializ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stricting the set of possi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chedule Produced by Valid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34936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schedule produced us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3" descr="15"/>
          <p:cNvPicPr/>
          <p:nvPr/>
        </p:nvPicPr>
        <p:blipFill>
          <a:blip r:embed="rId1"/>
          <a:stretch/>
        </p:blipFill>
        <p:spPr>
          <a:xfrm>
            <a:off x="4105440" y="1859040"/>
            <a:ext cx="294480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Schem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 keep old versions of data item to increase concur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imestamp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version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reation of a new vers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stamps to label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issued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ect an appropriate v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timestamp of the transaction, and return the value of the selected ver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never have to 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appropriate version is returned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imestamp Ord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sequence of versions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....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 Each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three data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value of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timestamp of the transaction that created (wrote)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largest timestamp of a transaction that successfully read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 new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-timestamp and R-timestamp are initialized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timestamp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pdated whenever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imestamp Ordering (Cont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49360" y="1079640"/>
            <a:ext cx="78868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. 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write timestamp is the largest write timestamp less than or equal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returned is the       content of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content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ver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a new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always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rite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jected if some oth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(in the serialization order defined by the timestamp values) should rea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rite, has already read a version created by a transaction old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guarantees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wo-Phase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4936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s between read-only transactions and upda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Update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quire read and write locks, and hold all locks up to the end of the transaction. That is, update transactions follow rigorous two-phase lo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ersion of a data item has a single timestamp whose value is obtained from a co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incremented during commit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ad-only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ssigned a timestamp by reading the current value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they start execution; they follow the multiversion timestamp-ordering protocol for performing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ultiversion Two-Phase Loc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34936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update transaction wants to read a data i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a shared lock on it, and reads the latest ver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wants to write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X lock on; it then creates a new version of the item and sets this version's timestamp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pdate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s, commit processing 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imestamp on the versions it has create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s upda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 before the updates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rializable schedules are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MVCC: Implementatio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multiple versions increases storag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pace in each tuple for storing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can, however, be garbage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f Q has two versions Q5 and Q9, and the oldest active transaction has timestamp &gt; 9, than Q5 will never be required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napshot Isolatio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36680" y="1093680"/>
            <a:ext cx="77630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: Decision support queries that read large amounts of data have concurrency conflicts with OLTP transactions that update a f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performanc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  Give logica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tabase state to read only transactions, read-write transactions use normal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2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well, but how does system know a transaction is read on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Give snapshot of database state to every transaction, updates alone use 2-phase locking to guard against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variety of anomalies such as lost update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solution: snapshot isolation level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by Berenson et al, SIGMOD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s implemented in many databas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racle, PostgreSQL, SQL Serv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58480" y="1093680"/>
            <a:ext cx="454212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 T1 executing with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snapshot of committed data at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reads/modifies data in its own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 of concurrent transactions are not visible to T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of T1 complete when it co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-committer-wins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only if no other concurrent transaction has already written data that T1 intends to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7061040" y="1144440"/>
          <a:ext cx="3289320" cy="4836960"/>
        </p:xfrm>
        <a:graphic>
          <a:graphicData uri="http://schemas.openxmlformats.org/drawingml/2006/table">
            <a:tbl>
              <a:tblPr/>
              <a:tblGrid>
                <a:gridCol w="1095480"/>
                <a:gridCol w="1252440"/>
                <a:gridCol w="941400"/>
              </a:tblGrid>
              <a:tr h="366120"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Y :=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X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Y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X:=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Z:=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040"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Z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Y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X:=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-R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30"/>
          <p:cNvSpPr/>
          <p:nvPr/>
        </p:nvSpPr>
        <p:spPr>
          <a:xfrm>
            <a:off x="3571560" y="5165640"/>
            <a:ext cx="336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Concurrent updates not 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Own updates are 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Not first-committer of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Serialization error, T2 is roll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1"/>
          <p:cNvSpPr/>
          <p:nvPr/>
        </p:nvSpPr>
        <p:spPr>
          <a:xfrm flipV="1">
            <a:off x="6883560" y="4533480"/>
            <a:ext cx="1295280" cy="787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2"/>
          <p:cNvSpPr/>
          <p:nvPr/>
        </p:nvSpPr>
        <p:spPr>
          <a:xfrm flipV="1">
            <a:off x="6883560" y="4813200"/>
            <a:ext cx="1307880" cy="749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3"/>
          <p:cNvSpPr/>
          <p:nvPr/>
        </p:nvSpPr>
        <p:spPr>
          <a:xfrm flipV="1">
            <a:off x="6883560" y="5143680"/>
            <a:ext cx="1295280" cy="660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4"/>
          <p:cNvSpPr/>
          <p:nvPr/>
        </p:nvSpPr>
        <p:spPr>
          <a:xfrm flipV="1">
            <a:off x="6896160" y="5842080"/>
            <a:ext cx="1295280" cy="203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29920" y="231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napshot Rea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2604960" y="1449360"/>
            <a:ext cx="7661520" cy="4903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4"/>
          <p:cNvSpPr/>
          <p:nvPr/>
        </p:nvSpPr>
        <p:spPr>
          <a:xfrm>
            <a:off x="2617920" y="865080"/>
            <a:ext cx="7661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current updates invisible to snapshot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566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is is a protocol which ensures conflict-seri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hase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: Grow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obtain 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release locks</a:t>
            </a:r>
            <a:r>
              <a:rPr b="0" lang="z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hase 2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Shrink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obtai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lock-S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lock-S(B);    </a:t>
            </a:r>
            <a:r>
              <a:rPr b="1" i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lock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nlock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(A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nlock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6926400" y="2211480"/>
            <a:ext cx="4289400" cy="2474640"/>
            <a:chOff x="6926400" y="2211480"/>
            <a:chExt cx="4289400" cy="2474640"/>
          </a:xfrm>
        </p:grpSpPr>
        <p:sp>
          <p:nvSpPr>
            <p:cNvPr id="98" name="Straight Connector 2"/>
            <p:cNvSpPr/>
            <p:nvPr/>
          </p:nvSpPr>
          <p:spPr>
            <a:xfrm flipV="1">
              <a:off x="7257960" y="2830680"/>
              <a:ext cx="1069560" cy="141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4"/>
            <p:cNvSpPr/>
            <p:nvPr/>
          </p:nvSpPr>
          <p:spPr>
            <a:xfrm>
              <a:off x="8327520" y="2831040"/>
              <a:ext cx="923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6"/>
            <p:cNvSpPr/>
            <p:nvPr/>
          </p:nvSpPr>
          <p:spPr>
            <a:xfrm>
              <a:off x="9250920" y="2831040"/>
              <a:ext cx="1429920" cy="1419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"/>
            <p:cNvSpPr/>
            <p:nvPr/>
          </p:nvSpPr>
          <p:spPr>
            <a:xfrm>
              <a:off x="7257960" y="2211480"/>
              <a:ext cx="0" cy="2038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10"/>
            <p:cNvSpPr/>
            <p:nvPr/>
          </p:nvSpPr>
          <p:spPr>
            <a:xfrm>
              <a:off x="7272360" y="4250160"/>
              <a:ext cx="3943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2"/>
            <p:cNvSpPr/>
            <p:nvPr/>
          </p:nvSpPr>
          <p:spPr>
            <a:xfrm>
              <a:off x="8527680" y="4348800"/>
              <a:ext cx="11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8"/>
            <p:cNvSpPr/>
            <p:nvPr/>
          </p:nvSpPr>
          <p:spPr>
            <a:xfrm rot="16200000">
              <a:off x="6458760" y="2891160"/>
              <a:ext cx="127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Lo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1"/>
          <p:cNvSpPr/>
          <p:nvPr/>
        </p:nvSpPr>
        <p:spPr>
          <a:xfrm>
            <a:off x="7351560" y="1762200"/>
            <a:ext cx="10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Grow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4"/>
          <p:cNvSpPr/>
          <p:nvPr/>
        </p:nvSpPr>
        <p:spPr>
          <a:xfrm>
            <a:off x="9794880" y="1757520"/>
            <a:ext cx="11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Shrink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5"/>
          <p:cNvSpPr/>
          <p:nvPr/>
        </p:nvSpPr>
        <p:spPr>
          <a:xfrm>
            <a:off x="8651880" y="1757520"/>
            <a:ext cx="101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lock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箭头连接符 3"/>
          <p:cNvCxnSpPr/>
          <p:nvPr/>
        </p:nvCxnSpPr>
        <p:spPr>
          <a:xfrm>
            <a:off x="7694280" y="2331720"/>
            <a:ext cx="254520" cy="1013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</p:cxnSp>
      <p:cxnSp>
        <p:nvCxnSpPr>
          <p:cNvPr id="109" name="直接箭头连接符 19"/>
          <p:cNvCxnSpPr/>
          <p:nvPr/>
        </p:nvCxnSpPr>
        <p:spPr>
          <a:xfrm flipH="1">
            <a:off x="9860760" y="2376000"/>
            <a:ext cx="413640" cy="1011960"/>
          </a:xfrm>
          <a:prstGeom prst="straightConnector1">
            <a:avLst/>
          </a:prstGeom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</p:cxnSp>
      <p:cxnSp>
        <p:nvCxnSpPr>
          <p:cNvPr id="110" name="直接箭头连接符 21"/>
          <p:cNvCxnSpPr/>
          <p:nvPr/>
        </p:nvCxnSpPr>
        <p:spPr>
          <a:xfrm flipH="1">
            <a:off x="8321400" y="2295360"/>
            <a:ext cx="498960" cy="5328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Write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First Committer W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04960" y="5322600"/>
            <a:ext cx="766152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12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nt: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rst-updater-win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for concurrent updates when write occurs by locking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612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lock should be held till all concurrent transactions have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racle uses this plus some extra fea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s only in when abort occurs, otherwise equival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824200" y="1062000"/>
            <a:ext cx="6907320" cy="42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Benefits of S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338200" y="1093680"/>
            <a:ext cx="76611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block other txn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similar to Read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the usual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t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o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n-repeatabl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ate based selects are repeatable (no phan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oes not always give 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le: among two concurrent txns, one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: neither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ntegrity constraints can be vio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f problem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: x: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: y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x = 3 and y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execution:  x = ??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transactions start at the same time, with snapshot isolation:  x = ?? 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kew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also occurs with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ax order number among all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order with order number = previous ma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napshot Isolation Anomal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breaks serializability when txns modif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, each based on a previous state of the item the other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very common in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the TPC-C benchmark runs correctly under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xns conflict due to modifying different data, there is usually also a shared item they both modify too (like a total quantity) so SI will abort one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oe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developers should be careful about write sk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can also cause a read-only transaction anomaly, where read-only transaction may see an inconsistent state even if updaters are 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omit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snapshots to verify primary/foreign key integrity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 checking usually done outside of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058480" y="1093320"/>
            <a:ext cx="8207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 used when isolation level is set to serializable, by Oracle,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 versions prior to 9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mplementation of SI (versions prior to 9.1) described in Section 26.4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implemen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updater wi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le (varian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mmitter wi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writer check is done at time of write, not at comm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ransactions to be rolled back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and PostgreSQL &lt; 9.1 do not support true serializabl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 9.1 introduced new protocol called “Serializable Snapshot Isolation” (S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uarantees true serializabilty including handling predicate reads (coming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058480" y="1093320"/>
            <a:ext cx="8207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destep SI for specific queries b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.. for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acle and Postgre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derno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value into local variable max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orders (maxorder+1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update (SFU) treats all data read by the query as if it were also updated, preventing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ensure serializability since phantom phenomena can occur (coming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stgreSQL versions &lt; 9.1, SFU locks the data item, but releases locks when the transaction completes, even if other concurrent transactions ar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quite same as SFU in Oracle, which keeps locks until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transactions hav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Insert and Delete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-phase locking is us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may be performed only if the transaction deleting the tuple has an exclusive lock on the tuple to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inserts a new tuple into the database is given an X-mode lock on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s and deletions can lead to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hantom phenome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cans a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find sum of balances of all accounts in Perryrid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transaction that inserts a tuple in the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nsert a new account at Perryri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eptually) conflict in spite of not accessing any tuple in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tuple locks are used, non-serializable schedules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he scan transaction does not see the new account, but reads some other tuple written by the updat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Insert  and Delete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349360" y="1079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scanning the relation is reading  information that indicates what tuples the relation contains, while a transaction inserting a tuple updates the sam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lict should be detected, e.g. by locking th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a data item with the relation, to represent the information about what tuples the relation co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scanning the relation acquire a shared lock in the data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inserting or deleting a tuple acquire an exclusive lock on the data item. (Note: locks on the data item do not conflict with locks on individual tupl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protocol provides very low concurrency for insertions/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s provide higher concurrency wh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ng the phantom phenomenon, by requiring lock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ertain index buck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Index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809280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relation must have at least one inde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can access tuples only after finding them through one or more indices on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performs a lookup must lock all the index leaf nodes that it accesses, in S-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the leaf node does not contain any tuple satisfying the index lookup (e.g. for a range query, no tuple in a leaf is in the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serts, updates or deletes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update all indic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obtain exclusive locks on all index leaf nodes affected by the insert/update/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of the two-phase locking protocol must be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s that phantom phenomenon 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Next-Key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locking protocol to prevent phantoms required locking entire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poor concurrency if there are many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: for an index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all values that satisfy index lookup (match lookup value, or fall in lookup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lock next key value i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ode: S for lookups, X for insert/delete/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s that range queries will conflict with inserts/deletes/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ich happens first, as long as both are 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474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3880" y="1293840"/>
            <a:ext cx="80928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Two-Phase Locking Protoco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 assures serializ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 can be proved that the transactions can be serialized in the order of thei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lock point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i.e. the point where a transaction acquired its final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0661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Concurrency in Index Stru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38160" y="11268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es are unlike other database items in that their only job is to help in ac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structures are typically accessed very often, much more than other database i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ing index-structures like other database items, e.g. by 2-phase locking of index nodes can lead to low concurrency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everal index concurrency protocols where locks on internal nodes are released early, and not in a two-phase fash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cceptable to have nonserializable concurrent access to an index as long as the accuracy of the index is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ticular, the exact values read in an internal node of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are irrelevant so long as we land up in the correct 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167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Concurrency in Index Structur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38160" y="1079640"/>
            <a:ext cx="7848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index concurrency protoc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abbing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two-phase locking on the nodes of the 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ee, as follows.  During search/insertion/dele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ock the root node in shared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locking all required children of a node in shared mode, release the lock on the n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insertion/deletion, upgrade leaf node locks to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splitting or coalescing requires changes to a parent, lock the parent in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protocol can cause excessive dead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es coming down the tree deadlock with updates going up the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bort and restart search, without affecting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protocols are available; see Section 16.9 for one such protocol, the B-link tre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uition: release lock on parent before acquiring lock on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deal with changes that may have happened between lock release and acqu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34936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gree-two 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s from two-phase locking in that S-locks may be released at any time, and locks may be acquired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must b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is not guaranteed, programmer must ensure that no erroneous database state will occu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sor st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ds, each tuple is locked, read, and lock is immediately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ar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of degree-two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Weak Levels of Consistency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34936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non-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only committed records to be read, and repeating a read should return the same value (so read locks should be reta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phantom phenomenon need not be prev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 may see some records inserted by T2, but may not see others inserted by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ame as degree two consistency, but most systems implement it as cursor-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even uncommitted data to b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ny database systems, read committed is the default consisten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explicitly changed to serializable whe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92480" y="274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s across User Inte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pplications need transaction support across use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use 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want to reserve database connection per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level concurrency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uple has a versio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notes version number when reading tu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.balance, r.vers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A, :vers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tId =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writing tuple, check that current version number is same as the version when tuple was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.balance = r.balance + :deposi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tId = 2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.version = :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lent to </a:t>
            </a: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optimistic concurrency control without validating read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ternally in Hibernate ORM system, and manually in many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numbering can also be used to support first committer wins check of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ke SI, reads are not guaranteed to be from a single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PGothic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Alan Fekete and Sudhir Jorwekar for Snapshot Isolation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2201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PL - Proof by Contradic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70120" y="1087560"/>
            <a:ext cx="770400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ecedence graph corresponding to a schedule of a set of transaction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2, ...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f there is  an arc from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hen 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lt; 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P : Lock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4"/>
          <p:cNvSpPr/>
          <p:nvPr/>
        </p:nvSpPr>
        <p:spPr>
          <a:xfrm>
            <a:off x="2301840" y="3551400"/>
            <a:ext cx="1066680" cy="1020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5"/>
          <p:cNvSpPr/>
          <p:nvPr/>
        </p:nvSpPr>
        <p:spPr>
          <a:xfrm>
            <a:off x="6005520" y="3581280"/>
            <a:ext cx="1066680" cy="1020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箭头连接符 9"/>
          <p:cNvCxnSpPr>
            <a:stCxn id="115" idx="6"/>
            <a:endCxn id="116" idx="2"/>
          </p:cNvCxnSpPr>
          <p:nvPr/>
        </p:nvCxnSpPr>
        <p:spPr>
          <a:xfrm>
            <a:off x="3368160" y="4062240"/>
            <a:ext cx="2637720" cy="306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8" name="矩形 11"/>
          <p:cNvSpPr/>
          <p:nvPr/>
        </p:nvSpPr>
        <p:spPr>
          <a:xfrm>
            <a:off x="3540240" y="3198960"/>
            <a:ext cx="22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 &lt; 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3994200" y="5456160"/>
            <a:ext cx="103644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4"/>
          <p:cNvCxnSpPr>
            <a:stCxn id="115" idx="4"/>
            <a:endCxn id="116" idx="2"/>
          </p:cNvCxnSpPr>
          <p:nvPr/>
        </p:nvCxnSpPr>
        <p:spPr>
          <a:xfrm>
            <a:off x="2835000" y="4572000"/>
            <a:ext cx="117396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21" name="直接箭头连接符 15"/>
          <p:cNvCxnSpPr>
            <a:stCxn id="115" idx="4"/>
            <a:endCxn id="116" idx="2"/>
          </p:cNvCxnSpPr>
          <p:nvPr/>
        </p:nvCxnSpPr>
        <p:spPr>
          <a:xfrm>
            <a:off x="3063600" y="4541760"/>
            <a:ext cx="120564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22" name="直接箭头连接符 17"/>
          <p:cNvCxnSpPr>
            <a:stCxn id="116" idx="3"/>
            <a:endCxn id="119" idx="0"/>
          </p:cNvCxnSpPr>
          <p:nvPr/>
        </p:nvCxnSpPr>
        <p:spPr>
          <a:xfrm flipH="1">
            <a:off x="4511160" y="4452480"/>
            <a:ext cx="1650240" cy="1003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23" name="直接箭头连接符 19"/>
          <p:cNvCxnSpPr>
            <a:stCxn id="116" idx="3"/>
            <a:endCxn id="119" idx="0"/>
          </p:cNvCxnSpPr>
          <p:nvPr/>
        </p:nvCxnSpPr>
        <p:spPr>
          <a:xfrm flipH="1">
            <a:off x="4816080" y="4618080"/>
            <a:ext cx="1418400" cy="82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sp>
        <p:nvSpPr>
          <p:cNvPr id="124" name="TextBox 26"/>
          <p:cNvSpPr/>
          <p:nvPr/>
        </p:nvSpPr>
        <p:spPr>
          <a:xfrm>
            <a:off x="2575080" y="51213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(1) lock(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4754520" y="4390920"/>
            <a:ext cx="13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(3) 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3209760" y="4379760"/>
            <a:ext cx="14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(2) un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5411880" y="5102280"/>
            <a:ext cx="14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(4) un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16"/>
          <p:cNvCxnSpPr>
            <a:stCxn id="116" idx="3"/>
            <a:endCxn id="119" idx="0"/>
          </p:cNvCxnSpPr>
          <p:nvPr/>
        </p:nvCxnSpPr>
        <p:spPr>
          <a:xfrm flipV="1">
            <a:off x="1917360" y="6136920"/>
            <a:ext cx="5034600" cy="1800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29" name="文本框 18"/>
          <p:cNvSpPr/>
          <p:nvPr/>
        </p:nvSpPr>
        <p:spPr>
          <a:xfrm>
            <a:off x="7072200" y="596736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91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PL  - Proof by Induction 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1160" y="1079280"/>
            <a:ext cx="7980480" cy="13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ransaction with minimum lock poi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n oper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other trans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blocks an oper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"/>
          <p:cNvSpPr/>
          <p:nvPr/>
        </p:nvSpPr>
        <p:spPr>
          <a:xfrm>
            <a:off x="2281320" y="2817720"/>
            <a:ext cx="868320" cy="830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5"/>
          <p:cNvSpPr/>
          <p:nvPr/>
        </p:nvSpPr>
        <p:spPr>
          <a:xfrm>
            <a:off x="5877000" y="2822400"/>
            <a:ext cx="838080" cy="800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3098880" y="5611680"/>
            <a:ext cx="32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 &lt; L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3774960" y="4532400"/>
            <a:ext cx="103680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接箭头连接符 14"/>
          <p:cNvCxnSpPr>
            <a:stCxn id="132" idx="4"/>
          </p:cNvCxnSpPr>
          <p:nvPr/>
        </p:nvCxnSpPr>
        <p:spPr>
          <a:xfrm>
            <a:off x="2714400" y="3648240"/>
            <a:ext cx="107532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37" name="直接箭头连接符 15"/>
          <p:cNvCxnSpPr>
            <a:stCxn id="132" idx="4"/>
          </p:cNvCxnSpPr>
          <p:nvPr/>
        </p:nvCxnSpPr>
        <p:spPr>
          <a:xfrm>
            <a:off x="2844360" y="3618000"/>
            <a:ext cx="109764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38" name="直接箭头连接符 17"/>
          <p:cNvCxnSpPr>
            <a:stCxn id="133" idx="3"/>
            <a:endCxn id="135" idx="0"/>
          </p:cNvCxnSpPr>
          <p:nvPr/>
        </p:nvCxnSpPr>
        <p:spPr>
          <a:xfrm flipH="1">
            <a:off x="4293720" y="3504960"/>
            <a:ext cx="1705680" cy="1027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cxnSp>
        <p:nvCxnSpPr>
          <p:cNvPr id="139" name="直接箭头连接符 19"/>
          <p:cNvCxnSpPr>
            <a:stCxn id="133" idx="3"/>
            <a:endCxn id="135" idx="0"/>
          </p:cNvCxnSpPr>
          <p:nvPr/>
        </p:nvCxnSpPr>
        <p:spPr>
          <a:xfrm flipH="1">
            <a:off x="4597200" y="3576240"/>
            <a:ext cx="1551600" cy="940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round/>
            <a:tailEnd len="med" type="arrow" w="med"/>
          </a:ln>
        </p:spPr>
      </p:cxnSp>
      <p:sp>
        <p:nvSpPr>
          <p:cNvPr id="140" name="TextBox 26"/>
          <p:cNvSpPr/>
          <p:nvPr/>
        </p:nvSpPr>
        <p:spPr>
          <a:xfrm>
            <a:off x="1936800" y="3952800"/>
            <a:ext cx="11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(1) 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7"/>
          <p:cNvSpPr/>
          <p:nvPr/>
        </p:nvSpPr>
        <p:spPr>
          <a:xfrm>
            <a:off x="4446720" y="357660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(3) 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3059280" y="35607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(2)un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5353200" y="3962520"/>
            <a:ext cx="138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(4) unlock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箭头连接符 4"/>
          <p:cNvCxnSpPr>
            <a:stCxn id="133" idx="3"/>
            <a:endCxn id="135" idx="0"/>
          </p:cNvCxnSpPr>
          <p:nvPr/>
        </p:nvCxnSpPr>
        <p:spPr>
          <a:xfrm flipV="1">
            <a:off x="1969560" y="5331600"/>
            <a:ext cx="5033160" cy="1836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45" name="文本框 5"/>
          <p:cNvSpPr/>
          <p:nvPr/>
        </p:nvSpPr>
        <p:spPr>
          <a:xfrm>
            <a:off x="7124760" y="516240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3:40:24Z</dcterms:created>
  <dc:creator>Silberschatz, Korth and Sudarshan</dc:creator>
  <dc:description/>
  <dc:language>en-US</dc:language>
  <cp:lastModifiedBy>qiu</cp:lastModifiedBy>
  <dcterms:modified xsi:type="dcterms:W3CDTF">2021-06-10T11:57:01Z</dcterms:modified>
  <cp:revision>429</cp:revision>
  <dc:subject/>
  <dc:title>Chapter 15: Concurrency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61</vt:lpwstr>
  </property>
</Properties>
</file>