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12193588" cy="6858000"/>
  <p:notesSz cx="6997700" cy="9283700"/>
  <p:custShowLst>
    <p:custShow name="Custom Show 1" id="0">
      <p:sldLst>
        <p:sld r:id="rId47"/>
        <p:sld r:id="rId46"/>
        <p:sld r:id="rId16"/>
        <p:sld r:id="rId31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6D9DDB-235D-47A4-B0A4-900B0631C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C0C9FF-196D-4D54-9F80-E9B765F98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F5A01D-3E76-4D2E-9867-50B225F3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AEF1AF-C1C8-4092-AED4-F6764902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D33006-E5D0-4D7F-9677-27EA1D4C8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5B818F-57E2-4786-A7EC-DA958E1F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4B3EE9-779F-4A27-AE8A-F784EA05B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0157C5-7217-4535-8FD1-AA0F52AE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345D3F-C6A5-497B-8FC7-803C480B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8D03B5-62F3-4CF0-BAC1-7BCE641D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A7D9C6-C6F6-4DEC-95A3-7D29F9533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088F85-F3EB-4AE2-BB64-E2BFFA43B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FBD599-D836-4D6D-9580-9FB9A31D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AC8723-E6A1-4363-BD6B-296464335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灯片编号占位符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1F17AD-7C84-46CB-BD68-B63BB1745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FA74B9-461F-45ED-994B-882EC743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7202A7-A968-4096-8B2A-28F11BD5F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9C6FE8-2063-497F-B03E-6524B49D9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7D839E-C3C6-4A7F-B1D3-C9B9A428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18B1DB-C933-43F0-B3EB-6A4FB2445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5062F4-93CB-48CC-8C1F-83C3A692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9744EF-A9EB-4B39-B941-6C6E70F1B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C420A2-F25D-49E0-8F23-5B628C1D9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8C4D95-44CA-4B41-88DA-908330499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146614-C1AB-419E-880B-FC2FE460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A39AAC-F13F-450B-95B1-99B7CE4E1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233E66-5115-486D-A234-5704D1E1A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C2DFF5-59C1-4A60-BC5A-DEA5E6E7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134432-9975-46E5-9792-C29443EA8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404640" y="695160"/>
            <a:ext cx="6188400" cy="34815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CA46DA-67F8-4EB0-922F-8601CEC94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932C2B-A214-4A06-8F7F-B278C0648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2746E4-142F-4708-A7EE-A7091053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CD7208-51E4-416F-BDF5-1800E169A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8317EA-F591-4C04-B481-892A38DE8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6B34-9B37-4E1D-A0B5-860944A27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8048-46C1-4B79-B20D-DA8E3EEC6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4FB7-BA33-42B7-91E2-130A9E885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02E0-ED24-4720-9F68-17FA110F8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65E-AA32-4124-9FAD-15CF917F35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700-407F-4655-90E6-4D78B2A136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1A4-AD91-4855-B40E-C0E870D870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AD0-F93A-447E-8496-4FE06184A0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E4E-1B28-4D08-A655-A7052D2EE8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754-BC10-4E93-9FE9-81170BF620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2BD-D942-402C-9995-AF8070A0BA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A484-F2A0-4414-8078-879119649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D7F-E647-45DE-ABEA-D9D31155E5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C37-F112-4EB3-B419-7AD488B90C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02C-930D-4E1E-B2BB-4EF612837D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45D-AB07-4403-AE63-A25F3EA75F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A6C-6935-48BC-B4FC-90D98F5A23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0B75-38D0-4FC3-B9A1-A7B382552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4390-CB28-4C38-9871-E08A717CC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7A0C-1E77-478E-B460-93EB24CD3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B366-0971-4203-84FE-C41BB582F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ACF3-D606-45C8-9864-B82369F1B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7D9F-4530-4D41-9BAB-285246EE2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E1C9-6F06-405E-BB3B-C8F33ED67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737560" y="640080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4EC-D1B5-4192-AAB5-837C269C69D2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94161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582372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4.</a:t>
            </a:r>
            <a:fld id="{0624BAFB-61FD-4373-ACC0-9F31D517D2F5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944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11888640" y="5445000"/>
            <a:ext cx="30348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4680" y="0"/>
            <a:ext cx="8920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423756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85580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816000" y="5780160"/>
            <a:ext cx="459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8794440" y="621828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AD93-A6B0-4027-ADB8-B2C0592A411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4: Intermediate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66920" y="1047600"/>
            <a:ext cx="68007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atural right outer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41800" y="1776240"/>
            <a:ext cx="6257880" cy="1416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2428920" y="4464000"/>
            <a:ext cx="33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14440" y="3363840"/>
            <a:ext cx="66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er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3181320" y="4059360"/>
            <a:ext cx="5859360" cy="152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rcRect l="52248" t="4599" r="6106" b="71744"/>
          <a:stretch/>
        </p:blipFill>
        <p:spPr>
          <a:xfrm>
            <a:off x="8391600" y="1870200"/>
            <a:ext cx="985680" cy="299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rcRect l="52248" t="4599" r="6106" b="71744"/>
          <a:stretch/>
        </p:blipFill>
        <p:spPr>
          <a:xfrm>
            <a:off x="7961400" y="4129200"/>
            <a:ext cx="98568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41760" y="163080"/>
            <a:ext cx="726408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uilt-in Data Types in SQL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43160" y="890640"/>
            <a:ext cx="78487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t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ates, containing a (4 digit) year, month and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‘2005-7-27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 of day, in hours, minutes and sec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‘09:00:30’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‘09:00:30.7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mesta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ate plus time of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sta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‘2005-7-27 09:00:30.7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rval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eriod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 interval  ‘1’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racting a date/time/timestamp value from another gives an interv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al values can be added to date/time/timestamp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te, time func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_date(), current_tim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(x), month(x), day(x), hour(x), minute(x), second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ser-Defined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365200" y="1135080"/>
            <a:ext cx="760104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eate typ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in SQL creates user-define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lla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numeric (12,2) fina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5)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 Doll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ma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66736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eate 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 in SQL-92 creates user-defined domai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dom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son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and domains are similar.  Domains can have constraints, such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pecified on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dom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gree_lev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ai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gree_level_te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Bachelors’, ’Masters’, ’Doctorate’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arge-Object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63324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objects (photos, videos, CAD files, etc.) are stored a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rge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l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inary large object -- object is a large collection of uninterpreted binary data (whose interpretation is left to an application outside of the databas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haracter large object -- object is a large collection of charac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query returns a large object, a pointer is returned rather than the large object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grity Constrain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65200" y="1135080"/>
            <a:ext cx="66312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constraints guard against accidental damage to the database, by ensuring that authorized changes to the database do not result in a loss of data consist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ecking account must have a balance greater than $10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alary of a bank employee must be at least $4.00 an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stomer must have a (non-null) ph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2240" y="444240"/>
            <a:ext cx="5587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grity Constraints on a Single Relation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364840" y="1177560"/>
            <a:ext cx="7574040" cy="26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where P is a 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32884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61880" y="9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t Null and Unique Constraint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365200" y="1135080"/>
            <a:ext cx="794880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,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que specification states that the attribu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 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 a super key ( 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×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andidate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keys are permitted to be null (in contrast to primary key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32884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61880" y="9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check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347920" y="1098360"/>
            <a:ext cx="638496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P is a 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695680" y="2152800"/>
            <a:ext cx="7056360" cy="43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ensure that semester is one of fall, winter, spring or sum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0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m_numb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slot 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Fall’, ’Winter’, ’Spring’, ’Summer’)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32884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ferential Integr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64840" y="1135080"/>
            <a:ext cx="65026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s that a value that appears in one relation for a given set of attributes also appears for a certain set of attributes in another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If “Biology” is a department name appearing in one of the tuple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, then there exists a tuple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 for “Biolog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A be a set of attributes.  Let R and S be two relations that contain attributes A and where A is the primary key of S. A is said to be a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eign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R if for any values of A appearing in R these values also appear in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4:  Intermediate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33520" y="1104840"/>
            <a:ext cx="741384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ed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Data Types and 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23800" y="506520"/>
            <a:ext cx="50274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scading Actions in Referential Integrity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65200" y="1134720"/>
            <a:ext cx="81410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 (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course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tle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delete casca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on update casc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. . 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actions to cascad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default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tri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44600" y="317160"/>
            <a:ext cx="5802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grity Constraint Violation During Transactio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38560" y="1093320"/>
            <a:ext cx="793584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th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ID)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ke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the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s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ke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the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nsert a tuple without causing constraint viol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father and mother of a person before inserting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set father and mother to null initially, update after inserting all persons (not po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her and mother attributes decl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defer constra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nsaction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lex Check Clau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93480" y="938160"/>
            <a:ext cx="760572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ection has at least one instructor teaching the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, sec_id, semester, year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, sec_id, semester, ye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2859120" y="1741320"/>
            <a:ext cx="627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lex Check Clau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73789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Unfortunately:  subquery in check clause not supported by pretty much any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ig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s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34800" y="1087200"/>
            <a:ext cx="651348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as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assertion-name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edicate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its_earned_constra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ex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_c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&gt;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.ID=takes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ade is not nu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ade&lt;&gt;’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64771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vides a mechanism to hide certain data from the view of certain us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 person who needs to know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an instructors name and department, but not the 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is person should see a relation described, in SQL, b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relation that is not of the conceptual model but is made visible to a user as a “virtual relation” is called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Defin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6819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 is defined u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which has th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88"/>
              </a:spcBef>
              <a:buNone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876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expression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88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&lt;query expression&gt; is any legal SQL expression.  The view name is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 view is defined, the view name can be used to refer to the virtual relation that the view gene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efinition is not the same as creating a new relation by evaluating the query 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, a view definition causes the saving of an expression; the expression is substituted into queries using th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066760" y="1106640"/>
            <a:ext cx="825048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view of instructors without their salary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ul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76"/>
              </a:spcBef>
              <a:buNone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nd the names of all instructors in the Biology depart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ult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Biolog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76"/>
              </a:spcBef>
              <a:buNone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reate a view of department salary tota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s_total_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_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49"/>
              </a:spcBef>
              <a:buNone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76"/>
              </a:spcBef>
              <a:buNone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76"/>
              </a:spcBef>
              <a:buNone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84440" y="5232240"/>
            <a:ext cx="75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s Defined Using Other 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physics_fall_2009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m_numb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Physics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Fall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2009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_fall_2009_wats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m_numb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physics_fall_2009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Watson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Expan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use of a view in a query/anothe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002040" y="1704960"/>
            <a:ext cx="7192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_fall_2009_wats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m_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m_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Physic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Fal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2009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Watson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7229520" cy="35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oin op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 two relations and return as a result another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operations are typically used as subquery expression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oin 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efines which tuples in the two relations match, and what attributes are present in the result of the 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oin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efines how tuples in each relation that do not match any tuple in the other relation (based on the join condition) are tr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377" t="32008" r="377" b="31506"/>
          <a:stretch/>
        </p:blipFill>
        <p:spPr>
          <a:xfrm>
            <a:off x="2611440" y="4681440"/>
            <a:ext cx="708516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 of a View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63320" y="1106640"/>
            <a:ext cx="76518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tupl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ul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which we defin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876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ul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ul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’30765’, ’Green’, ’Music’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sertion must be represented by the insertion of the tu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’30765’, ’Green’, ’Music’,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ome Updates cannot be Translated Uniquely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7280" y="1066320"/>
            <a:ext cx="7845480" cy="52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_inf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_inf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69987’, ’White’, ’Tayl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department, if multiple departments in Tay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SQL implementations allow updates only on simple views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pdatable vie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has only one database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contains only attribute names of the relation, and does not have any expressions, aggregates,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in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attribute not listed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can be set to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ry does not hav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terialized 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85298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terializing a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reate a physical table containing all the tuples in the result of the query defining th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elations used in the query are updated, the materialized view result becomes out of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intain the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updating the view whenever the underlying relations are upd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* View and Logical Data Indepence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2720" y="1255680"/>
            <a:ext cx="78454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 rel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b, c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split into two sub rel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1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2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w to realize the logical data independenc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eate table S1 …;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eate table S2 …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ert into S1 select a, b from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ert into S2 select a, c from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rop table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eate view S(a,b,c) as select a,b,c from S1 natural join S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* from S where …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elect * from S1 natural join S2 where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ert into S values (1 ,2,3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insert into S1 values (1,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ert into S2 values (1 ,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63640" y="947520"/>
            <a:ext cx="1021536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_cr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,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inde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ID_inde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 are data structures used to speed up access to records with specified values for index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*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D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1234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xecuted by using the index to find the required record, without looking at all record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on indices in Chapter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78976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NE or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fully executed or rolled back as if it never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ion from concurren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begin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efault on most databases: each SQL statement commits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urn off auto commit for a session (e.g. using A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ySQL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T AUTOCOMMIT=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:1999, can us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…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upported on most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78976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nsaction examp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AUTOCOMMI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lance=balance-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o=‘1001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=balance+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o=‘1002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lance=balance -2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o=‘1003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lance=balance+2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o=‘1004’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lance=balance+balance*2.5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ID Propert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60400" y="2233080"/>
            <a:ext cx="78724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omi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 all operations of the transaction are properly reflected in the database or non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is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ecution of a transaction in isolation preserves the consistency of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so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though multiple transactions may execute concurrently, each transaction must be unaware of other concurrently executing transactions.  Intermediate transaction results must be hidden from other concurrently executed transac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for every pair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ppear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ed execution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execution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ur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 transaction completes successfully, the changes it has made to the database persist, even if there are system fail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60400" y="1152360"/>
            <a:ext cx="824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ransa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s a unit of program execution that accesses and possibly updates various data items.To preserve the integrity of data the database system must ens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horization(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授权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23400" y="1184400"/>
            <a:ext cx="8115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 of authorization on parts of  the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lect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reading, but not modification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sert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insertion of new data, but not modification of existing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pdat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modification, but not deletion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let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deletion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 of authorization to modify the database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dex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creation and deletion of i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sources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creation of new re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lteration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addition or deletion of attributes in a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rop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deletion of re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horization Specificat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6760" y="119700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r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is used to confer 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privilege list&gt;  //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ivilege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：权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relation name or view name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user li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user list&gt;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ser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allows all valid users the privilege gr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ole (more on this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ing a privilege on a view does not imply granting any privileges on the underlying re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ntor of the privilege must already hold the privilege on the specified item (or be the database administrat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 operations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22000" y="1077840"/>
            <a:ext cx="686124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322360" y="3174840"/>
            <a:ext cx="7029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376360" y="5396040"/>
            <a:ext cx="82915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req 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missing for CS-315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missing  for  CS-4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3463920" y="1739880"/>
            <a:ext cx="4329000" cy="1198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255920" y="3745080"/>
            <a:ext cx="259884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ivilege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365200" y="1134720"/>
            <a:ext cx="72900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 upd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1,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vileges on department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voking Authorizat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365200" y="1134720"/>
            <a:ext cx="766152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vo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is used to revoke author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ivilege li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relation name or view nam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user li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ivilege-list&gt; may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voke all privileges the revokee may h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&lt;revokee-list&gt; includ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users lose the privilege except those granted it explici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ame privilege was granted twice to the same user by different grantees, the user may retain the privilege after the rev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rivileges that depend on the privilege being revoked are also revo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o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r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A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ileges can be granted to ro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s can be granted to users, as well as to other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ing_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ing_assis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herits all privileg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ing_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n of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tosh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horization on 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o_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Geolog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o_instructor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o_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Authorization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38200" y="1093680"/>
            <a:ext cx="766116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lege to create foreig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 refere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thi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3178080" y="3527280"/>
            <a:ext cx="20620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6850080" y="3527280"/>
            <a:ext cx="24098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3164040" y="30337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6850080" y="309096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直接箭头连接符 15"/>
          <p:cNvCxnSpPr/>
          <p:nvPr/>
        </p:nvCxnSpPr>
        <p:spPr>
          <a:xfrm>
            <a:off x="5398560" y="3671640"/>
            <a:ext cx="136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Authorization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338200" y="1093320"/>
            <a:ext cx="7661160" cy="19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nsfer of privi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gran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t, Satosh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t, Satosh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3556080" y="42814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5210280" y="35560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5153040" y="428148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5122800" y="51674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6734160" y="36291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6748560" y="43099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直接箭头连接符 11"/>
          <p:cNvCxnSpPr>
            <a:stCxn id="217" idx="3"/>
            <a:endCxn id="219" idx="1"/>
          </p:cNvCxnSpPr>
          <p:nvPr/>
        </p:nvCxnSpPr>
        <p:spPr>
          <a:xfrm>
            <a:off x="4309920" y="4451040"/>
            <a:ext cx="84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直接箭头连接符 12"/>
          <p:cNvCxnSpPr/>
          <p:nvPr/>
        </p:nvCxnSpPr>
        <p:spPr>
          <a:xfrm>
            <a:off x="5717880" y="4479480"/>
            <a:ext cx="843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直接箭头连接符 13"/>
          <p:cNvCxnSpPr/>
          <p:nvPr/>
        </p:nvCxnSpPr>
        <p:spPr>
          <a:xfrm>
            <a:off x="5776560" y="3768480"/>
            <a:ext cx="84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直接箭头连接符 15"/>
          <p:cNvCxnSpPr/>
          <p:nvPr/>
        </p:nvCxnSpPr>
        <p:spPr>
          <a:xfrm flipV="1">
            <a:off x="4281480" y="3787200"/>
            <a:ext cx="799200" cy="47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直接箭头连接符 19"/>
          <p:cNvCxnSpPr>
            <a:endCxn id="220" idx="1"/>
          </p:cNvCxnSpPr>
          <p:nvPr/>
        </p:nvCxnSpPr>
        <p:spPr>
          <a:xfrm>
            <a:off x="4281120" y="4774680"/>
            <a:ext cx="842040" cy="56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直接箭头连接符 21"/>
          <p:cNvCxnSpPr/>
          <p:nvPr/>
        </p:nvCxnSpPr>
        <p:spPr>
          <a:xfrm>
            <a:off x="5819400" y="3933360"/>
            <a:ext cx="66924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51160" y="1248840"/>
            <a:ext cx="637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tension of the join operation that avoids loss of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s the join and then adds tuples form one relation that does not match tuples in the other relation to the result of the jo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ft 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182680" y="1312920"/>
            <a:ext cx="55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atural left outer jo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9720" y="2112840"/>
            <a:ext cx="5956200" cy="1347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rcRect l="52248" t="4599" r="6106" b="71744"/>
          <a:stretch/>
        </p:blipFill>
        <p:spPr>
          <a:xfrm>
            <a:off x="8097840" y="2173320"/>
            <a:ext cx="98568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ight 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325600" y="1287360"/>
            <a:ext cx="53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atural right outer jo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832120" y="2311560"/>
            <a:ext cx="6257880" cy="141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rcRect l="52248" t="4599" r="6106" b="71744"/>
          <a:stretch/>
        </p:blipFill>
        <p:spPr>
          <a:xfrm>
            <a:off x="7937640" y="2379600"/>
            <a:ext cx="10825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ll 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376360" y="1325520"/>
            <a:ext cx="48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atural full outer jo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995560" y="2158920"/>
            <a:ext cx="5859360" cy="152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52248" t="4599" r="6106" b="71744"/>
          <a:stretch/>
        </p:blipFill>
        <p:spPr>
          <a:xfrm>
            <a:off x="7746840" y="2193840"/>
            <a:ext cx="10670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1880" y="666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Example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352240" y="1098360"/>
            <a:ext cx="6620040" cy="68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.course_id = prereq.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281320" y="3300480"/>
            <a:ext cx="791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difference between the above, and a natural joi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ft outer jo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ere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.course_id = prereq.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32200" y="2065320"/>
            <a:ext cx="6464160" cy="1003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38320" y="4610160"/>
            <a:ext cx="6589800" cy="1266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rcRect l="52248" t="4599" r="6106" b="71744"/>
          <a:stretch/>
        </p:blipFill>
        <p:spPr>
          <a:xfrm>
            <a:off x="7388280" y="2127240"/>
            <a:ext cx="985680" cy="29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4"/>
          <a:srcRect l="52248" t="4599" r="6106" b="71744"/>
          <a:stretch/>
        </p:blipFill>
        <p:spPr>
          <a:xfrm>
            <a:off x="7508880" y="4662360"/>
            <a:ext cx="985680" cy="3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un JL</cp:lastModifiedBy>
  <cp:lastPrinted>2005-01-10T21:51:57Z</cp:lastPrinted>
  <dcterms:modified xsi:type="dcterms:W3CDTF">2020-03-16T12:38:31Z</dcterms:modified>
  <cp:revision>321</cp:revision>
  <dc:subject/>
  <dc:title>Chapter 1:  Introduction</dc:title>
</cp:coreProperties>
</file>