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</p:sldIdLst>
  <p:sldSz cx="12193588" cy="6858000"/>
  <p:notesSz cx="6997700" cy="9283700"/>
  <p:custShowLst>
    <p:custShow name="Custom Show 1" id="0">
      <p:sldLst>
        <p:sld r:id="rId5"/>
        <p:sld r:id="rId48"/>
        <p:sld r:id="rId61"/>
        <p:sld r:id="rId25"/>
        <p:sld r:id="rId26"/>
        <p:sld r:id="rId6"/>
        <p:sld r:id="rId46"/>
        <p:sld r:id="rId47"/>
        <p:sld r:id="rId6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3406F7-94CA-4851-B2CA-7B39BC96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A4B347-53CB-4CA7-B554-8D931A8F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4B2BAE-AA68-4512-AEE8-C9114E885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E0CD66-8D2F-43BC-9F53-B3AE4D51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FDBBF3-E2F2-4AF2-9572-FE814110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BB6953-68EF-433F-81CB-EB5FA2FA4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E0BFF8-F46B-423D-AFF4-19D95CD8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B766C9-5BC4-4334-ABFE-45C79C82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E97796-AB5A-4E05-8D33-C721FB4D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04395F-8876-45A6-A4B2-7E3FA095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3EEE67-7D1C-471E-A8DD-6535C10A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33D75F-CA66-44D6-89A3-60C5B6E2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055B92-41AB-4D68-BB8A-44C3A817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31885-590D-4A19-B2F3-C160B9BE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85BC75-1BA6-41B0-BF65-15530704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3B0B10-28C5-48DA-9E94-F2532383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B6F17D-0AE8-4B72-A29E-C1882E3C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149EB8-33EF-4488-BBA7-B918F065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DB76AB-B886-4C3E-A322-47656995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AE6362-34FF-4A7C-A407-D86B09EB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9ECCB2-1862-4D24-A2FB-924B6CCE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7E690C-3175-448F-9F99-49924643F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D5FB99-DEC8-412B-91C1-647072DA4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64A74E-DE7E-4091-B84F-978DE5F0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31FE60-DBC1-4E33-BF76-D5CCC5A0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80609B-0843-4631-B272-C7F6F9F3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D3B83C-83D3-4AC0-83E3-A8D30F00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9F41CC-E88A-4A89-B035-3AFFB3BD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6BC039-E782-405F-9626-3C506D07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B8B36D-F6D2-4D3C-B219-5C46278B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3FF9EC-81F6-4102-87C4-48ACFBD9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C0809C-290D-49C7-B9ED-846C80D08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379684-AE1D-4D4C-A8BA-853F6524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3EE2EA-54A6-4E1E-AACF-3F84F8A4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7BFEC3-6CE2-4B99-AC5A-F175CE1ED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476343-888E-45A2-BAFF-50187EB54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5730C1-096A-4C94-A21C-54541B77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A4F011-EA81-4CCC-8640-8DF04D7E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753304-869B-4963-9FE5-96EEAE96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768695-1A4D-4D77-8D9C-F6262E58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4309E9-A27C-4F2C-8C7F-401639AB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3FC4BB-AC88-4049-8D80-D1F7FADE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A0AA5E-03C5-4B25-9064-1D9060DA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29C9E3-5F55-41E0-A177-1F5FE19D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B653B8-488E-4935-B2AD-E8B994715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9EE362-2BC1-401A-AC46-C7A6513A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20BC5B-72F4-40EA-B065-58006701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799AD6-69F9-4E67-8F1E-E3D28D1B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2B522B-5DDE-4ADD-B0BF-C6869968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4310C4-F416-4173-9460-405F14A49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29C1EA-70CE-48EA-B2FD-966A07903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2C9839-D1CF-433A-AD64-2820B133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148E0B-5572-48DE-91B7-C65A2D877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C74150-19E6-47E5-ADC9-350C5AA8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E3169A-3768-484D-9323-32691B3B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4CC867-179B-4CF3-9EF5-1F08EC64D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EC3A27-BC23-4FAB-915D-51EE9BD9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5C647D-57BD-4932-B599-4903956F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18F36D-127F-4CD6-8944-6D785846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102352-B4F5-4EE0-9BE2-098FE273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AA32FB-95C4-4CA5-AFDD-F9208EAB7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2F3DC4-79F8-4BAD-8177-84C81F1D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6B92DE-A4C6-468C-A60C-E98FA942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5C05E9-578A-4592-AD35-40B9243D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D31A02-23D1-48BF-B365-5832F38C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1047F0-5337-4515-9524-EA0DF013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DCC68B-1BAE-407D-B8B8-0745C3DA4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24A1FF-CECB-4143-9225-B32DFE9A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327A39-CBF7-4569-9E12-D0AAC3BB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EFE86E-F60B-4818-B2AC-AF3A85E3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AC9745-A5C4-477E-8E2F-D0188891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606D36-1B33-4F88-B116-075F2D98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C0641F-DF14-4E3A-8380-FCC778148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9CE74A-FF1B-4968-A5DF-090B4498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2B639B-2D16-4D06-B4C3-DB927942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59CFA5-5668-4351-B915-1DAC8CD8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B26C26-CBB5-4A3F-A6BA-21309C93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582372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5.</a:t>
            </a:r>
            <a:fld id="{D67BE949-AC9D-4CC2-AF1F-9915EC3AB238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42375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docs.oracle.com/en/database/oracle/oracle-database/20/jsqlj/toc.ht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5: Advanc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pared Stat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5560" y="1038240"/>
            <a:ext cx="83296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eparedStatemen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 pStmt = conn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prepareStatemen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"insert into instructor values(?,?,?,?)"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setString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1, "88877");      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setString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2, "Perry"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setString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3, "Finance");   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setIn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4, 125000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executeUpdat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);   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setString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1, "88878"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executeUpdat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: always use prepared statements when taking an input from the user and adding it to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VER create a query by concatenating strings which you get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insert into instructor values(’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I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"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’, ’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n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"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’,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                          "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dept 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"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’,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salar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"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f name is “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D’Sou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Injection(SQL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注入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5720" y="879120"/>
            <a:ext cx="848844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query is constructed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select * from instructor where name = ’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“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 user, instead of entering a name, en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’ or ’Y’ = ’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resulting string of the statement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select * from instructor where name = ’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"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X’ or ’Y’ = ’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select * from instructor where name = ’X’ or ’Y’ = ’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ould have even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X’; update instructor set salary = salary + 1000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select * from instructor where name = ’X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update instructor set salary = salary + 1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ways use prepared statements, with user inputs as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adata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et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fter executing query to get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sult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sultSetMetaData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rsmd = rs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MetaData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or(int i = 1; i &lt;= rsmd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ColumnCoun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)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rsmd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ColumnNam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rsmd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ColumnTypeNam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adata (Cont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0520" y="1149120"/>
            <a:ext cx="84214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tabaseMetaData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dbmd = conn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MetaData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esultSet rs = dbmd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Columns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null, "univdb", "department", "%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Arguments to getColumns: Catalog, Schema-pattern, Table-patter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// and Column-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// Returns: One row for each column; row has a number o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// such as COLUMN_NAME, TYPE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while( rs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rs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String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"COLUMN_NAME"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s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tString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"TYPE_NAM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ere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6120" y="85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trol in J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7480" y="1168560"/>
            <a:ext cx="799776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each SQL statement is treated as a separate transaction that is committed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idea for transactions with multiple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urn off automatic commit on 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.setAutoCommit(fals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must then be committed or rolled back ex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onn.commit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onn.rollb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.setAutoCommit(true) turns on automatic com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JDBC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80359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ing func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allableStatement cStmt1 = conn.prepareCall("{? = call some function(?)}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allableStatement cStmt2 = conn.prepareCall("{call some procedure(?,?)}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large objec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Blob() and getClob() that are similar to the getString() method, but return objects of type Blob and Clob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data from these objects by getByte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an open stream with Java Blob or Clob object to update larg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blob.setBlob(int parameterIndex, InputStream inputStrea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Resour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6120" y="1266840"/>
            <a:ext cx="77072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 Basics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docs.oracle.com/javase/tutorial/jdbc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J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5720" y="1114560"/>
            <a:ext cx="986004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is overly dynamic, errors cannot be caught by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J: embedded SQL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sql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terator deptInfoIter ( String dept name, int avgS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deptInfoIter iter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sql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ter = { select dept_name, avg(salary) from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group by dept name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while (iter.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tring deptName = iter.dept_n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t avgSal = iter.avgS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deptName + " " + avgS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ter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J Resour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5720" y="1114560"/>
            <a:ext cx="986004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J Developer's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s://docs.oracle.com/en/database/oracle/oracle-database/20/jsqlj/to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8320" y="1246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 DataBase Connectivity(ODBC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 application program to communicate with a databas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 interface (API)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connection with a databas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queries and updat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back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such a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UI, spreadshe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 can use O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defined originally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s available for many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5:  Advanc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4840" y="1134720"/>
            <a:ext cx="684396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SQL From a Programming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Aggregat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959200" y="-763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DBC 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4280" y="10728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database system supporting ODBC provides a "driver" library that must be linked with the client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106720" y="2017800"/>
            <a:ext cx="54133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8040" y="1155600"/>
            <a:ext cx="8040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atabase system supporting ODBC provides a "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r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library that must be linked with the client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lient program makes a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DBC API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code in the library communicates with the server to carry out the requested action, and fet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program first allocates a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atabase conn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 database connection using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Connec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Parameters for SQLConn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hand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to which to 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dentifi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lso specify types of arg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_NTS denotes previous argument is a null-terminated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76120" y="-97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3400" y="993240"/>
            <a:ext cx="8267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t ODBCex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CODE 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HENV    env;     /* environment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HDBC    conn;  /* database connection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QLAllocEnv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&amp;en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QLAllocConnec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env, &amp;con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QLConnec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conn, “db.yale.edu", SQL_NTS, "avi", SQL_NTS, "avipasswd", SQL_NT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{ …. Do actual work …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QLDisconnec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con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QLFreeConnec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con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QLFreeEnv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env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1720" y="963720"/>
            <a:ext cx="862668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ends SQL commands to database by using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Exec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tuples are fetched using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F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BindC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binds C language variables to attributes of the query 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uple is fetched, its attribute values are automatically stored in corresponding C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s to SQLBindCo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BC stmt variable, attribute position in query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conversion from SQL to 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 of the vari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ariable-length types like character array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length of the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to store actual length when a tuple is fet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 negative value returned for the length field indicates nul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ogramming requires checking results of every function call for errors; we have omitted most checks for bre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1960" y="904680"/>
            <a:ext cx="88138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body o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har deptname[80]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loat salary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t lenOut1, lenOut2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HSTMT stmt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har * sqlquery = "select dept_name, sum (salary)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from instructor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group by dept_name";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AllocStm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conn, &amp;stmt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rror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ExecDirec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, sqlquery, SQL_NTS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f (error == SQL SUCCESS) {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BindCol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, 1, SQL_C_CHAR, deptname , 80, &amp;lenOut1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BindCol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, 2, SQL_C_FLOAT, &amp;salary, 0 , &amp;lenOut2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while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Fetch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) == SQL_SUCCESS) {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printf (" %s %g\n", deptname, salary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FreeStm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, SQL_DRO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Prepared Stateme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5720" y="1120680"/>
            <a:ext cx="80773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pare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statement prepared: compiled at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placeholders:  E.g.  insert into account values(?,?,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executed with actual values for the 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pare a stat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Prepar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, &lt;SQL String&gt;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ind parame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BindParamete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stmt, &lt;parameter#&gt;,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… type information and value omitted for simplicity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ecute the stat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retcode = </a:t>
            </a:r>
            <a:r>
              <a:rPr b="0" lang="en-IN" sz="2000" spc="-1" strike="noStrike">
                <a:solidFill>
                  <a:srgbClr val="0000cc"/>
                </a:solidFill>
                <a:latin typeface="Arial"/>
              </a:rPr>
              <a:t>SQLExecute</a:t>
            </a: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( stm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injection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注入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0120" y="1079640"/>
            <a:ext cx="807732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QL injection example in Ja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lect  * from instructor where name= 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”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icious hacker ente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’ or ’Y’ =’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lect  * from instructor where name= ’ X’ or ’Y’ =’Y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ulting SQL statement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is always true and the entire instructor relation is retu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epared stat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prevent this problem because the input string would have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sc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haracters(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转义符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ed, so the resulting query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lect  * from instructor where name= ’ X\’ or \ ’Y\’ =\’Y 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query is harmless and returns the empty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SQL injection security risk, do not create SQL strings directly using user input; instead use prepared statements to bind user inp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76120" y="85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ODBC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2880" y="1010880"/>
            <a:ext cx="81248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data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ll the relations in the databas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the names and types of columns of a query result or a relation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each SQL statement is treated as a separate transaction that is committed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urn off automatic commit on 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SetConnectOption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con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L_AUTOCOMMI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, 0)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must then be committed or rolled back explicitly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Transac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con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L_COMMI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QLTransac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con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L_ROLLBACK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nformance Lev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728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ormance levels specify subsets of the functionality defined by the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requires support for metadata que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 requires ability to send and retrieve arrays of parameter values and more detailed catalo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Call Level Interface (CLI) standard similar to ODBC interface, but with some minor dif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 Resour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1960" y="1211400"/>
            <a:ext cx="7954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 Programmer's Guide - Embedded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docs.oracle.com/cd/E17952_01/connector-odbc-en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41040" y="166320"/>
            <a:ext cx="80773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ccessing SQL from a Programming Languag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0680" y="2026800"/>
            <a:ext cx="769284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queries can be expressed in SQL, since SQL does not provide the full expressive power of a general-purpose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declarative actions -- such as printing a report, interacting with a user, or sending the results of a query to a graphical user interface -- cannot be done from within 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959200" y="-763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851040" y="1197000"/>
            <a:ext cx="76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base programmer must have access to a general-purpose programming language for at least two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7000" y="1146240"/>
            <a:ext cx="81057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QL standard defines embeddings of SQL in a variety of programming languages such 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, C++, Java, Fort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/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to which SQL queries are embedded is referred to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st 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SQL structures permitted in the host language compr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bed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 of these languages follows that of the System R embedding of SQL into PL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EC SQ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used in the host language to identify embedded SQL request to the pre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 SQL &lt;embedded SQL statement 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varies by langua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languages, lik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B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the semicolon is replaced with END-EX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bedding uses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 SQ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….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0880" y="1211400"/>
            <a:ext cx="814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executing any SQL statements, the program must first connect to the database.  This is done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-SQ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nect to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r-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s the server to which a connection is to be 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of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st langu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within embedded SQL statements.  They are preceded  by a colon 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istinguish from SQL variables (e.g.,  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_amou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st Variab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s above must be declared with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CL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as illustrated below. The syntax for declaring the variables, however, follows the usual host language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EC-SQL BEGIN DECLARE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-am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EC-SQL END DECLARE 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20520" y="1189080"/>
            <a:ext cx="7445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rite an embedded SQL query, we us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rsor for  &lt;SQL query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.  The  vari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used to identify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within a host language, find the ID and name of students who  have completed more than the number of credits stored in variabl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redit_amoun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host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query in SQL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EXEC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cursor for 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select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ID, name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here tot_cred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&gt; :credit_am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20880" y="1245960"/>
            <a:ext cx="75945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for our example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EXEC SQ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tement causes the database system to execute the query and  to save the results within a temporary relation.  The query uses the value of the host-language vari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-am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tim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tch statement causes the values of one tuple in the query result to be placed on host languag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EXEC SQL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tch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o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si, :sn</a:t>
            </a:r>
            <a:r>
              <a:rPr b="0" i="1" lang="zh-CN" sz="2000" spc="-1" strike="noStrike">
                <a:solidFill>
                  <a:srgbClr val="00206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calls to fetch get successive tuples in the query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61480" y="1198440"/>
            <a:ext cx="7512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able call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L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SQL communication area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L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gets set to '02000' to indicate no more data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causes the database system to delete the temporary relation that holds the result of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EXEC SQ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Through Embedd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76312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SQL expressions for database modificatio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pdate tuples fetched by cursor by declaring that the cursor is for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XEC SQ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ursor fo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select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= 'Music'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then iterate through the tuples by performing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s on the cursor , and after fetching each tuple we execute the following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update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salary = salary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+ 1000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re current of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 Resour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21960" y="1211400"/>
            <a:ext cx="7954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 Programmer's Guide - Embedded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docs.oracle.com/en/database/oracle/oracle-database/20/lnpcc/embedded-SQL.html#GUID-C671CABF-202A-4503-A16B-DC78D3F1AB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-419400"/>
            <a:ext cx="80773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al Extensions and Stored Proced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64840" y="1135080"/>
            <a:ext cx="79218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provide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definition of procedures in SQL,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-then-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op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tore procedures in the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xecute them using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 external applications to operate on the database without knowing about internal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s and Proced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1920" y="1072800"/>
            <a:ext cx="769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nd procedures allow 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siness lo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 to be stored in the database and executed from SQL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an be defined either by the procedural component of SQL or  by an external programming language such as Java, C, or C+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tax we present here is defined by the SQL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databases implement nonstandard versions of this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1299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ccessing SQL from a Programming Language (Cont.)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1920" y="1879200"/>
            <a:ext cx="725328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 Interf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- A general-purpose program  can connect to and communicate with a database server using a collection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bedded SQ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vides a means by which a program can interact with a database serv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SQL statements are translated at compile time  into function cal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untime,  these function calls connect to the database  using an API  that provides dynamic  SQ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959200" y="-763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906480" y="1044720"/>
            <a:ext cx="758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approaches to accessing  database from a general-purpose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7800" y="1176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function that, given the name of a department, returns the count of the number of instructors in that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.dept_name = 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epartment name and budget of all departments with more that 12 instru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, bud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abl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36360" y="946080"/>
            <a:ext cx="779436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2003 added functions that return a relation as a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eturn all accounts owned by a given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s_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urn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dept_name, 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ructor.dept_name = instructors_of.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s_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Music’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33320" y="66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Proced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0280" y="1042560"/>
            <a:ext cx="80550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could instead be written as proced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 procedu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_pr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)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.dept_name = dept_count_proc.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can be invoked either from an SQL procedure or from embedded SQL,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_pr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‘Physics’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and functions can be invoked also from dynamic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4640" y="1100160"/>
            <a:ext cx="7966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ning: most database systems implement their own variant of the standard syntax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your system manual to see what works on you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und statement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 … 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contain multiple SQL statements betwee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 variables can be declared within a compound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epeat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m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er defaul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whil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 10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nd wh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unti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nd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65200" y="11350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mits iteration over all results of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defau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‘Music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78120" y="1134720"/>
            <a:ext cx="87897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statements 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-then-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an  express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 or compound statemen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an  express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 or compound stat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 or compound stat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also support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similar to C cas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proced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6" name="内容占位符 2" descr=""/>
          <p:cNvPicPr/>
          <p:nvPr/>
        </p:nvPicPr>
        <p:blipFill>
          <a:blip r:embed="rId1"/>
          <a:stretch/>
        </p:blipFill>
        <p:spPr>
          <a:xfrm>
            <a:off x="2563920" y="693720"/>
            <a:ext cx="5672160" cy="6164280"/>
          </a:xfrm>
          <a:prstGeom prst="rect">
            <a:avLst/>
          </a:prstGeom>
          <a:ln w="0">
            <a:noFill/>
          </a:ln>
        </p:spPr>
      </p:pic>
      <p:sp>
        <p:nvSpPr>
          <p:cNvPr id="187" name="矩形 3"/>
          <p:cNvSpPr/>
          <p:nvPr/>
        </p:nvSpPr>
        <p:spPr>
          <a:xfrm>
            <a:off x="8008920" y="4302000"/>
            <a:ext cx="418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a student after ensu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–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capacity is not exc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s 0 on success, and -1 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–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 is exc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ternal Language Functions/Proced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23760" y="1238400"/>
            <a:ext cx="80568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permits the use of functions and procedures written in other languages such as C or C+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ing external language procedures and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_count_proc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/usr/avi/bin/dept_count_proc’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_coun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/usr/avi/bin/dept_cou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Language Routin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7640" y="1211400"/>
            <a:ext cx="7937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of external language functions/procedur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icient for many operations, and more expressive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to implement function may need to be loaded into database system and executed in the database system’s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of accidental corruption of database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isk, allowing users access to unautho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lternatives, which give good security at the cost of potentially wors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execution in the database system’s space is used when efficiency is more important than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urity with External Language Routin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8680" y="1141200"/>
            <a:ext cx="7661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al with secur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ndbo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use a safe language like Java, which cannot be used to    access/damage other parts of the databas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run external language functions/procedures in a separate process, with no access to the database process’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and results communicated via inter-proce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have performanc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atabase systems support both above approaches as well as direct executing in database system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and O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75312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PI (application-program interfac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ogram to interact with a databas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akes call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with the databas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SQL commands to the databas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tuples of result one-by-one into program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D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pen Database Connectivity) works with C, C++,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D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Java Database Connectivity) works with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bedded SQ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QL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mbedded SQL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PA(Java Persistence API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 mapping of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81200" y="826560"/>
            <a:ext cx="7010640" cy="537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rig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tatement that is executed automatically by the system as a side effect of a modification to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rigger -  ECA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: Event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pdate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: Cond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: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sign a trigger mechanism, we mu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conditions under which the trigger is to be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actions to be taken when the trigger exec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introduced to SQL standard in SQL:1999, but supported even earlier using non-standard syntax by most databas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Trigger Exampl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338200" y="1279440"/>
            <a:ext cx="7832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count_log(account, amount, date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rigg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count_trigg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fter update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count(balance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ferencing new row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row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ferencing   old row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each r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row.balance - orow.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gt; =200000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ow.balance  -nrow.balance &gt;=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g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count_lo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lu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nrow.account-numb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row.balance-orow.balance , current_time() 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 Exampl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09600" y="1279440"/>
            <a:ext cx="8148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 primary ke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cannot create a foreign key constraint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use trigger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nforce 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_check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inser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row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.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/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ese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rollb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 Example Cont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7640" y="1163520"/>
            <a:ext cx="875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_check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delete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old row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ow.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last tupl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slot 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s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ow.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referenc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rollb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ing Events and Action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23880" y="1171440"/>
            <a:ext cx="7613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ing event can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on update can be restricted to specific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after upda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of attributes before and after an update can be 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old row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deletes an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row as 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erts an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can be activated before an event, which can serve as extra constraints.  E.g. convert blank grades to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null_trig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upda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row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.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 ‘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atomi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.gr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 to Maintain credits_earned valu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redits_earned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after update of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referencing new row as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referencing old row as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orow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grad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&lt;&gt; ’F’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grad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is not null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    an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orow.grad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’F’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orow.grad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is null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egin atomic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     updat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tot_cre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tot_cre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+ 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redits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ourse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course_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.i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tement Level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67000" y="1193760"/>
            <a:ext cx="73008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executing a separate action for each affected row, a single action can be executed for all rows affected by a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statement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old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r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o refer to temporary tables  (called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ransition t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taining the affected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re efficient when dealing with SQL statements that update a large number of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tatement Level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67000" y="1193760"/>
            <a:ext cx="73008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gist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id,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rigg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ore_trigg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fter update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gister(score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ferencing new tabl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table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each state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when  some( select average(sco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up by cno) &lt; 6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g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en Not To Use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030040" y="1142640"/>
            <a:ext cx="84409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were used earlier for tasks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summary data (e.g., total salary of each depar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ng databases by recording changes to special relations (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s) and having a separate process that applies the changes over to a rep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better ways of doing these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today provide built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terialized 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 to maintain summa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provide built-in support for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facilities can be used instead of triggers in man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methods to updat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out actions as part of the update methods instead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a trig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1160" y="118440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D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Java API for communicating with database systems supporting 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supports a variety of features for querying and updating data, and for retrieving query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also support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etadata retrie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s querying about relations present in the database and the names and types of relation attrib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for communicating with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pen 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a “statement”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ecute quer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Statement object to send queries and fetch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ception mechanis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andl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en Not To Use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95280" y="1142640"/>
            <a:ext cx="7894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of unintended execution of triggers, for example,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ing data from a backup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ng updates at a remot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 execution can be disabled before such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isks with trigg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leading to failure of critical transactions that set off the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v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03200" y="900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permits recursive view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ind which courses are a prerequisite, whether directly or indirectly, for a specific cour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recurs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∗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xample view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Power of Recur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66560" y="1164960"/>
            <a:ext cx="8040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views make it possible to write queries, such as transitive closure queries, that cannot be written without recursion or it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 Without recursion, a non-recursive non-iterative program can perform only a fixed number of joi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give only a fixed number of levels of prerequi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fixed non-recursive query, we can construct a database with a greater number of levels of prerequisites on which the query will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write a procedure to iterate as many times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rocedur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indAllPrereq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book 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ge.1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Power of Recur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23" name="图片 1" descr=""/>
          <p:cNvPicPr/>
          <p:nvPr/>
        </p:nvPicPr>
        <p:blipFill>
          <a:blip r:embed="rId1"/>
          <a:stretch/>
        </p:blipFill>
        <p:spPr>
          <a:xfrm>
            <a:off x="3798720" y="698400"/>
            <a:ext cx="503568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vanced Aggregation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39680" y="880920"/>
            <a:ext cx="837396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is done in conjunction with an order by specific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we are given a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(ID, GPA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the grade-point average of each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rank of each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r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is needed to get them in sorte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may leave gaps: e.g. if 2 students have the same top GPA, both have rank 1, and the next rank is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_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leave gaps, so next dense rank would b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can be done using basic SQL aggregation, but resultant query is very in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, (1 + (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*)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_grades B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_grades A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_rank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38200" y="1093680"/>
            <a:ext cx="83293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can be done within partition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rank of students within each departm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rank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gr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s can occur in a sing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is d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y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/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find top-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general tha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supported by many databases, since it allows top-n within each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anking function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_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in partition, if partitioning is d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e_d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umulative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of tuples with preced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_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deterministic in presence of duplic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permits the user to specif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s 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s 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 nulls l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7560" y="1162080"/>
            <a:ext cx="84567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public static void JDBCexample(String dbid, String userid, String passw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try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conn = DriverManager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getConnection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(     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"jdbc:oracle:thin: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@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db.yale.edu:2000:univdb", userid, passw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atement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mt = conn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reateStatement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    …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Do Actual Work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mt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lose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();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onn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lose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();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atch (SQLException sqle) {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ystem.out.println("SQLException : " + sqle);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given const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ranking the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akes the tuples in each partition in the specified order, and divides them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ckets with equal numbers of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rti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ndow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155680" y="1114200"/>
            <a:ext cx="83059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mooth out random vari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ving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“Given sales values for each date, calculate for each date the average of the sales on that day, the previous day, and the next 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ndow 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(date,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e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row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eding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llo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ndow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22480" y="1114200"/>
            <a:ext cx="809928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other window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rows unbounded preceding and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unbounded prec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ceding and curren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ows with values between current row value –10 to curren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y prec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cluding curren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ndow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o windowing within par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Given a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, date_time,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where value is positive for a deposit and negative for a withdra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otal balance of each account after each transaction on the accou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, date_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e_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unbounded prec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, date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LAP**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Analysis and OLA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26720" y="1093680"/>
            <a:ext cx="83314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nline Analytical Processing (OL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analysis of data, allowing data to be summarized and viewed in different ways in an online fashion (with negligible de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hat can be modeled as dimension attributes and measure attributes are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dimensional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asure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so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ggregated 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the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mension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dimensions on which measure attributes (or aggregates thereof) are 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 sales relation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7" name="Picture 3" descr="5"/>
          <p:cNvPicPr/>
          <p:nvPr/>
        </p:nvPicPr>
        <p:blipFill>
          <a:blip r:embed="rId1"/>
          <a:srcRect l="0" t="0" r="0" b="43851"/>
          <a:stretch/>
        </p:blipFill>
        <p:spPr>
          <a:xfrm>
            <a:off x="3898800" y="884160"/>
            <a:ext cx="4046760" cy="53514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25412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21460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12900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44012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25800" y="52200"/>
            <a:ext cx="860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oss Tabulation of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by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item_nam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color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95400" y="3959280"/>
            <a:ext cx="829008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above is an example of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ss-tabulatio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ss-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lso referred to 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ivot-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one of the dimension attributes form the row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another dimension attribute form the column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imension attributes are listed on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in individual cells are (aggregates of) the values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 attributes that specif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2444760" y="685800"/>
            <a:ext cx="7095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Cub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943280" y="5059440"/>
            <a:ext cx="8181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413080" y="939960"/>
            <a:ext cx="78962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a cu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ultidimensional generalization of a cross-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mensions; we show 3 be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s can be used as views on a data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5"/>
          <p:cNvPicPr/>
          <p:nvPr/>
        </p:nvPicPr>
        <p:blipFill>
          <a:blip r:embed="rId1"/>
          <a:stretch/>
        </p:blipFill>
        <p:spPr>
          <a:xfrm>
            <a:off x="3852720" y="2503440"/>
            <a:ext cx="45388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erarchies on Dimen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rcRect l="1066" t="9091" r="3196" b="10229"/>
          <a:stretch/>
        </p:blipFill>
        <p:spPr>
          <a:xfrm>
            <a:off x="3124080" y="2565360"/>
            <a:ext cx="5969160" cy="3772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2158920" y="936720"/>
            <a:ext cx="7899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erarc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dimension attributes: lets dimensions to be viewed at different levels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dimension DateTime can be used to aggregate by hour of day, date, day of week, month, quarter o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3240" y="1114560"/>
            <a:ext cx="8129520" cy="53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to database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try {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stmt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xecuteUpdate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"insert into instructor values(’77987’, ’Kim’, ’Physics’, 98000)"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 catch (SQLException sqle)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System.out.println("Could not insert tuple. " + sqle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query and fetch and pri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ultSe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rset = stmt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xecuteQuery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"select dept_name, avg (salary)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 from instructor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 group by dept_name"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while (rset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ex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)) {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System.out.println(rset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etString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"dept_name") + " " +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              rset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etFloat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(2)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36720" y="161640"/>
            <a:ext cx="7632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oss Tabulation With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184480" y="1165320"/>
            <a:ext cx="78994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s can be easily extended to deal with hierar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rill down or roll up on a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5"/>
          <p:cNvPicPr/>
          <p:nvPr/>
        </p:nvPicPr>
        <p:blipFill>
          <a:blip r:embed="rId1"/>
          <a:stretch/>
        </p:blipFill>
        <p:spPr>
          <a:xfrm>
            <a:off x="2058840" y="2484360"/>
            <a:ext cx="77932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5548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Representation of Cross-tab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95400" y="1143000"/>
            <a:ext cx="4149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s can be represented as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he val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represent aggre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QL standard actually uses null values in plac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pite confusion with regular null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5"/>
          <p:cNvPicPr/>
          <p:nvPr/>
        </p:nvPicPr>
        <p:blipFill>
          <a:blip r:embed="rId1"/>
          <a:stretch/>
        </p:blipFill>
        <p:spPr>
          <a:xfrm>
            <a:off x="6257880" y="1017720"/>
            <a:ext cx="3861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Aggregation to Support OLA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81000" y="961560"/>
            <a:ext cx="83912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computes un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on every subset of the specifi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relation for this s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clothes_size, qua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onsider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putes the union of eight different groupings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  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or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          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                            ( 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 ) denotes an emp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grouping, the result contains the null valu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ttributes not present in the group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line Analytical Process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994040" y="936720"/>
            <a:ext cx="8216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representation of cross-tab that we saw earlier, but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ac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an be compu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cu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pplied on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1 if the value is a null value representing all, and returns 0 in all other c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cu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line Analytical Process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94040" y="936720"/>
            <a:ext cx="8216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the f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to repla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nulls by a value such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pl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first query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e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1, ‘all’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Aggreg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057400" y="987480"/>
            <a:ext cx="823896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 generates union on every prefix of specified list of attrib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union of four group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 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up can be used to generate aggregates at multiple levels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uppos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categ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ateg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gives the category of each item. Th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egory, 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, itemcateg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.item_name = itemcategory.item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egory, 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give a hierarchical summary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Aggreg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58760" y="1114560"/>
            <a:ext cx="833436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ollups and cubes can be used in a single group by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enerates set of group by lists, cross product of sets gives overall set of group by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the group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()} X {(color, size), (color), ()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 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line Analytical Process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95560" y="1114200"/>
            <a:ext cx="787392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ivoting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dimensions used in a cross-tab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lic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ing a cross-tab for fixed valu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rticularly when values for multiple dimensions are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ollu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ving from finer-granularity data to a coarser granu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rill dow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opposite operation -  that of moving from coarser-granularity data to finer-granular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LAP Implemen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95560" y="1114560"/>
            <a:ext cx="8013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liest OLAP systems used multidimensional arrays in memory to store data cubes, and are referred to a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dimensional OLAP (MOLA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P implementations using only relational database features are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lational OLAP (ROLA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systems, which store some summaries in memory and store the base data and other summaries in a relational database, are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ybrid OLAP (HOLA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LAP Implement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90720" y="1050480"/>
            <a:ext cx="860112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OLAP systems precompu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aggregates in order to provide onli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and time requirements for doing so can be very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bination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uffices to precompute some aggregates, and compute others on demand from one of the precomputed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ute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rom an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but a few “non-decomposable” aggregates such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heaper than computing it from scra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optimizations available for computing multiple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ute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rom an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ute aggregates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sing a single sor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bas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 Details      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22544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result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rset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tString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“dept_name”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rset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tString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quivalent if dept_name is the first argument of select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Nu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nt a = rset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tInt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“a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f (rset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asNull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)) Systems.out.println(“Got null valu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5.2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6" name="Picture 3" descr="5"/>
          <p:cNvPicPr/>
          <p:nvPr/>
        </p:nvPicPr>
        <p:blipFill>
          <a:blip r:embed="rId1"/>
          <a:stretch/>
        </p:blipFill>
        <p:spPr>
          <a:xfrm>
            <a:off x="4129200" y="1984320"/>
            <a:ext cx="35733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5.2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8" name="Picture 3" descr="5"/>
          <p:cNvPicPr/>
          <p:nvPr/>
        </p:nvPicPr>
        <p:blipFill>
          <a:blip r:embed="rId1"/>
          <a:stretch/>
        </p:blipFill>
        <p:spPr>
          <a:xfrm>
            <a:off x="4597560" y="2443320"/>
            <a:ext cx="25304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5.2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0" name="Picture 3" descr="5"/>
          <p:cNvPicPr/>
          <p:nvPr/>
        </p:nvPicPr>
        <p:blipFill>
          <a:blip r:embed="rId1"/>
          <a:stretch/>
        </p:blipFill>
        <p:spPr>
          <a:xfrm>
            <a:off x="4754520" y="1806480"/>
            <a:ext cx="26240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other Recursio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395440" y="1164960"/>
            <a:ext cx="7661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rel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, 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employee-manager pairs, where the employee reports to the manager directly or indirectly (that is manager’s manager, manager’s manager’s manager, etc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re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, 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e_nam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view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 statement (now in Chapter 24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construct allows batch processing of up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s_rece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, 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has batch of deposits to be added to the proper account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s_rece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atched 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update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.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n JL</cp:lastModifiedBy>
  <cp:lastPrinted>2005-01-10T21:51:57Z</cp:lastPrinted>
  <dcterms:modified xsi:type="dcterms:W3CDTF">2020-03-31T15:55:34Z</dcterms:modified>
  <cp:revision>470</cp:revision>
  <dc:subject/>
  <dc:title>Chapter 1:  Introduction</dc:title>
</cp:coreProperties>
</file>