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2193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77406C-2158-4265-B868-4106B90E4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EC3172-744F-40E7-9B41-F8251D024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73AC87-2A87-4976-8E6C-08D286ADC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518868-A04D-41BB-88FE-85CE55613A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3C5712-671E-40EE-851F-CB6F3DC36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4986B9-067D-493A-95E9-17C8A16DE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05B370-37E5-4507-A166-4E48D059D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AF85D9-4B3C-47CC-AD09-020DDF531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E20223-D5D8-4EC4-B1ED-0FE265295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1BEF2A-37E6-467F-A598-05DE5D041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2E0BFF-D514-40A3-897C-04ABF4B64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DE44E0-E036-40BD-BDE0-5C48AC5CF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5BACA4-75D6-4539-81B5-32553133C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99635D-EF87-42E4-8522-1F275600A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B7904C-0E62-4588-B50B-0AC230209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A5A844-5D49-408C-B562-C5CB6A174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873A0A-3904-4D24-98D1-303ACFF9B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DAC313-8C7E-482D-98B3-D7A03AED8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67ABE5-CEE8-43FB-A0E3-B2641FBC3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E948F6-E8C2-4C1E-975E-DEDF91E3B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7E5EB8-CBDA-4D98-9AFA-C16ABE132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A71218-484C-43E1-A453-2622E6F0A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F9342C-71E9-4A0F-B648-0315014BD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FAF1E1-2690-4C5B-B198-59DCF7689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0CBF58-58D1-404D-B9A9-B2CD49EBC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A285AD-7106-4E32-842B-F2033D478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E1B675-0ECF-4709-A380-79934B274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0ABA64-46AF-46E8-A99E-C4D9AA368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4F9539-25FA-40C1-B522-E8D7AFA33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ACEC65-98EA-4699-BB12-9FEB550AD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6EEADE-24FB-4E63-91DF-B45CF61FD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D8624E-AE60-4086-9B30-4005B96C2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D1BB60-444E-45ED-A7A0-DEFECB649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23D22B-D457-4E58-8261-BB0FF9D69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F3BE8F-8935-432F-9950-11B2D6346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5CD437E-7BD9-44AD-9116-323671383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7F9D89-4406-451E-81DA-1D244EDAA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89133F-61B1-4BD6-9D00-662766460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52AFCE-4CEB-4C13-BE5E-27A06E74D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BE2E68-E98D-44E3-9024-5C37DF86B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88C6-877A-468F-AEF8-FF26098CF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0FA7-F0FC-4B8D-85CD-590868EA8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453C-32AC-449F-B556-9D1A4FA65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3F87-7696-4615-91F2-8E69B5E7B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84B-2989-4471-9E26-E12678AAF2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B59-9679-44CC-9F01-BFC4E0FD36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9E4-1C42-413C-B8A2-9E92A046FD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DFF-D9A8-4839-84AA-80937C3D8E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DCE-DC2C-4A99-B52F-CC4D6FF748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6F2-2329-499E-82B4-FECB57C8F8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050-F4B8-4B30-85EB-930558F862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EB56-D74A-49CC-A53B-C63FE50C5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8ED-0764-420F-822B-9B22AB6FC6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EB3-69E8-49D9-9454-5056D3391D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492-2E11-41A4-9038-EE9D965784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25F-4799-47CD-AB4C-9F939D1F38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F0F-B0A9-47F9-9477-017C226396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66C3-2B45-4192-8C69-43E727913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174D-53FD-4AAA-8F52-17F478AE1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2BB7-CB10-481C-8D37-37BAF8C6A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9627-25FA-46DB-83B0-F8C83D5C6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F800-E571-42C3-8FE8-D8393D5D1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3CD1-0E6C-4387-8D02-9A15146B9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CC25-B673-477F-A624-7F9B2DFA8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737560" y="640080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C41A-7BFE-4AAA-9790-FBA7C7BF4B17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94161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57880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4.</a:t>
            </a:r>
            <a:fld id="{AA9FDCF8-79D4-4FB7-83D2-B915F14127FA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944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11888640" y="5445000"/>
            <a:ext cx="30348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4680" y="0"/>
            <a:ext cx="892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423756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85580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816000" y="5780160"/>
            <a:ext cx="459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8794440" y="62182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0D20-3F95-449E-A388-56748601480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4: Transaction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545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oncurrent Execu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244520"/>
            <a:ext cx="939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ultiple transactions are allowed to run concurrently in the system.  Advantag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increased processor and disk uti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leading to bett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.g. one transaction can be using the CPU while another is reading from or writing to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reduced average respons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or transactions: short transactions need not wait behind long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Anomalies in Concurrent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Lost Update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（丢失修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Dirty Read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（读脏数据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Unrepeatable Read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（不可重复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Phantom Problem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（幽灵问题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9120" y="588600"/>
            <a:ext cx="8077320" cy="10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nomalies in Concurrent Executions-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Lost Update(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丢失修改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86200" y="2440080"/>
          <a:ext cx="3224160" cy="2593800"/>
        </p:xfrm>
        <a:graphic>
          <a:graphicData uri="http://schemas.openxmlformats.org/drawingml/2006/table">
            <a:tbl>
              <a:tblPr/>
              <a:tblGrid>
                <a:gridCol w="1643040"/>
                <a:gridCol w="15811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ad A  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ad A 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 = A-1 (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=A-1 (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Write A (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A (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498600"/>
            <a:ext cx="80773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nomalies in Concurrent Executions-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irty Read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（读脏数据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159000" y="2363760"/>
          <a:ext cx="3224160" cy="3336840"/>
        </p:xfrm>
        <a:graphic>
          <a:graphicData uri="http://schemas.openxmlformats.org/drawingml/2006/table">
            <a:tbl>
              <a:tblPr/>
              <a:tblGrid>
                <a:gridCol w="1643040"/>
                <a:gridCol w="15811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ad A  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 = A-1 (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A (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Read A (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=A-1 (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oll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A (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3480" y="498600"/>
            <a:ext cx="80773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nomalies in Concurrent Executions-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Unrepeatable  Rea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97080" y="2509920"/>
          <a:ext cx="3224520" cy="2222280"/>
        </p:xfrm>
        <a:graphic>
          <a:graphicData uri="http://schemas.openxmlformats.org/drawingml/2006/table">
            <a:tbl>
              <a:tblPr/>
              <a:tblGrid>
                <a:gridCol w="1643040"/>
                <a:gridCol w="1581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ad A  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ad A 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=A-1 (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rite A (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Read A  (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17720" y="491760"/>
            <a:ext cx="8076960" cy="10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nomalies with Concurrent Executions-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Phantom Probl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47720" y="2319480"/>
          <a:ext cx="7886880" cy="2560320"/>
        </p:xfrm>
        <a:graphic>
          <a:graphicData uri="http://schemas.openxmlformats.org/drawingml/2006/table">
            <a:tbl>
              <a:tblPr/>
              <a:tblGrid>
                <a:gridCol w="3932280"/>
                <a:gridCol w="39546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lect * from student  where age=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records with age=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sert into student(id, gender, ag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s(‘008’,’M’, 18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(Add a new record with age=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lect * from student where age=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01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records with age=18 !!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42720" y="264960"/>
            <a:ext cx="6388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64720" y="1224000"/>
            <a:ext cx="89442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sequences of instructions that specify the chronological order in which instructions of concurrent transactions ar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edule for a set of transactions must consist of all instructions of thos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eserve the order in which the instructions appear in each individual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successfully completes its execution will hav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s as the last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 transaction assumed to execute commit instruction as its la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fails to successfully complete its execution will have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 as the last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6519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0640" y="1087200"/>
            <a:ext cx="9416880" cy="118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 $50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 10% of the balanc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in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ollow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2768760" y="2271600"/>
            <a:ext cx="3506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63183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928800" y="1214280"/>
            <a:ext cx="78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ollow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"/>
          <a:stretch/>
        </p:blipFill>
        <p:spPr>
          <a:xfrm>
            <a:off x="2513160" y="1839960"/>
            <a:ext cx="3827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6596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23480" y="1076400"/>
            <a:ext cx="75358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the transactions defined previousl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following schedule is not a serial schedule, but it is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quivale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hedul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401840" y="6114960"/>
            <a:ext cx="67244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chedules 1, 2 and 3, the sum A + B is p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"/>
          <p:cNvPicPr/>
          <p:nvPr/>
        </p:nvPicPr>
        <p:blipFill>
          <a:blip r:embed="rId1"/>
          <a:stretch/>
        </p:blipFill>
        <p:spPr>
          <a:xfrm>
            <a:off x="2684520" y="1947960"/>
            <a:ext cx="3273480" cy="40878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5"/>
          <p:cNvSpPr/>
          <p:nvPr/>
        </p:nvSpPr>
        <p:spPr>
          <a:xfrm>
            <a:off x="3755880" y="234144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"/>
          <p:cNvSpPr/>
          <p:nvPr/>
        </p:nvSpPr>
        <p:spPr>
          <a:xfrm>
            <a:off x="5530680" y="496404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7"/>
          <p:cNvSpPr/>
          <p:nvPr/>
        </p:nvSpPr>
        <p:spPr>
          <a:xfrm>
            <a:off x="3755880" y="260496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8"/>
          <p:cNvSpPr/>
          <p:nvPr/>
        </p:nvSpPr>
        <p:spPr>
          <a:xfrm>
            <a:off x="5530680" y="307008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"/>
          <p:cNvSpPr/>
          <p:nvPr/>
        </p:nvSpPr>
        <p:spPr>
          <a:xfrm>
            <a:off x="5538960" y="3340080"/>
            <a:ext cx="6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0"/>
          <p:cNvSpPr/>
          <p:nvPr/>
        </p:nvSpPr>
        <p:spPr>
          <a:xfrm>
            <a:off x="5533920" y="38052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1"/>
          <p:cNvSpPr/>
          <p:nvPr/>
        </p:nvSpPr>
        <p:spPr>
          <a:xfrm>
            <a:off x="5530680" y="547056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2"/>
          <p:cNvSpPr/>
          <p:nvPr/>
        </p:nvSpPr>
        <p:spPr>
          <a:xfrm>
            <a:off x="3743280" y="40435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3"/>
          <p:cNvSpPr/>
          <p:nvPr/>
        </p:nvSpPr>
        <p:spPr>
          <a:xfrm>
            <a:off x="3736800" y="45576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4"/>
          <p:cNvSpPr/>
          <p:nvPr/>
        </p:nvSpPr>
        <p:spPr>
          <a:xfrm>
            <a:off x="3736800" y="430524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5"/>
          <p:cNvSpPr/>
          <p:nvPr/>
        </p:nvSpPr>
        <p:spPr>
          <a:xfrm>
            <a:off x="3755880" y="290196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65264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22320" y="1044360"/>
            <a:ext cx="6724800" cy="118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concurrent schedule does not preserve the value o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"/>
          <p:cNvPicPr/>
          <p:nvPr/>
        </p:nvPicPr>
        <p:blipFill>
          <a:blip r:embed="rId1"/>
          <a:stretch/>
        </p:blipFill>
        <p:spPr>
          <a:xfrm>
            <a:off x="2338560" y="2228760"/>
            <a:ext cx="3419280" cy="427032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1"/>
          <p:cNvSpPr/>
          <p:nvPr/>
        </p:nvSpPr>
        <p:spPr>
          <a:xfrm>
            <a:off x="3495600" y="268272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5"/>
          <p:cNvSpPr/>
          <p:nvPr/>
        </p:nvSpPr>
        <p:spPr>
          <a:xfrm>
            <a:off x="3495600" y="293220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6"/>
          <p:cNvSpPr/>
          <p:nvPr/>
        </p:nvSpPr>
        <p:spPr>
          <a:xfrm>
            <a:off x="5245200" y="316692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"/>
          <p:cNvSpPr/>
          <p:nvPr/>
        </p:nvSpPr>
        <p:spPr>
          <a:xfrm>
            <a:off x="5245200" y="394020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"/>
          <p:cNvSpPr/>
          <p:nvPr/>
        </p:nvSpPr>
        <p:spPr>
          <a:xfrm>
            <a:off x="5259240" y="419400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9"/>
          <p:cNvSpPr/>
          <p:nvPr/>
        </p:nvSpPr>
        <p:spPr>
          <a:xfrm>
            <a:off x="3495600" y="442440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0"/>
          <p:cNvSpPr/>
          <p:nvPr/>
        </p:nvSpPr>
        <p:spPr>
          <a:xfrm>
            <a:off x="3495600" y="471492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"/>
          <p:cNvSpPr/>
          <p:nvPr/>
        </p:nvSpPr>
        <p:spPr>
          <a:xfrm>
            <a:off x="3483000" y="522288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5218200" y="59086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5"/>
          <p:cNvSpPr/>
          <p:nvPr/>
        </p:nvSpPr>
        <p:spPr>
          <a:xfrm>
            <a:off x="5259240" y="341316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箭头连接符 16"/>
          <p:cNvCxnSpPr/>
          <p:nvPr/>
        </p:nvCxnSpPr>
        <p:spPr>
          <a:xfrm flipH="1">
            <a:off x="4974840" y="4094280"/>
            <a:ext cx="270720" cy="864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75" name="直接箭头连接符 20"/>
          <p:cNvCxnSpPr/>
          <p:nvPr/>
        </p:nvCxnSpPr>
        <p:spPr>
          <a:xfrm flipH="1">
            <a:off x="3334680" y="4601880"/>
            <a:ext cx="270360" cy="684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053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4:  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6400" y="1301760"/>
            <a:ext cx="6564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Isolation 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Definition in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66517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rializability(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可串行化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4440" y="1106640"/>
            <a:ext cx="886140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Assum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ach transaction preserves database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serial execution of a set of transactions preserves database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(possibly concurrent) schedule is serializable if it is equivalent to a serial schedul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orms of schedule equivalence give rise to the notion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ility(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冲突可串行化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serializabilit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视图可串行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0376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ing Instruction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231920"/>
            <a:ext cx="71470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nd only if there exists some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ed by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at least one of these instructions wro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confli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They confli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3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 They confli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4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They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uitively, a conflict betwee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forces a (logical) temporal order between th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nsecutive in a schedule and they do not conflict, their results would remain the same even if they had been interchanged in the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8296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（冲突可串行化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31680" y="1245960"/>
            <a:ext cx="76230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chedul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ansformed into a schedul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´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series of swaps of non-conflicting instructions, we say that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equival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y that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t is conflict equivalent to a seria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98640" y="117360"/>
            <a:ext cx="10769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5720" y="1093680"/>
            <a:ext cx="73976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11360"/>
                <a:tab algn="l" pos="326232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3 can be transformed into Schedule 6, a serial schedule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lo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series of swaps of non-conflicting instructions.  Therefore Schedule 3 is conflict serializ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041920" y="55864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331320" y="55926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7" descr=""/>
          <p:cNvPicPr/>
          <p:nvPr/>
        </p:nvPicPr>
        <p:blipFill>
          <a:blip r:embed="rId1"/>
          <a:stretch/>
        </p:blipFill>
        <p:spPr>
          <a:xfrm>
            <a:off x="1065240" y="2444760"/>
            <a:ext cx="3849840" cy="3117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"/>
          <p:cNvPicPr/>
          <p:nvPr/>
        </p:nvPicPr>
        <p:blipFill>
          <a:blip r:embed="rId2"/>
          <a:stretch/>
        </p:blipFill>
        <p:spPr>
          <a:xfrm>
            <a:off x="5319720" y="2448000"/>
            <a:ext cx="42260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135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1000" y="1093320"/>
            <a:ext cx="69976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schedule that is not conflict serializable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unable to swap instructions in the above schedule to obtain either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, or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2038320" y="1941480"/>
            <a:ext cx="4714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05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ing for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90640" y="1252080"/>
            <a:ext cx="67960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ome schedule of a set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cedence graph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前驱图 ）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ed graph where the vertices are the transactions (n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raw an arc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wo transaction conflict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ed the data item on which the conflict arose ear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ay label the arc by the item that was ac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2435400" y="3906720"/>
            <a:ext cx="38764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1040" y="150480"/>
            <a:ext cx="8202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Conflict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9120" y="1141560"/>
            <a:ext cx="50785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edule is conflict serializable if and only if its precedence graph is acyc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-detection algorithms exist which take or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number of vertices in the grap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etter algorithms take or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umber of edg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ecedence graph is acyclic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rializability or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obtained by 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topological sor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gra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linear order consistent with the partial order of the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 serializability order for Schedule A would b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oth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5915160" y="1090440"/>
            <a:ext cx="295416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Example Schedule (Schedule A) + Precedence Graph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9520" y="1328760"/>
            <a:ext cx="6724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35040"/>
                <a:tab algn="l" pos="1486080"/>
                <a:tab algn="l" pos="1717560"/>
                <a:tab algn="l" pos="2684520"/>
                <a:tab algn="l" pos="2973240"/>
                <a:tab algn="l" pos="3767040"/>
                <a:tab algn="l" pos="3940200"/>
                <a:tab algn="l" pos="480528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X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Z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V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W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W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rite(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rite(Z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U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rite(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Z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rite(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35040"/>
                <a:tab algn="l" pos="1486080"/>
                <a:tab algn="l" pos="1717560"/>
                <a:tab algn="l" pos="2684520"/>
                <a:tab algn="l" pos="2973240"/>
                <a:tab algn="l" pos="3767040"/>
                <a:tab algn="l" pos="3940200"/>
                <a:tab algn="l" pos="480528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d(U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rite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3"/>
          <p:cNvGrpSpPr/>
          <p:nvPr/>
        </p:nvGrpSpPr>
        <p:grpSpPr>
          <a:xfrm>
            <a:off x="1149480" y="1365120"/>
            <a:ext cx="5443560" cy="4806720"/>
            <a:chOff x="1149480" y="1365120"/>
            <a:chExt cx="5443560" cy="4806720"/>
          </a:xfrm>
        </p:grpSpPr>
        <p:sp>
          <p:nvSpPr>
            <p:cNvPr id="200" name="Line 4"/>
            <p:cNvSpPr/>
            <p:nvPr/>
          </p:nvSpPr>
          <p:spPr>
            <a:xfrm>
              <a:off x="1184760" y="1677600"/>
              <a:ext cx="54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11"/>
            <p:cNvGrpSpPr/>
            <p:nvPr/>
          </p:nvGrpSpPr>
          <p:grpSpPr>
            <a:xfrm>
              <a:off x="1149480" y="1365120"/>
              <a:ext cx="5440320" cy="4806720"/>
              <a:chOff x="1149480" y="1365120"/>
              <a:chExt cx="5440320" cy="4806720"/>
            </a:xfrm>
          </p:grpSpPr>
          <p:sp>
            <p:nvSpPr>
              <p:cNvPr id="202" name="Line 5"/>
              <p:cNvSpPr/>
              <p:nvPr/>
            </p:nvSpPr>
            <p:spPr>
              <a:xfrm>
                <a:off x="1149480" y="1365120"/>
                <a:ext cx="0" cy="47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6"/>
              <p:cNvSpPr/>
              <p:nvPr/>
            </p:nvSpPr>
            <p:spPr>
              <a:xfrm>
                <a:off x="2286000" y="1365120"/>
                <a:ext cx="0" cy="47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7"/>
              <p:cNvSpPr/>
              <p:nvPr/>
            </p:nvSpPr>
            <p:spPr>
              <a:xfrm>
                <a:off x="3408480" y="1365120"/>
                <a:ext cx="0" cy="47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8"/>
              <p:cNvSpPr/>
              <p:nvPr/>
            </p:nvSpPr>
            <p:spPr>
              <a:xfrm>
                <a:off x="4473720" y="1365120"/>
                <a:ext cx="0" cy="477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9"/>
              <p:cNvSpPr/>
              <p:nvPr/>
            </p:nvSpPr>
            <p:spPr>
              <a:xfrm>
                <a:off x="5524560" y="1365120"/>
                <a:ext cx="0" cy="480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0"/>
              <p:cNvSpPr/>
              <p:nvPr/>
            </p:nvSpPr>
            <p:spPr>
              <a:xfrm>
                <a:off x="6589800" y="1365120"/>
                <a:ext cx="0" cy="47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Group 33"/>
          <p:cNvGrpSpPr/>
          <p:nvPr/>
        </p:nvGrpSpPr>
        <p:grpSpPr>
          <a:xfrm>
            <a:off x="6730920" y="1712160"/>
            <a:ext cx="2415960" cy="2269080"/>
            <a:chOff x="6730920" y="1712160"/>
            <a:chExt cx="2415960" cy="2269080"/>
          </a:xfrm>
        </p:grpSpPr>
        <p:sp>
          <p:nvSpPr>
            <p:cNvPr id="209" name="Text Box 15"/>
            <p:cNvSpPr/>
            <p:nvPr/>
          </p:nvSpPr>
          <p:spPr>
            <a:xfrm>
              <a:off x="6938640" y="3471120"/>
              <a:ext cx="48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7"/>
            <p:cNvSpPr/>
            <p:nvPr/>
          </p:nvSpPr>
          <p:spPr>
            <a:xfrm>
              <a:off x="8661240" y="3326400"/>
              <a:ext cx="48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730920" y="17121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0"/>
            <p:cNvSpPr/>
            <p:nvPr/>
          </p:nvSpPr>
          <p:spPr>
            <a:xfrm>
              <a:off x="8591400" y="1712160"/>
              <a:ext cx="487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32"/>
          <p:cNvSpPr/>
          <p:nvPr/>
        </p:nvSpPr>
        <p:spPr>
          <a:xfrm>
            <a:off x="7808760" y="3820320"/>
            <a:ext cx="4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直接箭头连接符 2"/>
          <p:cNvCxnSpPr/>
          <p:nvPr/>
        </p:nvCxnSpPr>
        <p:spPr>
          <a:xfrm>
            <a:off x="7132680" y="2195640"/>
            <a:ext cx="1620000" cy="130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直接箭头连接符 5"/>
          <p:cNvCxnSpPr/>
          <p:nvPr/>
        </p:nvCxnSpPr>
        <p:spPr>
          <a:xfrm>
            <a:off x="7218360" y="1966680"/>
            <a:ext cx="1534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直接箭头连接符 7"/>
          <p:cNvCxnSpPr>
            <a:endCxn id="210" idx="0"/>
          </p:cNvCxnSpPr>
          <p:nvPr/>
        </p:nvCxnSpPr>
        <p:spPr>
          <a:xfrm>
            <a:off x="8903880" y="2307960"/>
            <a:ext cx="1080" cy="104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直接箭头连接符 9"/>
          <p:cNvCxnSpPr/>
          <p:nvPr/>
        </p:nvCxnSpPr>
        <p:spPr>
          <a:xfrm>
            <a:off x="6973560" y="2307960"/>
            <a:ext cx="159480" cy="118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直接箭头连接符 11"/>
          <p:cNvCxnSpPr>
            <a:stCxn id="209" idx="3"/>
          </p:cNvCxnSpPr>
          <p:nvPr/>
        </p:nvCxnSpPr>
        <p:spPr>
          <a:xfrm>
            <a:off x="7424280" y="3725640"/>
            <a:ext cx="1328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3"/>
          <p:cNvSpPr/>
          <p:nvPr/>
        </p:nvSpPr>
        <p:spPr>
          <a:xfrm>
            <a:off x="6730920" y="4411800"/>
            <a:ext cx="25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1   T2   T3   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7869240" y="5769720"/>
            <a:ext cx="4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7"/>
          <p:cNvSpPr/>
          <p:nvPr/>
        </p:nvSpPr>
        <p:spPr>
          <a:xfrm>
            <a:off x="6729480" y="5045040"/>
            <a:ext cx="25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1   T3   T2   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直接箭头连接符 15"/>
          <p:cNvCxnSpPr/>
          <p:nvPr/>
        </p:nvCxnSpPr>
        <p:spPr>
          <a:xfrm flipH="1" flipV="1">
            <a:off x="6841800" y="5370120"/>
            <a:ext cx="900720" cy="47376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223" name="直接箭头连接符 40"/>
          <p:cNvCxnSpPr/>
          <p:nvPr/>
        </p:nvCxnSpPr>
        <p:spPr>
          <a:xfrm flipH="1" flipV="1">
            <a:off x="7424280" y="5369760"/>
            <a:ext cx="494640" cy="44676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224" name="直接箭头连接符 43"/>
          <p:cNvCxnSpPr/>
          <p:nvPr/>
        </p:nvCxnSpPr>
        <p:spPr>
          <a:xfrm flipV="1">
            <a:off x="8039160" y="5369760"/>
            <a:ext cx="38880" cy="40068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225" name="直接箭头连接符 50"/>
          <p:cNvCxnSpPr/>
          <p:nvPr/>
        </p:nvCxnSpPr>
        <p:spPr>
          <a:xfrm flipV="1">
            <a:off x="8191080" y="5370120"/>
            <a:ext cx="470520" cy="4406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226" name="直接箭头连接符 52"/>
          <p:cNvCxnSpPr/>
          <p:nvPr/>
        </p:nvCxnSpPr>
        <p:spPr>
          <a:xfrm flipV="1">
            <a:off x="8243640" y="5370120"/>
            <a:ext cx="975240" cy="51048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69680" y="222120"/>
            <a:ext cx="66517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fferent forms of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4440" y="1106640"/>
            <a:ext cx="489420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orms of schedule equivalence give rise to the notion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ility(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冲突可串行化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me order  of the conflict operation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serializabilit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视图可串行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me data content  of  the corresponding read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5781600" y="1849320"/>
            <a:ext cx="3052800" cy="3821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"/>
          <p:cNvPicPr/>
          <p:nvPr/>
        </p:nvPicPr>
        <p:blipFill>
          <a:blip r:embed="rId2"/>
          <a:stretch/>
        </p:blipFill>
        <p:spPr>
          <a:xfrm>
            <a:off x="9028080" y="1819440"/>
            <a:ext cx="2952720" cy="3686040"/>
          </a:xfrm>
          <a:prstGeom prst="rect">
            <a:avLst/>
          </a:prstGeom>
          <a:ln w="0">
            <a:noFill/>
          </a:ln>
        </p:spPr>
      </p:pic>
      <p:sp>
        <p:nvSpPr>
          <p:cNvPr id="231" name="矩形 1"/>
          <p:cNvSpPr/>
          <p:nvPr/>
        </p:nvSpPr>
        <p:spPr>
          <a:xfrm>
            <a:off x="5704200" y="154296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chedul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9031680" y="154296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chedul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直接箭头连接符 5"/>
          <p:cNvCxnSpPr/>
          <p:nvPr/>
        </p:nvCxnSpPr>
        <p:spPr>
          <a:xfrm flipH="1">
            <a:off x="8093880" y="3949560"/>
            <a:ext cx="491400" cy="5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4" name="直接箭头连接符 12"/>
          <p:cNvCxnSpPr/>
          <p:nvPr/>
        </p:nvCxnSpPr>
        <p:spPr>
          <a:xfrm flipH="1">
            <a:off x="6695280" y="2867040"/>
            <a:ext cx="4914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5" name="直接箭头连接符 13"/>
          <p:cNvCxnSpPr/>
          <p:nvPr/>
        </p:nvCxnSpPr>
        <p:spPr>
          <a:xfrm flipH="1">
            <a:off x="9983520" y="2796840"/>
            <a:ext cx="52128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" name="直接箭头连接符 14"/>
          <p:cNvCxnSpPr/>
          <p:nvPr/>
        </p:nvCxnSpPr>
        <p:spPr>
          <a:xfrm flipH="1">
            <a:off x="11348280" y="2963520"/>
            <a:ext cx="491400" cy="19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7" name="直接箭头连接符 15"/>
          <p:cNvCxnSpPr/>
          <p:nvPr/>
        </p:nvCxnSpPr>
        <p:spPr>
          <a:xfrm flipH="1">
            <a:off x="6695280" y="2405160"/>
            <a:ext cx="491400" cy="86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38" name="直接箭头连接符 16"/>
          <p:cNvCxnSpPr/>
          <p:nvPr/>
        </p:nvCxnSpPr>
        <p:spPr>
          <a:xfrm flipH="1">
            <a:off x="9983520" y="2334960"/>
            <a:ext cx="491040" cy="6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39" name="直接箭头连接符 17"/>
          <p:cNvCxnSpPr/>
          <p:nvPr/>
        </p:nvCxnSpPr>
        <p:spPr>
          <a:xfrm flipH="1">
            <a:off x="8098560" y="4017600"/>
            <a:ext cx="491400" cy="39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40" name="直接箭头连接符 18"/>
          <p:cNvCxnSpPr/>
          <p:nvPr/>
        </p:nvCxnSpPr>
        <p:spPr>
          <a:xfrm flipH="1">
            <a:off x="9973440" y="3816360"/>
            <a:ext cx="491400" cy="7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41" name="直接箭头连接符 20"/>
          <p:cNvCxnSpPr/>
          <p:nvPr/>
        </p:nvCxnSpPr>
        <p:spPr>
          <a:xfrm flipH="1">
            <a:off x="8093880" y="4829040"/>
            <a:ext cx="491400" cy="7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42" name="直接箭头连接符 21"/>
          <p:cNvCxnSpPr/>
          <p:nvPr/>
        </p:nvCxnSpPr>
        <p:spPr>
          <a:xfrm flipH="1">
            <a:off x="6695280" y="3085920"/>
            <a:ext cx="491400" cy="6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43" name="直接箭头连接符 22"/>
          <p:cNvCxnSpPr/>
          <p:nvPr/>
        </p:nvCxnSpPr>
        <p:spPr>
          <a:xfrm flipH="1">
            <a:off x="11348280" y="3036600"/>
            <a:ext cx="491400" cy="39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44" name="直接箭头连接符 23"/>
          <p:cNvCxnSpPr/>
          <p:nvPr/>
        </p:nvCxnSpPr>
        <p:spPr>
          <a:xfrm flipH="1">
            <a:off x="11348280" y="4721040"/>
            <a:ext cx="491400" cy="6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45" name="直接箭头连接符 24"/>
          <p:cNvCxnSpPr/>
          <p:nvPr/>
        </p:nvCxnSpPr>
        <p:spPr>
          <a:xfrm flipH="1">
            <a:off x="8093880" y="4600440"/>
            <a:ext cx="491400" cy="7200"/>
          </a:xfrm>
          <a:prstGeom prst="straightConnector1">
            <a:avLst/>
          </a:prstGeom>
          <a:ln w="1908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246" name="直接箭头连接符 25"/>
          <p:cNvCxnSpPr/>
          <p:nvPr/>
        </p:nvCxnSpPr>
        <p:spPr>
          <a:xfrm flipH="1">
            <a:off x="8082720" y="5306760"/>
            <a:ext cx="491400" cy="6840"/>
          </a:xfrm>
          <a:prstGeom prst="straightConnector1">
            <a:avLst/>
          </a:prstGeom>
          <a:ln w="1908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247" name="直接箭头连接符 26"/>
          <p:cNvCxnSpPr/>
          <p:nvPr/>
        </p:nvCxnSpPr>
        <p:spPr>
          <a:xfrm flipH="1">
            <a:off x="11348280" y="3652560"/>
            <a:ext cx="491400" cy="6840"/>
          </a:xfrm>
          <a:prstGeom prst="straightConnector1">
            <a:avLst/>
          </a:prstGeom>
          <a:ln w="1908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248" name="直接箭头连接符 27"/>
          <p:cNvCxnSpPr/>
          <p:nvPr/>
        </p:nvCxnSpPr>
        <p:spPr>
          <a:xfrm flipH="1">
            <a:off x="11348280" y="5172120"/>
            <a:ext cx="491400" cy="7200"/>
          </a:xfrm>
          <a:prstGeom prst="straightConnector1">
            <a:avLst/>
          </a:prstGeom>
          <a:ln w="19080">
            <a:solidFill>
              <a:srgbClr val="00b0f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6773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Serializability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（视图可串行化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3000" y="1328760"/>
            <a:ext cx="90504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two schedules with the same set of transaction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equival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ollowing three conditions are met, for each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 schedule S, transactio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ds the initial value of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read the initial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 schedule S transactio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Q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at value was produced by transactio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 any), the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read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was produced by the s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) operation o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 (if any) that perform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also perform the fina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4836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Concep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7640" y="1197000"/>
            <a:ext cx="922824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rogram execution that accesses and  possibly updates various data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ransaction to transfer $50 from account A to account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SQ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update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account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balance=balance-50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wher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account_number=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update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account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balance=balance+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account_number=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ain issues to deal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ail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various kinds, such as hardware failures and system cra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cur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ecution of multipl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4613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20520" y="1160280"/>
            <a:ext cx="864684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serializ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view equivalent to a serial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ry conflict serializable schedule is also view 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is a schedule which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-serializ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erial schedule is above equivalent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view serializable schedule that is not conflict serializable h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ind wr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New PDF from Images Output-1.pdf"/>
          <p:cNvPicPr/>
          <p:nvPr/>
        </p:nvPicPr>
        <p:blipFill>
          <a:blip r:embed="rId1"/>
          <a:stretch/>
        </p:blipFill>
        <p:spPr>
          <a:xfrm>
            <a:off x="2630520" y="2371680"/>
            <a:ext cx="442908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3282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verable 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6160" y="1653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overable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可恢复调度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s a data item previously written by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commit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ears before the commit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schedule (Schedule 11) is not recoverable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s immediately after the r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abor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uld have read (and possibly shown to the user) an inconsistent database state.  Hence, database must ensure that schedules are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65440" y="939240"/>
            <a:ext cx="67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ddress the effect of transaction failures on concurren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"/>
          <p:cNvPicPr/>
          <p:nvPr/>
        </p:nvPicPr>
        <p:blipFill>
          <a:blip r:embed="rId1"/>
          <a:stretch/>
        </p:blipFill>
        <p:spPr>
          <a:xfrm>
            <a:off x="4254480" y="3132000"/>
            <a:ext cx="3483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0772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cading Rollba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32040" y="1294920"/>
            <a:ext cx="716904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l" pos="2120760"/>
                <a:tab algn="l" pos="2684520"/>
                <a:tab algn="l" pos="3030480"/>
                <a:tab algn="l" pos="37670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cading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single transaction failure leads to a series of transaction rollbacks.  Consider the following schedule where none of the transactions has yet committed (so the schedule is recoverable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il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lso be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l" pos="2120760"/>
                <a:tab algn="l" pos="2684520"/>
                <a:tab algn="l" pos="3030480"/>
                <a:tab algn="l" pos="37670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the undoing of a significant amount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3673440" y="2422440"/>
            <a:ext cx="42163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683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cadeless 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76755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cadeless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s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无级联调度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rollbacks cannot occur; for each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ads a data item previously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commit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ears before the read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ascadeless schedule is also re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esirable to restrict the schedules to those that are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81406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Control &amp;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69840" y="1244160"/>
            <a:ext cx="96933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must provide a mechanism that will ensure that all possible schedul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flict or view serializ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ver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referabl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sting a schedule for serializability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it has executed is a little too l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o develo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currency control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will assure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-control protocols allow concurrent schedules, but ensure that the schedules are conflict/view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rializ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verable and cascadel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protocols generally do not examine the precedence graph as it is being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ead a protocol imposes a discipline that avoids nonseraliza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concurrency control protocols provide different tradeoffs between the amount of concurrency they allow and the amount of overhead that they in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sts for serializ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us understand why a concurrency control protocol is correc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780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76215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pplications are willing to live with weak levels of consistency, allowing schedules that are not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ad-only 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wants to get an approximate total balance of all accou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base statist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for query optimization can be approxi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ransactions need not be serializable with respect to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deoff accuracy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288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Isolation Lev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20400" y="1103400"/>
            <a:ext cx="76201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aliz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eatable r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committed records to be read, repeated reads of same record must return same value.  However, a transaction may not be serializable – it may find some records inserted by a transaction but not find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commit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committed records can be read, but successive reads of record may return different (but committed)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un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uncommitted records may be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1239840" y="3971880"/>
            <a:ext cx="75279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degrees of consistency useful for gathering approxim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the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: some database systems do not ensure serializable schedules by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racle and PostgreSQL by default support a level of consistency called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napshot iso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part of the SQL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Defini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163240" y="1101600"/>
            <a:ext cx="792828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, a transaction begins im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n SQL ends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mit work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s current transaction and begins a new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llback work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current transaction to ab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all database systems, by default, every SQL statement also commits implicitly if it executes success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commit can be turned off by a database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in JDBC -- connection.setAutoCommit(fa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on level can be set at databas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on level can be changed at start of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In SQL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t transaction isolation level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n JDBC --  connection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tTransactionIso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Connection.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RANSACTION_SERIALIZ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Example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18960" y="1117080"/>
            <a:ext cx="7740360" cy="9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Booking  only one tick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 multiple tick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19728F8F-EF56-4AE2-B2A5-8ED8DEE04B54" descr="19728F8F-EF56-4AE2-B2A5-8ED8DEE04B54"/>
          <p:cNvPicPr/>
          <p:nvPr/>
        </p:nvPicPr>
        <p:blipFill>
          <a:blip r:embed="rId1"/>
          <a:stretch/>
        </p:blipFill>
        <p:spPr>
          <a:xfrm>
            <a:off x="4908600" y="1986120"/>
            <a:ext cx="3098880" cy="4441680"/>
          </a:xfrm>
          <a:prstGeom prst="rect">
            <a:avLst/>
          </a:prstGeom>
          <a:ln w="0">
            <a:noFill/>
          </a:ln>
        </p:spPr>
      </p:pic>
      <p:pic>
        <p:nvPicPr>
          <p:cNvPr id="275" name="8FD01046-169A-470D-A7BB-E1931C130E19" descr="8FD01046-169A-470D-A7BB-E1931C130E19"/>
          <p:cNvPicPr/>
          <p:nvPr/>
        </p:nvPicPr>
        <p:blipFill>
          <a:blip r:embed="rId2"/>
          <a:stretch/>
        </p:blipFill>
        <p:spPr>
          <a:xfrm>
            <a:off x="8447040" y="1965240"/>
            <a:ext cx="3025800" cy="4442040"/>
          </a:xfrm>
          <a:prstGeom prst="rect">
            <a:avLst/>
          </a:prstGeom>
          <a:ln w="0">
            <a:noFill/>
          </a:ln>
        </p:spPr>
      </p:pic>
      <p:pic>
        <p:nvPicPr>
          <p:cNvPr id="276" name="63D6D7D5-DA09-4882-8BDC-E50FD9C8C0D1" descr="63D6D7D5-DA09-4882-8BDC-E50FD9C8C0D1"/>
          <p:cNvPicPr/>
          <p:nvPr/>
        </p:nvPicPr>
        <p:blipFill>
          <a:blip r:embed="rId3"/>
          <a:stretch/>
        </p:blipFill>
        <p:spPr>
          <a:xfrm>
            <a:off x="1587600" y="1990800"/>
            <a:ext cx="2881080" cy="44370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" descr="image001"/>
          <p:cNvPicPr/>
          <p:nvPr/>
        </p:nvPicPr>
        <p:blipFill>
          <a:blip r:embed="rId4"/>
          <a:stretch/>
        </p:blipFill>
        <p:spPr>
          <a:xfrm>
            <a:off x="8007480" y="87480"/>
            <a:ext cx="336384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18960" y="1123560"/>
            <a:ext cx="7740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ing  tickets &amp; paying order - combining  vs separating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0E943B6A-72E6-4729-9612-D03BD5AEEED5" descr="0E943B6A-72E6-4729-9612-D03BD5AEEED5"/>
          <p:cNvPicPr/>
          <p:nvPr/>
        </p:nvPicPr>
        <p:blipFill>
          <a:blip r:embed="rId1"/>
          <a:stretch/>
        </p:blipFill>
        <p:spPr>
          <a:xfrm>
            <a:off x="2320920" y="2009880"/>
            <a:ext cx="2843280" cy="4498920"/>
          </a:xfrm>
          <a:prstGeom prst="rect">
            <a:avLst/>
          </a:prstGeom>
          <a:ln w="0">
            <a:noFill/>
          </a:ln>
        </p:spPr>
      </p:pic>
      <p:pic>
        <p:nvPicPr>
          <p:cNvPr id="281" name="ADAB8518-A086-4337-9F25-B4F689BA41F9" descr="ADAB8518-A086-4337-9F25-B4F689BA41F9"/>
          <p:cNvPicPr/>
          <p:nvPr/>
        </p:nvPicPr>
        <p:blipFill>
          <a:blip r:embed="rId2"/>
          <a:stretch/>
        </p:blipFill>
        <p:spPr>
          <a:xfrm>
            <a:off x="6276960" y="2050920"/>
            <a:ext cx="2900520" cy="43308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" descr="image001"/>
          <p:cNvPicPr/>
          <p:nvPr/>
        </p:nvPicPr>
        <p:blipFill>
          <a:blip r:embed="rId3"/>
          <a:stretch/>
        </p:blipFill>
        <p:spPr>
          <a:xfrm>
            <a:off x="8007480" y="87480"/>
            <a:ext cx="336384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8915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ID Propert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7560" y="1157040"/>
            <a:ext cx="8969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it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原子性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 all operations of the transaction are properly reflected in the database or non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istenc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一致性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ecution of a transaction in isolation preserves the consistency of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solation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隔离性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though multiple transactions may execute concurrently, each transaction must be unaware of other concurrently executing transactions.  Intermediate transaction results must be hidden from other concurrently executed transac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for every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ppear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ed execution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execution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urabilit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持久性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 transaction completes successfully, the changes it has made to the database persist, even if there are system fail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cc3300"/>
                </a:solidFill>
                <a:latin typeface="Arial"/>
              </a:rPr>
              <a:t>Concurrency Control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218960" y="1125360"/>
            <a:ext cx="7740360" cy="53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ff0000"/>
                </a:solidFill>
                <a:latin typeface="Arial"/>
              </a:rPr>
              <a:t>Lock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Lock on whole database vs lock o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How long to hold lo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hared vs exclusiv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ff0000"/>
                </a:solidFill>
                <a:latin typeface="Arial"/>
              </a:rPr>
              <a:t>Timestamp-Based 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Transaction timestamp assigned e.g. when a transaction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Data items store two timest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Read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Write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Timestamps are used to detect out of order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ff0000"/>
                </a:solidFill>
                <a:latin typeface="Arial"/>
              </a:rPr>
              <a:t>Validation-Based 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ptimistic concurrency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Low rate of conflicts among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Each transaction must go through 3 ph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Read phase </a:t>
            </a:r>
            <a:r>
              <a:rPr b="0" lang="en-I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 Validation phase </a:t>
            </a:r>
            <a:r>
              <a:rPr b="0" lang="en-I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 Writ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1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Simple Transaction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408720" y="1020600"/>
            <a:ext cx="5132520" cy="4992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06480" y="1106640"/>
            <a:ext cx="49975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access data using two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(X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ransfers the data item X from the database to a variable, also called 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 a work area  in  main  memory  belonging to the trans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 executed the read 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(X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ransfers the value in the variable X  in the main memory work area of the transaction that executed the write operation to the datat item X in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419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Fund Transf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87040" y="1085400"/>
            <a:ext cx="7653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to transfer $50 from account A to account 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tomicit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transaction fails after step 3 and before step 6, money will be “lost” leading to an inconsistent databas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could be due to software or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ystem should ensure that updates of a partially executed transaction are not reflected in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urabilit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once the user has been notified that the transaction has completed (i.e., the transfer of the $50 has taken place), the updates to the database by the transaction must persist even if there are software or hardware fail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3"/>
          <p:cNvSpPr/>
          <p:nvPr/>
        </p:nvSpPr>
        <p:spPr>
          <a:xfrm>
            <a:off x="4433760" y="2049480"/>
            <a:ext cx="1258920" cy="49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6"/>
          <p:cNvSpPr/>
          <p:nvPr/>
        </p:nvSpPr>
        <p:spPr>
          <a:xfrm>
            <a:off x="6919920" y="2049480"/>
            <a:ext cx="1258920" cy="49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直接箭头连接符 5"/>
          <p:cNvCxnSpPr/>
          <p:nvPr/>
        </p:nvCxnSpPr>
        <p:spPr>
          <a:xfrm>
            <a:off x="5692320" y="2295000"/>
            <a:ext cx="12135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8" name="矩形 7"/>
          <p:cNvSpPr/>
          <p:nvPr/>
        </p:nvSpPr>
        <p:spPr>
          <a:xfrm>
            <a:off x="6064200" y="1879560"/>
            <a:ext cx="779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0"/>
          <p:cNvSpPr/>
          <p:nvPr/>
        </p:nvSpPr>
        <p:spPr>
          <a:xfrm>
            <a:off x="4754520" y="2685960"/>
            <a:ext cx="873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 -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1"/>
          <p:cNvSpPr/>
          <p:nvPr/>
        </p:nvSpPr>
        <p:spPr>
          <a:xfrm>
            <a:off x="7174080" y="2685960"/>
            <a:ext cx="14508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 +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46160" y="237960"/>
            <a:ext cx="6305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tat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6120" y="1106280"/>
            <a:ext cx="9077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transaction must be in one of the following st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state; the transaction stays in this state while it is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ially commit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final statement has been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il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discovery that normal execution can no longer pro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fter the transaction has been rolled back and the database restored to its state prior to the start of the transaction.  Two options after it has been abor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it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fter successful comple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1"/>
          <a:stretch/>
        </p:blipFill>
        <p:spPr>
          <a:xfrm>
            <a:off x="6078600" y="3643200"/>
            <a:ext cx="4125960" cy="283392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2"/>
          <p:cNvSpPr/>
          <p:nvPr/>
        </p:nvSpPr>
        <p:spPr>
          <a:xfrm>
            <a:off x="10374480" y="48610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ne or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接箭头连接符 4"/>
          <p:cNvCxnSpPr/>
          <p:nvPr/>
        </p:nvCxnSpPr>
        <p:spPr>
          <a:xfrm flipH="1">
            <a:off x="10243440" y="5213520"/>
            <a:ext cx="337320" cy="74016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16" name="直接箭头连接符 8"/>
          <p:cNvCxnSpPr/>
          <p:nvPr/>
        </p:nvCxnSpPr>
        <p:spPr>
          <a:xfrm flipH="1" flipV="1">
            <a:off x="10243800" y="4080960"/>
            <a:ext cx="1186560" cy="78048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947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Fund Transfer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2320" y="1112760"/>
            <a:ext cx="78120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to transfer $50 from account A to account 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sistenc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bove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um of A and B is unchanged by the execution of the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consistency requirements inclu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ly specified integrity constraint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keys , foreign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it integrity constraints, e.g.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 of balances of all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us sum of loan amounts must equal value of cash-in-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ansaction must see a consistent datab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transaction execution the database may be temporarily inconsis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transaction completes successfully the database must be consistent. Erroneous transaction logic can lead to in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"/>
          <p:cNvSpPr/>
          <p:nvPr/>
        </p:nvSpPr>
        <p:spPr>
          <a:xfrm>
            <a:off x="4433760" y="1862280"/>
            <a:ext cx="1258920" cy="49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6"/>
          <p:cNvSpPr/>
          <p:nvPr/>
        </p:nvSpPr>
        <p:spPr>
          <a:xfrm>
            <a:off x="6919920" y="1862280"/>
            <a:ext cx="1258920" cy="49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直接箭头连接符 5"/>
          <p:cNvCxnSpPr/>
          <p:nvPr/>
        </p:nvCxnSpPr>
        <p:spPr>
          <a:xfrm>
            <a:off x="5692320" y="2107800"/>
            <a:ext cx="12135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矩形 7"/>
          <p:cNvSpPr/>
          <p:nvPr/>
        </p:nvSpPr>
        <p:spPr>
          <a:xfrm>
            <a:off x="6064200" y="1692360"/>
            <a:ext cx="779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657680" y="2532240"/>
            <a:ext cx="1495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 -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7174080" y="2498760"/>
            <a:ext cx="14508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 +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3310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Fund Transfer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9240" y="1149120"/>
            <a:ext cx="785808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solation requir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f between steps 3 and 6, another transaction T2 is allowed to access the partially updated database, it will see an inconsistent database (the sum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+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be less than it should b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1                                     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-----------------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ad(A), read(B), print(A+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on can be ensured trivially by running transaction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all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串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one after the other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xecuting multiple transactions concurrently has significant benefits, as we will see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"/>
          <p:cNvSpPr/>
          <p:nvPr/>
        </p:nvSpPr>
        <p:spPr>
          <a:xfrm>
            <a:off x="1344600" y="2514600"/>
            <a:ext cx="49752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23Z</dcterms:created>
  <dc:creator>Silberschatz, Korth and Sudarshan</dc:creator>
  <dc:description/>
  <dc:language>en-US</dc:language>
  <cp:lastModifiedBy>JL Sun</cp:lastModifiedBy>
  <cp:lastPrinted>1999-06-28T19:27:31Z</cp:lastPrinted>
  <dcterms:modified xsi:type="dcterms:W3CDTF">2021-05-31T03:31:12Z</dcterms:modified>
  <cp:revision>690</cp:revision>
  <dc:subject/>
  <dc:title>Chapter 14: Transaction Processing</dc:title>
</cp:coreProperties>
</file>